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16842"/>
        <c:axId val="18599427"/>
      </c:barChart>
      <c:catAx>
        <c:axId val="47316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9427"/>
        <c:crosses val="autoZero"/>
        <c:auto val="1"/>
        <c:lblAlgn val="ctr"/>
        <c:lblOffset val="100"/>
        <c:noMultiLvlLbl val="0"/>
      </c:catAx>
      <c:valAx>
        <c:axId val="18599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16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D74-28C0-4566-AD2A-7A0F8790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260-D417-429F-97C7-2F57E2F0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165-FB90-4DE1-ACBD-470D27AD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F53-B856-4E78-A096-B0E39A92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321-D728-415C-9469-B7129874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55F-F418-40B0-A921-0D91F81D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A79-F7A3-40E7-A62A-922BD59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B90-0D09-4911-97DB-1D99657A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79C-1386-465D-8FD4-392BD56D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F9D-FFED-416C-AEF1-436C483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917-C781-412D-9BB5-898B28C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46E-0E43-4B86-9B4F-62083C4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3BAD7-96D1-4EC4-A93E-A57C48BF1B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