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57329"/>
        <c:axId val="24893475"/>
      </c:barChart>
      <c:catAx>
        <c:axId val="47057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93475"/>
        <c:crosses val="autoZero"/>
        <c:auto val="1"/>
        <c:lblAlgn val="ctr"/>
        <c:lblOffset val="100"/>
        <c:noMultiLvlLbl val="0"/>
      </c:catAx>
      <c:valAx>
        <c:axId val="24893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7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E7D-B923-4E46-9A45-25A6004D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661-DB16-4440-B2CB-1F12890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4EC-8BF3-48F1-8174-57E3CDA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493-13FF-496E-9A8B-3241F4C2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F1B-85FE-4E38-B675-4BC0D0D6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1F9-264D-4FC2-B512-D881A979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574-D02E-41EF-9DDD-86475F9D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E82-4753-43C7-8A8D-AA43A60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80D-EFE5-4F06-9197-C3734E2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A49-11AD-4A61-AE00-9DA9F2B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B90-1ED0-4D20-A0A4-7FA73AB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63E-024B-4DBD-BE4B-13BE505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132CA-CCEA-4D8B-A493-0342B6668A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