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29816"/>
        <c:axId val="51350767"/>
      </c:barChart>
      <c:catAx>
        <c:axId val="55829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50767"/>
        <c:crosses val="autoZero"/>
        <c:auto val="1"/>
        <c:lblAlgn val="ctr"/>
        <c:lblOffset val="100"/>
        <c:noMultiLvlLbl val="0"/>
      </c:catAx>
      <c:valAx>
        <c:axId val="51350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29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020-1E3C-4A05-BD16-C03786F0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19A-B763-43DA-91B1-B9D14C91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56C-405B-42B6-ACCA-4F6B4797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DBF-0405-4C6F-B510-53C99E32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090-3979-4B44-99DE-56306B89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47D-E5F1-4BE6-A924-A676ECDB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042-F85E-4F4C-B361-3936D23C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4DA-DB22-4FAB-9EA9-CB3C688B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5D9-00B0-4CE7-A089-BE05C6F4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9CC-D49D-4E3A-92B3-7109A592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23A-8BAC-4E46-AB97-A11AE136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CF3-37DD-4956-A864-B162EB4F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E206B-C9DC-4E0A-894D-D4AEB231F7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