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68275"/>
        <c:axId val="2710876"/>
      </c:barChart>
      <c:catAx>
        <c:axId val="94668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0876"/>
        <c:crosses val="autoZero"/>
        <c:auto val="1"/>
        <c:lblAlgn val="ctr"/>
        <c:lblOffset val="100"/>
        <c:noMultiLvlLbl val="0"/>
      </c:catAx>
      <c:valAx>
        <c:axId val="2710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68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32A-E7D8-45B1-9ABB-E27FB350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E18-C5C6-4D75-BFFB-1EC74D22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E07-D669-4598-825F-E7287D96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38B-6CC3-4E16-A6C9-E6E98211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B10-25DD-4F26-B2C7-81D0B6C2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19F-E32B-4D06-990E-18CEBAEB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43C-E52D-4E85-BDDF-56169DD6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FC3-3EBA-46F0-A0D2-D2112D89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483-5751-40F0-9CCE-CB19F794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552-FBAF-4665-A34C-3F4141DA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B3C-A195-4623-9918-07FD5E0C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D7D-8C0C-4806-94EA-649ED85D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7E58F-94EE-4F72-B0E1-6F81EB96AF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