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195218"/>
        <c:axId val="59674991"/>
      </c:barChart>
      <c:catAx>
        <c:axId val="831952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74991"/>
        <c:crosses val="autoZero"/>
        <c:auto val="1"/>
        <c:lblAlgn val="ctr"/>
        <c:lblOffset val="100"/>
        <c:noMultiLvlLbl val="0"/>
      </c:catAx>
      <c:valAx>
        <c:axId val="596749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952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FF2-FDD5-42C7-94A3-66143CA6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7C7E-298D-4169-AE23-F84494A6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6A4E-880D-43DA-8D99-DF633BE2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78E5-1616-4443-BAC0-7685822A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22D-CC0E-4E46-81C6-2B4C562C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CECA-E0FB-4625-8675-815B5F52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40F-0379-4974-865E-D5EFF279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EB0-623F-4C32-B991-00E0EE5F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CE68-A69A-4E9B-80D0-585DC0C8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6ACD-FE64-434B-894A-C08DCC73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2479-0348-43BA-9D61-087951D6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D79-87F0-4ED9-99F8-0A4ED4B2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F5CFC-47AD-4E22-99F5-459FA8E401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