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27722"/>
        <c:axId val="75079113"/>
      </c:barChart>
      <c:catAx>
        <c:axId val="6032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9113"/>
        <c:crosses val="autoZero"/>
        <c:auto val="1"/>
        <c:lblAlgn val="ctr"/>
        <c:lblOffset val="100"/>
        <c:noMultiLvlLbl val="0"/>
      </c:catAx>
      <c:valAx>
        <c:axId val="75079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D94-9D5C-46BD-9968-64370408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CCF-3C42-417E-8D24-A465FE50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395-EF26-4387-AB17-97B945C7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3F0-C712-49F0-80FD-77A428E9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CC5-5248-4CD1-A682-55C8D9D6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EAD-D079-48B0-AF7E-F58C26D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541-EA61-4994-A888-32213E80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0B5-CCBA-4ADC-8E47-641FAB20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6F8-88ED-41D7-8D37-84689282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473-72BD-470E-A756-7654A224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292-50E7-4F05-B570-4379446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2E2-A355-4074-A985-EA3D6B8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2C332-FBED-459D-B37C-7F4A520CD9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