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7962"/>
        <c:axId val="54762230"/>
      </c:barChart>
      <c:catAx>
        <c:axId val="6537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62230"/>
        <c:crosses val="autoZero"/>
        <c:auto val="1"/>
        <c:lblAlgn val="ctr"/>
        <c:lblOffset val="100"/>
        <c:noMultiLvlLbl val="0"/>
      </c:catAx>
      <c:valAx>
        <c:axId val="54762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7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0E1-9A63-43BC-B2AE-9A14094F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2C5-DBE9-4674-B84F-62406114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972-021F-4348-90E4-DDD3D993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048-E279-4F1F-8BE1-3CBF5E38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5A7-5A12-4191-BF9A-99C82FE3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3F2-F9A7-4C60-B76E-1D21CF7E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46D-1C75-42E7-9182-9A09D2AF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5B8-FD1C-4AA7-A839-B34E51D9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606-7AB5-41E0-BDF4-86E4E529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CA3-6E34-4A6C-85C3-69E4955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BF8-BDBF-429D-92E9-31FBB71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772-E760-48C4-806C-A5A498A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B45F-8B77-4A67-83A6-5472542263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