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73716"/>
        <c:axId val="33659342"/>
      </c:barChart>
      <c:catAx>
        <c:axId val="20573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9342"/>
        <c:crosses val="autoZero"/>
        <c:auto val="1"/>
        <c:lblAlgn val="ctr"/>
        <c:lblOffset val="100"/>
        <c:noMultiLvlLbl val="0"/>
      </c:catAx>
      <c:valAx>
        <c:axId val="33659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73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7D5-6EB3-459A-BBF5-63DDD4B0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067-1EF9-46FB-A3D8-92AA1AB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A50-30CA-4A36-AE62-9563369D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BE7-59E7-4D03-A4A5-0BFE78FA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01A-5772-4AA7-9E22-ABE3607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64D-3D34-43B6-B6A7-5982C04A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87F-99D0-49A9-87C8-035DB260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2DB-F675-4E0E-AF04-B2F77EC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771-AD1E-43F8-833F-CBBD2C77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C44-E284-4722-8819-AC29EE4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2C1-DBB7-4994-9FD6-9CB8B86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74A-B3E8-433A-96F0-96F2CC5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DEAE-D211-4A2D-A0B3-B4FCFB5A66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