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6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2.jpeg" ContentType="image/jpe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3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204EFAC-265D-435C-94F3-1DDA554F81A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move the sli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4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5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AFB5F2F3-EF4D-4CD7-B827-CA43E7A5C39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66CA625-656D-4644-93A1-9C9081016DB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BB21E22-04A2-4047-B8CA-601AAA8D6A8B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844D3-6D99-48C6-8DC9-DE9E000D912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F9321B-D4AE-4D04-823E-F877258BAB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94040-225C-4644-A100-083AABD497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158E3-F07C-426D-BFC6-5E5743AE147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8F3D0E-F5A9-4A49-8B38-F619CD739E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2269A4-6A66-455A-8F90-6BD5701E73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B0895-5F78-44B8-8AF0-7878B4EDA76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FB7891-CDC3-4232-978E-BB3C969608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5426E-508E-467F-A040-A0725B344B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C0EE3A-6F5F-4926-AEBE-1364E3CFF4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B49140-30E2-4D14-92C2-2E344E2043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2E2B1-2518-4DAB-AC00-4087CCA4D6E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46C70-EEA9-45AB-8209-05931E4AF7E5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jpeg"/><Relationship Id="rId8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4920" y="914400"/>
            <a:ext cx="8458200" cy="25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6600"/>
            </a:b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3441600"/>
            <a:ext cx="4267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2209680" y="50418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0418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3657600" y="5118120"/>
            <a:ext cx="1752480" cy="7621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8" name=""/>
          <p:cNvGraphicFramePr/>
          <p:nvPr/>
        </p:nvGraphicFramePr>
        <p:xfrm>
          <a:off x="5715000" y="5118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118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2362320" y="4203720"/>
            <a:ext cx="4267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drian Coly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OOPSLA, October 26-27 2004, Vancou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021A68-EB56-4DB4-8C28-2DC68D1650E2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T for Eclipse (up to 3.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1C0CD-45D1-43D1-B91E-09B850922638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aking do without AOP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’re already working with crosscutting stru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2EE’s XML descriptors, generative programm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 and refactoring tools can hel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t’s not explic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685800" y="4165560"/>
          <a:ext cx="5726160" cy="238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165560"/>
                    <a:ext cx="5726160" cy="23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4" name=""/>
          <p:cNvGraphicFramePr/>
          <p:nvPr/>
        </p:nvGraphicFramePr>
        <p:xfrm>
          <a:off x="5791320" y="3483000"/>
          <a:ext cx="3047760" cy="2917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91320" y="3483000"/>
                    <a:ext cx="304776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377CAD-60A7-4565-BB6F-347CD404B3C7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posing crosscutting structur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express crosscutting direc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irect semantics enable good too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ditor, views, documentation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: auxiliary aspects, views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9395C1-0F67-4B49-9726-5524FC37B510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OP reduces system complex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s are a new language mechanism, so there is a learning cur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good tool support AOP programs are easier to understand than their OO counterpar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990720" y="3898800"/>
          <a:ext cx="4038480" cy="250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898800"/>
                    <a:ext cx="4038480" cy="250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2" name=""/>
          <p:cNvGraphicFramePr/>
          <p:nvPr/>
        </p:nvGraphicFramePr>
        <p:xfrm>
          <a:off x="5638680" y="3314880"/>
          <a:ext cx="3068640" cy="3238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3314880"/>
                    <a:ext cx="3068640" cy="323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75BFD-C383-4917-86E5-6A944F9D5398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What’s next?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28240" y="1219320"/>
            <a:ext cx="853452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ava 5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refactorings will update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J refactor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pect-oriented refactorings will help with migration and ev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 view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where you se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structure you se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correspond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4267080" y="4140360"/>
            <a:ext cx="4648320" cy="226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A180A8-A642-409B-A212-A08FA21DAF0B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Other AOP tool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c: production, IDE integ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bc: research, optimiz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ML language compil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Werk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oss AO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int point models, pointcuts, and advice are the common to each of the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91DD8-ECF6-4A34-B829-104A10B00B2F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y Clement, Adrian Colyer, Er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lsdale,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tt Chapman, Andy Clement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Mik Kerste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AspectJ in Action"/>
          <p:cNvPicPr/>
          <p:nvPr/>
        </p:nvPicPr>
        <p:blipFill>
          <a:blip r:embed="rId1"/>
          <a:stretch/>
        </p:blipFill>
        <p:spPr>
          <a:xfrm>
            <a:off x="7937640" y="1143000"/>
            <a:ext cx="920520" cy="110484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095880" y="4819680"/>
            <a:ext cx="2743200" cy="165744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6924600" y="2286000"/>
            <a:ext cx="924120" cy="121932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4"/>
          <a:stretch/>
        </p:blipFill>
        <p:spPr>
          <a:xfrm>
            <a:off x="7942320" y="2286000"/>
            <a:ext cx="922320" cy="121932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5"/>
          <a:stretch/>
        </p:blipFill>
        <p:spPr>
          <a:xfrm>
            <a:off x="7975440" y="3581280"/>
            <a:ext cx="871560" cy="10670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6"/>
          <a:stretch/>
        </p:blipFill>
        <p:spPr>
          <a:xfrm>
            <a:off x="6934320" y="3581280"/>
            <a:ext cx="895320" cy="10670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7"/>
          <a:stretch/>
        </p:blipFill>
        <p:spPr>
          <a:xfrm>
            <a:off x="6019920" y="3581280"/>
            <a:ext cx="776160" cy="1086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5F4CC1-82E6-42B6-8ECA-A6EC1F456E67}" type="slidenum">
              <a:t>1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socket creation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ts nicely into one package (3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12A8C4-1375-4A6D-B698-24285B74AE7B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pretty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class load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ored lines show relevant lines of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ly in one package (9 class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875CEE-5223-4756-8390-FA039B8D8F62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ot so good modularity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5028840"/>
            <a:ext cx="86868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93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Arial"/>
              </a:rPr>
              <a:t>logging in Tomca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92E42-D7FE-4939-A0B8-6E0A43A7A1E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cost of tangled cod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1B292-B193-4EBF-8F69-F7EC7AAEA0E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aop idea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72305-D97A-461E-AC34-5CD251094D3E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The role of tool suppor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tools make code easy to navig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erence structure embedded In th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ation loo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uctured sear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inheritance structure can be hard to extract by reading code al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pecially in large systems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 who overrides this metho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1CE2C-DF0D-4D3E-8F70-5BAD6FE5A864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oin poin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3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Key points in program execution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thod &amp; constructor 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 get &amp;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ceptio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ndler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88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ic &amp;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ynamic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iz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6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emo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417920" y="3200400"/>
            <a:ext cx="7984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:Li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915160" y="3200400"/>
            <a:ext cx="94752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1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76560" y="381960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554280" y="35053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389640" y="3529080"/>
            <a:ext cx="0" cy="376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786800" y="3529080"/>
            <a:ext cx="0" cy="1598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792680" y="3529080"/>
            <a:ext cx="0" cy="282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92680" y="605808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89640" y="4940280"/>
            <a:ext cx="0" cy="1522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786800" y="5832360"/>
            <a:ext cx="0" cy="619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727520" y="3801960"/>
            <a:ext cx="127080" cy="2401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14800" y="358128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859280" y="3905280"/>
            <a:ext cx="1460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865400" y="4929120"/>
            <a:ext cx="1447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32400" y="3894120"/>
            <a:ext cx="12240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6427800" y="3909960"/>
            <a:ext cx="1171080" cy="466560"/>
            <a:chOff x="6427800" y="3909960"/>
            <a:chExt cx="1171080" cy="466560"/>
          </a:xfrm>
        </p:grpSpPr>
        <p:sp>
          <p:nvSpPr>
            <p:cNvPr id="138" name=""/>
            <p:cNvSpPr/>
            <p:nvPr/>
          </p:nvSpPr>
          <p:spPr>
            <a:xfrm>
              <a:off x="6427800" y="4039200"/>
              <a:ext cx="126720" cy="26280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458760" y="3943800"/>
              <a:ext cx="297360" cy="9324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440" bIns="46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6752160" y="39099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465240" y="4300200"/>
              <a:ext cx="284400" cy="7632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6427800" y="4421160"/>
            <a:ext cx="1171080" cy="471240"/>
            <a:chOff x="6427800" y="4421160"/>
            <a:chExt cx="1171080" cy="471240"/>
          </a:xfrm>
        </p:grpSpPr>
        <p:sp>
          <p:nvSpPr>
            <p:cNvPr id="143" name=""/>
            <p:cNvSpPr/>
            <p:nvPr/>
          </p:nvSpPr>
          <p:spPr>
            <a:xfrm>
              <a:off x="6427800" y="4552200"/>
              <a:ext cx="126720" cy="26496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458760" y="445608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752160" y="442116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65240" y="4815360"/>
              <a:ext cx="28440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6454800" y="4876920"/>
            <a:ext cx="142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veBy(int, int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854600" y="5127480"/>
            <a:ext cx="2860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4854240" y="6149880"/>
            <a:ext cx="28544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728120" y="5116680"/>
            <a:ext cx="122040" cy="10461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7823160" y="5132520"/>
            <a:ext cx="1169280" cy="464760"/>
            <a:chOff x="7823160" y="5132520"/>
            <a:chExt cx="1169280" cy="464760"/>
          </a:xfrm>
        </p:grpSpPr>
        <p:sp>
          <p:nvSpPr>
            <p:cNvPr id="152" name=""/>
            <p:cNvSpPr/>
            <p:nvPr/>
          </p:nvSpPr>
          <p:spPr>
            <a:xfrm>
              <a:off x="7823160" y="5261040"/>
              <a:ext cx="126720" cy="2617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54120" y="5166000"/>
              <a:ext cx="297360" cy="9288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080" bIns="46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8145720" y="51325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X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860600" y="5521320"/>
              <a:ext cx="284760" cy="7596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7823160" y="5643720"/>
            <a:ext cx="1169280" cy="470880"/>
            <a:chOff x="7823160" y="5643720"/>
            <a:chExt cx="1169280" cy="470880"/>
          </a:xfrm>
        </p:grpSpPr>
        <p:sp>
          <p:nvSpPr>
            <p:cNvPr id="157" name=""/>
            <p:cNvSpPr/>
            <p:nvPr/>
          </p:nvSpPr>
          <p:spPr>
            <a:xfrm>
              <a:off x="7823160" y="5774040"/>
              <a:ext cx="126720" cy="26532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854120" y="5677920"/>
              <a:ext cx="297360" cy="94320"/>
            </a:xfrm>
            <a:custGeom>
              <a:avLst/>
              <a:gdLst/>
              <a:ahLst/>
              <a:rect l="l" t="t" r="r" b="b"/>
              <a:pathLst>
                <a:path w="286" h="105">
                  <a:moveTo>
                    <a:pt x="0" y="0"/>
                  </a:moveTo>
                  <a:cubicBezTo>
                    <a:pt x="130" y="11"/>
                    <a:pt x="256" y="26"/>
                    <a:pt x="271" y="43"/>
                  </a:cubicBezTo>
                  <a:cubicBezTo>
                    <a:pt x="286" y="60"/>
                    <a:pt x="127" y="92"/>
                    <a:pt x="89" y="105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45720" y="5643720"/>
              <a:ext cx="846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tY(int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860600" y="6037560"/>
              <a:ext cx="284760" cy="77040"/>
            </a:xfrm>
            <a:custGeom>
              <a:avLst/>
              <a:gdLst/>
              <a:ahLst/>
              <a:rect l="l" t="t" r="r" b="b"/>
              <a:pathLst>
                <a:path w="274" h="77">
                  <a:moveTo>
                    <a:pt x="99" y="0"/>
                  </a:moveTo>
                  <a:cubicBezTo>
                    <a:pt x="125" y="6"/>
                    <a:pt x="274" y="25"/>
                    <a:pt x="258" y="38"/>
                  </a:cubicBezTo>
                  <a:cubicBezTo>
                    <a:pt x="242" y="51"/>
                    <a:pt x="54" y="69"/>
                    <a:pt x="0" y="77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prstDash val="dash"/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7307280" y="3200400"/>
            <a:ext cx="947880" cy="3286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end2:Poi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4805280" y="3859200"/>
            <a:ext cx="200160" cy="2328480"/>
            <a:chOff x="4805280" y="3859200"/>
            <a:chExt cx="200160" cy="2328480"/>
          </a:xfrm>
        </p:grpSpPr>
        <p:sp>
          <p:nvSpPr>
            <p:cNvPr id="163" name=""/>
            <p:cNvSpPr/>
            <p:nvPr/>
          </p:nvSpPr>
          <p:spPr>
            <a:xfrm>
              <a:off x="4805280" y="3859200"/>
              <a:ext cx="200160" cy="112752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27520"/>
                <a:gd name="textAreaBottom" fmla="*/ 1117800 h 1127520"/>
              </a:gdLst>
              <a:ahLst/>
              <a:rect l="textAreaLeft" t="textAreaTop" r="textAreaRight" b="textAreaBottom"/>
              <a:pathLst>
                <a:path w="21600" h="121495">
                  <a:moveTo>
                    <a:pt x="3600" y="0"/>
                  </a:moveTo>
                  <a:arcTo wR="3600" hR="3600" stAng="16200000" swAng="-5400000"/>
                  <a:lnTo>
                    <a:pt x="0" y="117895"/>
                  </a:lnTo>
                  <a:arcTo wR="3600" hR="3600" stAng="10800000" swAng="-5400000"/>
                  <a:lnTo>
                    <a:pt x="18000" y="12149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05280" y="5080680"/>
              <a:ext cx="200160" cy="1107000"/>
            </a:xfrm>
            <a:custGeom>
              <a:avLst/>
              <a:gdLst>
                <a:gd name="textAreaLeft" fmla="*/ 9720 w 200160"/>
                <a:gd name="textAreaRight" fmla="*/ 190440 w 200160"/>
                <a:gd name="textAreaTop" fmla="*/ 9720 h 1107000"/>
                <a:gd name="textAreaBottom" fmla="*/ 1097280 h 1107000"/>
              </a:gdLst>
              <a:ahLst/>
              <a:rect l="textAreaLeft" t="textAreaTop" r="textAreaRight" b="textAreaBottom"/>
              <a:pathLst>
                <a:path w="21600" h="119285">
                  <a:moveTo>
                    <a:pt x="3600" y="0"/>
                  </a:moveTo>
                  <a:arcTo wR="3600" hR="3600" stAng="16200000" swAng="-5400000"/>
                  <a:lnTo>
                    <a:pt x="0" y="115685"/>
                  </a:lnTo>
                  <a:arcTo wR="3600" hR="3600" stAng="10800000" swAng="-5400000"/>
                  <a:lnTo>
                    <a:pt x="18000" y="1192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6400800" y="3919680"/>
            <a:ext cx="101160" cy="997920"/>
            <a:chOff x="6400800" y="3919680"/>
            <a:chExt cx="101160" cy="997920"/>
          </a:xfrm>
        </p:grpSpPr>
        <p:sp>
          <p:nvSpPr>
            <p:cNvPr id="166" name=""/>
            <p:cNvSpPr/>
            <p:nvPr/>
          </p:nvSpPr>
          <p:spPr>
            <a:xfrm>
              <a:off x="6400800" y="391968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401520" y="4428000"/>
              <a:ext cx="100440" cy="48960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9600"/>
                <a:gd name="textAreaBottom" fmla="*/ 484920 h 489600"/>
              </a:gdLst>
              <a:ahLst/>
              <a:rect l="textAreaLeft" t="textAreaTop" r="textAreaRight" b="textAreaBottom"/>
              <a:pathLst>
                <a:path w="21600" h="104991">
                  <a:moveTo>
                    <a:pt x="3600" y="0"/>
                  </a:moveTo>
                  <a:arcTo wR="3600" hR="3600" stAng="16200000" swAng="-5400000"/>
                  <a:lnTo>
                    <a:pt x="0" y="101391"/>
                  </a:lnTo>
                  <a:arcTo wR="3600" hR="3600" stAng="10800000" swAng="-5400000"/>
                  <a:lnTo>
                    <a:pt x="18000" y="10499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7791480" y="5140440"/>
            <a:ext cx="101160" cy="996480"/>
            <a:chOff x="7791480" y="5140440"/>
            <a:chExt cx="101160" cy="996480"/>
          </a:xfrm>
        </p:grpSpPr>
        <p:sp>
          <p:nvSpPr>
            <p:cNvPr id="169" name=""/>
            <p:cNvSpPr/>
            <p:nvPr/>
          </p:nvSpPr>
          <p:spPr>
            <a:xfrm>
              <a:off x="7791480" y="51404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792200" y="5648040"/>
              <a:ext cx="100440" cy="488880"/>
            </a:xfrm>
            <a:custGeom>
              <a:avLst/>
              <a:gdLst>
                <a:gd name="textAreaLeft" fmla="*/ 4680 w 100440"/>
                <a:gd name="textAreaRight" fmla="*/ 95760 w 100440"/>
                <a:gd name="textAreaTop" fmla="*/ 4680 h 488880"/>
                <a:gd name="textAreaBottom" fmla="*/ 484200 h 488880"/>
              </a:gdLst>
              <a:ahLst/>
              <a:rect l="textAreaLeft" t="textAreaTop" r="textAreaRight" b="textAreaBottom"/>
              <a:pathLst>
                <a:path w="21600" h="104837">
                  <a:moveTo>
                    <a:pt x="3600" y="0"/>
                  </a:moveTo>
                  <a:arcTo wR="3600" hR="3600" stAng="16200000" swAng="-5400000"/>
                  <a:lnTo>
                    <a:pt x="0" y="101237"/>
                  </a:lnTo>
                  <a:arcTo wR="3600" hR="3600" stAng="10800000" swAng="-5400000"/>
                  <a:lnTo>
                    <a:pt x="18000" y="1048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1908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 flipH="1">
            <a:off x="3971520" y="6202440"/>
            <a:ext cx="7477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29200" y="2178000"/>
            <a:ext cx="1262160" cy="1787400"/>
          </a:xfrm>
          <a:custGeom>
            <a:avLst/>
            <a:gdLst/>
            <a:ahLst/>
            <a:rect l="l" t="t" r="r" b="b"/>
            <a:pathLst>
              <a:path w="3504" h="4967">
                <a:moveTo>
                  <a:pt x="15105" y="7336"/>
                </a:moveTo>
                <a:cubicBezTo>
                  <a:pt x="15164" y="7416"/>
                  <a:pt x="15200" y="7467"/>
                  <a:pt x="15229" y="7567"/>
                </a:cubicBezTo>
                <a:cubicBezTo>
                  <a:pt x="15360" y="8016"/>
                  <a:pt x="15314" y="8507"/>
                  <a:pt x="15235" y="8960"/>
                </a:cubicBezTo>
                <a:cubicBezTo>
                  <a:pt x="15165" y="9361"/>
                  <a:pt x="15048" y="9762"/>
                  <a:pt x="14916" y="10146"/>
                </a:cubicBezTo>
                <a:cubicBezTo>
                  <a:pt x="14781" y="10539"/>
                  <a:pt x="14479" y="10937"/>
                  <a:pt x="14386" y="11333"/>
                </a:cubicBezTo>
                <a:cubicBezTo>
                  <a:pt x="14363" y="11430"/>
                  <a:pt x="14409" y="11290"/>
                  <a:pt x="14411" y="11286"/>
                </a:cubicBezTo>
              </a:path>
              <a:path w="3504" h="4967">
                <a:moveTo>
                  <a:pt x="17651" y="6412"/>
                </a:moveTo>
                <a:cubicBezTo>
                  <a:pt x="17716" y="6450"/>
                  <a:pt x="17720" y="6424"/>
                  <a:pt x="17762" y="6527"/>
                </a:cubicBezTo>
                <a:cubicBezTo>
                  <a:pt x="17887" y="6833"/>
                  <a:pt x="17863" y="7251"/>
                  <a:pt x="17871" y="7573"/>
                </a:cubicBezTo>
                <a:cubicBezTo>
                  <a:pt x="17886" y="8151"/>
                  <a:pt x="17869" y="8729"/>
                  <a:pt x="17833" y="9306"/>
                </a:cubicBezTo>
                <a:cubicBezTo>
                  <a:pt x="17803" y="9789"/>
                  <a:pt x="17785" y="10281"/>
                  <a:pt x="17704" y="10759"/>
                </a:cubicBezTo>
                <a:cubicBezTo>
                  <a:pt x="17679" y="10909"/>
                  <a:pt x="17701" y="10847"/>
                  <a:pt x="17656" y="1078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2880" y="3903840"/>
            <a:ext cx="150840" cy="210960"/>
          </a:xfrm>
          <a:custGeom>
            <a:avLst/>
            <a:gdLst/>
            <a:ahLst/>
            <a:rect l="l" t="t" r="r" b="b"/>
            <a:pathLst>
              <a:path w="421" h="586">
                <a:moveTo>
                  <a:pt x="14200" y="11194"/>
                </a:moveTo>
                <a:cubicBezTo>
                  <a:pt x="14223" y="11247"/>
                  <a:pt x="14211" y="11280"/>
                  <a:pt x="14203" y="11341"/>
                </a:cubicBezTo>
                <a:cubicBezTo>
                  <a:pt x="14195" y="11396"/>
                  <a:pt x="14192" y="11451"/>
                  <a:pt x="14185" y="11506"/>
                </a:cubicBezTo>
                <a:cubicBezTo>
                  <a:pt x="14179" y="11556"/>
                  <a:pt x="14171" y="11605"/>
                  <a:pt x="14165" y="11655"/>
                </a:cubicBezTo>
                <a:cubicBezTo>
                  <a:pt x="14159" y="11698"/>
                  <a:pt x="14159" y="11727"/>
                  <a:pt x="14165" y="11769"/>
                </a:cubicBezTo>
                <a:cubicBezTo>
                  <a:pt x="14235" y="11765"/>
                  <a:pt x="14262" y="11717"/>
                  <a:pt x="14313" y="11660"/>
                </a:cubicBezTo>
                <a:cubicBezTo>
                  <a:pt x="14356" y="11612"/>
                  <a:pt x="14395" y="11572"/>
                  <a:pt x="14451" y="11539"/>
                </a:cubicBezTo>
                <a:cubicBezTo>
                  <a:pt x="14493" y="11514"/>
                  <a:pt x="14537" y="11490"/>
                  <a:pt x="14579" y="11465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116760" y="3651120"/>
            <a:ext cx="230040" cy="209520"/>
          </a:xfrm>
          <a:custGeom>
            <a:avLst/>
            <a:gdLst/>
            <a:ahLst/>
            <a:rect l="l" t="t" r="r" b="b"/>
            <a:pathLst>
              <a:path w="640" h="582">
                <a:moveTo>
                  <a:pt x="17393" y="10491"/>
                </a:moveTo>
                <a:cubicBezTo>
                  <a:pt x="17435" y="10543"/>
                  <a:pt x="17454" y="10593"/>
                  <a:pt x="17478" y="10656"/>
                </a:cubicBezTo>
                <a:cubicBezTo>
                  <a:pt x="17499" y="10711"/>
                  <a:pt x="17519" y="10767"/>
                  <a:pt x="17543" y="10821"/>
                </a:cubicBezTo>
                <a:cubicBezTo>
                  <a:pt x="17566" y="10872"/>
                  <a:pt x="17587" y="10925"/>
                  <a:pt x="17621" y="10970"/>
                </a:cubicBezTo>
                <a:cubicBezTo>
                  <a:pt x="17653" y="11013"/>
                  <a:pt x="17657" y="11020"/>
                  <a:pt x="17662" y="11072"/>
                </a:cubicBezTo>
                <a:cubicBezTo>
                  <a:pt x="17711" y="11030"/>
                  <a:pt x="17737" y="10979"/>
                  <a:pt x="17766" y="10919"/>
                </a:cubicBezTo>
                <a:cubicBezTo>
                  <a:pt x="17802" y="10844"/>
                  <a:pt x="17848" y="10777"/>
                  <a:pt x="17893" y="10707"/>
                </a:cubicBezTo>
                <a:cubicBezTo>
                  <a:pt x="17934" y="10645"/>
                  <a:pt x="17973" y="10598"/>
                  <a:pt x="18032" y="1055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C3A96-30E7-4AE1-ABFC-2CFBFEA9FB3B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2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011795-557E-4669-9450-2BFF318FD047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11-08T17:20:15Z</dcterms:modified>
  <cp:revision>545</cp:revision>
  <dc:subject/>
  <dc:title>Aspect-Oriented Programming with AspectJ</dc:title>
</cp:coreProperties>
</file>