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1.xml.rels" ContentType="application/vnd.openxmlformats-package.relationships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2.jpeg" ContentType="image/jpeg"/>
  <Override PartName="/ppt/media/image13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119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  <p:sldId id="333" r:id="rId84"/>
    <p:sldId id="334" r:id="rId85"/>
    <p:sldId id="335" r:id="rId86"/>
    <p:sldId id="336" r:id="rId87"/>
    <p:sldId id="337" r:id="rId88"/>
    <p:sldId id="338" r:id="rId89"/>
    <p:sldId id="339" r:id="rId90"/>
    <p:sldId id="340" r:id="rId91"/>
    <p:sldId id="341" r:id="rId92"/>
    <p:sldId id="342" r:id="rId93"/>
    <p:sldId id="343" r:id="rId94"/>
    <p:sldId id="344" r:id="rId95"/>
    <p:sldId id="345" r:id="rId96"/>
    <p:sldId id="346" r:id="rId97"/>
    <p:sldId id="347" r:id="rId98"/>
    <p:sldId id="348" r:id="rId99"/>
    <p:sldId id="349" r:id="rId100"/>
    <p:sldId id="350" r:id="rId101"/>
    <p:sldId id="351" r:id="rId102"/>
    <p:sldId id="352" r:id="rId103"/>
    <p:sldId id="353" r:id="rId104"/>
    <p:sldId id="354" r:id="rId105"/>
    <p:sldId id="355" r:id="rId106"/>
    <p:sldId id="356" r:id="rId107"/>
    <p:sldId id="357" r:id="rId108"/>
    <p:sldId id="358" r:id="rId109"/>
    <p:sldId id="359" r:id="rId110"/>
    <p:sldId id="360" r:id="rId111"/>
    <p:sldId id="361" r:id="rId112"/>
    <p:sldId id="362" r:id="rId113"/>
    <p:sldId id="363" r:id="rId114"/>
    <p:sldId id="364" r:id="rId115"/>
    <p:sldId id="365" r:id="rId116"/>
    <p:sldId id="366" r:id="rId117"/>
    <p:sldId id="367" r:id="rId118"/>
    <p:sldId id="368" r:id="rId119"/>
    <p:sldId id="369" r:id="rId120"/>
    <p:sldId id="370" r:id="rId121"/>
    <p:sldId id="371" r:id="rId122"/>
    <p:sldId id="372" r:id="rId123"/>
    <p:sldId id="373" r:id="rId124"/>
    <p:sldId id="374" r:id="rId125"/>
  </p:sldIdLst>
  <p:sldSz cx="9144000" cy="6858000"/>
  <p:notesSz cx="6948488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9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slide" Target="slides/slide78.xml"/><Relationship Id="rId85" Type="http://schemas.openxmlformats.org/officeDocument/2006/relationships/slide" Target="slides/slide79.xml"/><Relationship Id="rId86" Type="http://schemas.openxmlformats.org/officeDocument/2006/relationships/slide" Target="slides/slide80.xml"/><Relationship Id="rId87" Type="http://schemas.openxmlformats.org/officeDocument/2006/relationships/slide" Target="slides/slide81.xml"/><Relationship Id="rId88" Type="http://schemas.openxmlformats.org/officeDocument/2006/relationships/slide" Target="slides/slide82.xml"/><Relationship Id="rId89" Type="http://schemas.openxmlformats.org/officeDocument/2006/relationships/slide" Target="slides/slide83.xml"/><Relationship Id="rId90" Type="http://schemas.openxmlformats.org/officeDocument/2006/relationships/slide" Target="slides/slide84.xml"/><Relationship Id="rId91" Type="http://schemas.openxmlformats.org/officeDocument/2006/relationships/slide" Target="slides/slide85.xml"/><Relationship Id="rId92" Type="http://schemas.openxmlformats.org/officeDocument/2006/relationships/slide" Target="slides/slide86.xml"/><Relationship Id="rId93" Type="http://schemas.openxmlformats.org/officeDocument/2006/relationships/slide" Target="slides/slide87.xml"/><Relationship Id="rId94" Type="http://schemas.openxmlformats.org/officeDocument/2006/relationships/slide" Target="slides/slide88.xml"/><Relationship Id="rId95" Type="http://schemas.openxmlformats.org/officeDocument/2006/relationships/slide" Target="slides/slide89.xml"/><Relationship Id="rId96" Type="http://schemas.openxmlformats.org/officeDocument/2006/relationships/slide" Target="slides/slide90.xml"/><Relationship Id="rId97" Type="http://schemas.openxmlformats.org/officeDocument/2006/relationships/slide" Target="slides/slide91.xml"/><Relationship Id="rId98" Type="http://schemas.openxmlformats.org/officeDocument/2006/relationships/slide" Target="slides/slide92.xml"/><Relationship Id="rId99" Type="http://schemas.openxmlformats.org/officeDocument/2006/relationships/slide" Target="slides/slide93.xml"/><Relationship Id="rId100" Type="http://schemas.openxmlformats.org/officeDocument/2006/relationships/slide" Target="slides/slide94.xml"/><Relationship Id="rId101" Type="http://schemas.openxmlformats.org/officeDocument/2006/relationships/slide" Target="slides/slide95.xml"/><Relationship Id="rId102" Type="http://schemas.openxmlformats.org/officeDocument/2006/relationships/slide" Target="slides/slide96.xml"/><Relationship Id="rId103" Type="http://schemas.openxmlformats.org/officeDocument/2006/relationships/slide" Target="slides/slide97.xml"/><Relationship Id="rId104" Type="http://schemas.openxmlformats.org/officeDocument/2006/relationships/slide" Target="slides/slide98.xml"/><Relationship Id="rId105" Type="http://schemas.openxmlformats.org/officeDocument/2006/relationships/slide" Target="slides/slide99.xml"/><Relationship Id="rId106" Type="http://schemas.openxmlformats.org/officeDocument/2006/relationships/slide" Target="slides/slide100.xml"/><Relationship Id="rId107" Type="http://schemas.openxmlformats.org/officeDocument/2006/relationships/slide" Target="slides/slide101.xml"/><Relationship Id="rId108" Type="http://schemas.openxmlformats.org/officeDocument/2006/relationships/slide" Target="slides/slide102.xml"/><Relationship Id="rId109" Type="http://schemas.openxmlformats.org/officeDocument/2006/relationships/slide" Target="slides/slide103.xml"/><Relationship Id="rId110" Type="http://schemas.openxmlformats.org/officeDocument/2006/relationships/slide" Target="slides/slide104.xml"/><Relationship Id="rId111" Type="http://schemas.openxmlformats.org/officeDocument/2006/relationships/slide" Target="slides/slide105.xml"/><Relationship Id="rId112" Type="http://schemas.openxmlformats.org/officeDocument/2006/relationships/slide" Target="slides/slide106.xml"/><Relationship Id="rId113" Type="http://schemas.openxmlformats.org/officeDocument/2006/relationships/slide" Target="slides/slide107.xml"/><Relationship Id="rId114" Type="http://schemas.openxmlformats.org/officeDocument/2006/relationships/slide" Target="slides/slide108.xml"/><Relationship Id="rId115" Type="http://schemas.openxmlformats.org/officeDocument/2006/relationships/slide" Target="slides/slide109.xml"/><Relationship Id="rId116" Type="http://schemas.openxmlformats.org/officeDocument/2006/relationships/slide" Target="slides/slide110.xml"/><Relationship Id="rId117" Type="http://schemas.openxmlformats.org/officeDocument/2006/relationships/slide" Target="slides/slide111.xml"/><Relationship Id="rId118" Type="http://schemas.openxmlformats.org/officeDocument/2006/relationships/slide" Target="slides/slide112.xml"/><Relationship Id="rId119" Type="http://schemas.openxmlformats.org/officeDocument/2006/relationships/slide" Target="slides/slide113.xml"/><Relationship Id="rId120" Type="http://schemas.openxmlformats.org/officeDocument/2006/relationships/slide" Target="slides/slide114.xml"/><Relationship Id="rId121" Type="http://schemas.openxmlformats.org/officeDocument/2006/relationships/slide" Target="slides/slide115.xml"/><Relationship Id="rId122" Type="http://schemas.openxmlformats.org/officeDocument/2006/relationships/slide" Target="slides/slide116.xml"/><Relationship Id="rId123" Type="http://schemas.openxmlformats.org/officeDocument/2006/relationships/slide" Target="slides/slide117.xml"/><Relationship Id="rId124" Type="http://schemas.openxmlformats.org/officeDocument/2006/relationships/slide" Target="slides/slide118.xml"/><Relationship Id="rId125" Type="http://schemas.openxmlformats.org/officeDocument/2006/relationships/slide" Target="slides/slide119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948000" cy="923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6"/>
          </p:nvPr>
        </p:nvSpPr>
        <p:spPr>
          <a:xfrm>
            <a:off x="3935160" y="-360"/>
            <a:ext cx="3009960" cy="4618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64960" y="691920"/>
            <a:ext cx="4616280" cy="34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move the slide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95160" y="4386240"/>
            <a:ext cx="5556240" cy="41544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7"/>
          </p:nvPr>
        </p:nvSpPr>
        <p:spPr>
          <a:xfrm>
            <a:off x="-3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8"/>
          </p:nvPr>
        </p:nvSpPr>
        <p:spPr>
          <a:xfrm>
            <a:off x="3935160" y="8769240"/>
            <a:ext cx="3009960" cy="4622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DFA8D9D8-694B-4090-AC70-03381A3592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65320" y="692280"/>
            <a:ext cx="4616280" cy="346212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23760" y="4386240"/>
            <a:ext cx="5099040" cy="41544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632E27-1587-4F79-B4F4-C0F4A0418D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4646-BC75-4A94-B4C8-907123D38E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A96E07-0B57-45AD-9FF2-4AE675E9E1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D4213-5516-4F14-878C-D4C573681E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29674-2AA4-45BD-A59A-51E2BD17D2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3AFB7-4719-4FA6-A367-E69F54E2D4E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30981D-1862-4771-ACEE-05110B4DF5B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8FC42-B0A3-4A96-95CF-BF144384276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8A2655-8699-4F7C-89D6-F780E94BD3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C8E2A1-EC30-471A-8E39-6103DE5BBF7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0EA7A-C707-4C08-A4B5-F0E833E8DF4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861B6-EDFD-4A32-B401-884734A8B7F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E405A1-0C46-4703-AC39-A6596DA9FD1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44BF3B-788A-486E-85DC-8030589F03B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8AD8BD-D8F0-490E-8758-47CDB395E22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C138B-9CA6-4F70-88AE-46D537F7747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0EF5B-472F-4451-90C3-A41359475FE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C933E5-E629-49C6-9F6D-66638C6AD0BB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0A5B09-9825-4E36-BF94-98AEED5FC1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7C42C-F219-4C49-8E2E-EE8B84D301E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B84C20-DCAA-4163-B77B-3DF1DF634568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A0E32F2-A867-48F7-872A-D415EA8D7A3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A10C4-1BDA-404D-8BC9-5C666D5D2D44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7C652-BB21-4E9D-BC8B-093E40029D5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7A86B9-333B-486B-96CB-33B836C9EF5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9F48E6-FF99-4E57-BB8D-B679D4FCE22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92DD9E-AC08-4460-BE60-E6468FAC6AE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6DCA8C-BE07-4775-BE1F-50BDD7E13099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5A7144-8B21-4E17-AB4C-C88D3B56B781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EDF0E9-4C76-49FB-9DC1-00AFB12DADDD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0D21A9-5B12-4634-83B0-0609B9F81A2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34136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296520"/>
            <a:ext cx="264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87BB32-9A39-46FE-8DF5-8B44CFBF7C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15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FF6380-E6F9-4A48-BBEC-6B9620519E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EE5E4-12F1-4854-B07C-30A13A70225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29652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010C14-1265-4750-97D2-2847371A07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41360"/>
            <a:ext cx="40158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296520"/>
            <a:ext cx="8229600" cy="178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50348-E5B4-40C4-B86C-F664A2CDF8D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4080" y="871200"/>
            <a:ext cx="824544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2672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2f26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61680" y="1776240"/>
            <a:ext cx="77374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154080" y="6462360"/>
            <a:ext cx="100656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9D894-359A-4514-8814-4B3087BD954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447920" y="6437160"/>
            <a:ext cx="0" cy="192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447920" y="6475320"/>
            <a:ext cx="7696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sentation Title  |  Presentation Subtitle  |  © 2006 by «Author»; made available under the EPL v1.0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286680"/>
            <a:ext cx="9144000" cy="57132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0240" y="1706400"/>
            <a:ext cx="795492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2"/>
          </p:nvPr>
        </p:nvSpPr>
        <p:spPr>
          <a:xfrm>
            <a:off x="6883560" y="240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22DA2-4DA6-4503-AA21-6C9D2567B4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840" y="6456240"/>
            <a:ext cx="90997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© 2006 by «Author»; made available under the EPL v1.0 |  Date  |  Other Information, if necessary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190440" y="63360"/>
            <a:ext cx="6147000" cy="703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2" marL="102852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3" marL="144000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4" marL="1851480" indent="-20556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3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4"/>
          </p:nvPr>
        </p:nvSpPr>
        <p:spPr>
          <a:xfrm>
            <a:off x="8675280" y="6453360"/>
            <a:ext cx="909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4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35B5-7860-4E6A-B919-4E808959E558}" type="slidenum">
              <a:rPr b="1" lang="de-DE" sz="1400" spc="-1" strike="noStrike">
                <a:solidFill>
                  <a:srgbClr val="646464"/>
                </a:solidFill>
                <a:latin typeface="Trebuchet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Click to edit the title text format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58560" y="6381720"/>
            <a:ext cx="6784920" cy="3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646464"/>
                </a:solidFill>
                <a:latin typeface="Trebuchet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646464"/>
                </a:solidFill>
                <a:latin typeface="Trebuchet MS"/>
              </a:rPr>
              <a:t>©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1" lang="de-DE" sz="1200" spc="-1" strike="noStrike">
                <a:solidFill>
                  <a:srgbClr val="646464"/>
                </a:solidFill>
                <a:latin typeface="Trebuchet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cond Outline Level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hird Outline Level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our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f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x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venth Outline Leve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<Relationship Id="rId3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jpeg"/><Relationship Id="rId7" Type="http://schemas.openxmlformats.org/officeDocument/2006/relationships/image" Target="../media/image13.pn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25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hyperlink" Target="http://eclipse.org/ajdt" TargetMode="External"/><Relationship Id="rId5" Type="http://schemas.openxmlformats.org/officeDocument/2006/relationships/slideLayout" Target="../slideLayouts/slideLayout27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jdt/downloads/" TargetMode="External"/><Relationship Id="rId3" Type="http://schemas.openxmlformats.org/officeDocument/2006/relationships/slideLayout" Target="../slideLayouts/slideLayout27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8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9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9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7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eclipse.org/aspectj" TargetMode="External"/><Relationship Id="rId3" Type="http://schemas.openxmlformats.org/officeDocument/2006/relationships/hyperlink" Target="http://eclipse.org/aspectj" TargetMode="External"/><Relationship Id="rId4" Type="http://schemas.openxmlformats.org/officeDocument/2006/relationships/slideLayout" Target="../slideLayouts/slideLayout27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9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95360" y="11044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700" spc="-1" strike="noStrike">
                <a:solidFill>
                  <a:srgbClr val="006699"/>
                </a:solidFill>
                <a:latin typeface="Trebuchet MS"/>
              </a:rPr>
              <a:t>Aspect-Oriented Programming with AspectJ</a:t>
            </a:r>
            <a:r>
              <a:rPr b="0" lang="en-GB" sz="5100" spc="-1" strike="noStrike">
                <a:solidFill>
                  <a:srgbClr val="006699"/>
                </a:solidFill>
                <a:latin typeface="Trebuchet MS"/>
              </a:rPr>
              <a:t> 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875880" y="2550960"/>
            <a:ext cx="7404120" cy="350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dy Clemen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46464"/>
                </a:solidFill>
                <a:latin typeface="Trebuchet MS"/>
              </a:rPr>
              <a:t>AspectJ Committer, IBM U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2" name=""/>
          <p:cNvSpPr/>
          <p:nvPr/>
        </p:nvSpPr>
        <p:spPr>
          <a:xfrm>
            <a:off x="8019360" y="170028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®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small and well-integrated extension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outputs .class files compatible with any JVM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Java programs are AspectJ program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 </a:t>
            </a: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general-purpos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AO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just as Java is a general-purpose OO language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3" name=""/>
          <p:cNvSpPr/>
          <p:nvPr/>
        </p:nvSpPr>
        <p:spPr>
          <a:xfrm>
            <a:off x="250920" y="1160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086680" y="2313000"/>
            <a:ext cx="441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13b5b1"/>
                </a:solidFill>
                <a:latin typeface="Trebuchet MS"/>
              </a:rPr>
              <a:t>T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F2D3D-9536-404C-90B3-E2BF35C3DD1B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eneficial to separate o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exactly the same questions as for objec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29040" indent="-32904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does it improve the code in real ways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separation of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larifies interactions, reduces tangl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all the traceEntry are really the s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asier to modify / exte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change the implementation of trac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13160" indent="-27432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lug and pla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97280" indent="-21924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ing aspects unplugged but not delete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C0D2D2-DC42-4C95-9101-191353F6D1F1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3280" y="368280"/>
            <a:ext cx="822960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ected benefits of using AO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495360" y="152100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good modularity, even in the presence of crosscutting concer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ess tangled code, more natural code, smaller cod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asier maintenance and evolu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ier to reason about, debug, change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	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ore reusab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ore possibilities for plug and pla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bstract aspec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B8DDBD-3D44-4E71-8305-A4B26D22FFFE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"/>
          <p:cNvSpPr/>
          <p:nvPr/>
        </p:nvSpPr>
        <p:spPr>
          <a:xfrm>
            <a:off x="250920" y="1089000"/>
            <a:ext cx="86770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dopting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82" name=""/>
          <p:cNvSpPr/>
          <p:nvPr/>
        </p:nvSpPr>
        <p:spPr>
          <a:xfrm>
            <a:off x="740880" y="1359000"/>
            <a:ext cx="87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w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6726240" y="6024600"/>
            <a:ext cx="2084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ime &amp; confide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723960" y="1401480"/>
            <a:ext cx="1440" cy="4629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739800" y="5040360"/>
            <a:ext cx="965160" cy="100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670120" y="4089240"/>
            <a:ext cx="965160" cy="1951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704960" y="4556160"/>
            <a:ext cx="965160" cy="1484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37080" y="3598920"/>
            <a:ext cx="965160" cy="2441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4602240" y="3116160"/>
            <a:ext cx="966600" cy="292428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568840" y="2635200"/>
            <a:ext cx="962280" cy="3405240"/>
          </a:xfrm>
          <a:prstGeom prst="rect">
            <a:avLst/>
          </a:prstGeom>
          <a:solidFill>
            <a:srgbClr val="00a8a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6529320" y="1677960"/>
            <a:ext cx="1928880" cy="43624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2732040" y="5300640"/>
            <a:ext cx="1816200" cy="72720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uxiliary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infrastructur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948200" y="5300640"/>
            <a:ext cx="1212840" cy="727200"/>
          </a:xfrm>
          <a:prstGeom prst="rect">
            <a:avLst/>
          </a:prstGeom>
          <a:solidFill>
            <a:srgbClr val="00a8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core /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busines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7042320" y="5133960"/>
            <a:ext cx="896760" cy="72540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Analysis,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Design,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AO Strategy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741240" y="1650960"/>
            <a:ext cx="7716960" cy="3863880"/>
          </a:xfrm>
          <a:custGeom>
            <a:avLst/>
            <a:gdLst/>
            <a:ahLst/>
            <a:rect l="l" t="t" r="r" b="b"/>
            <a:pathLst>
              <a:path w="5109" h="2669">
                <a:moveTo>
                  <a:pt x="0" y="2669"/>
                </a:moveTo>
                <a:lnTo>
                  <a:pt x="1" y="0"/>
                </a:lnTo>
                <a:lnTo>
                  <a:pt x="5109" y="7"/>
                </a:lnTo>
                <a:lnTo>
                  <a:pt x="0" y="266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739800" y="1509480"/>
            <a:ext cx="8050320" cy="4019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>
            <a:off x="731880" y="6032520"/>
            <a:ext cx="8128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1341360" y="5340240"/>
            <a:ext cx="965160" cy="6526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863640" y="5486400"/>
            <a:ext cx="1674720" cy="3636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xploration</a:t>
            </a:r>
            <a:br>
              <a:rPr sz="2200"/>
            </a:br>
            <a:r>
              <a:rPr b="1" lang="en-GB" sz="2200" spc="-1" strike="noStrike">
                <a:solidFill>
                  <a:srgbClr val="ffffff"/>
                </a:solidFill>
                <a:latin typeface="Arial"/>
              </a:rPr>
              <a:t>enforcement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AED996-A24A-4894-9099-BD051A561EC7}" type="slidenum">
              <a:t>10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6699"/>
                </a:solidFill>
                <a:latin typeface="Trebuchet MS"/>
              </a:rPr>
              <a:t>Exploration &amp; Enforcement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o monitor, analyze, debug system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use individually or share with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s that ensure design integ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an run privately, as part of nightly build, or shared w/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haring with team can be supported b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integration in IDE or including in ant scrip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No runtime dependency on 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production code has not been touched by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02" name=""/>
          <p:cNvSpPr/>
          <p:nvPr/>
        </p:nvSpPr>
        <p:spPr>
          <a:xfrm>
            <a:off x="7253280" y="113364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7253280" y="907920"/>
            <a:ext cx="209520" cy="2257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7670880" y="692280"/>
            <a:ext cx="209520" cy="441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7462800" y="798480"/>
            <a:ext cx="208080" cy="335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7880400" y="581040"/>
            <a:ext cx="209520" cy="552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808992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829944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8507520" y="147600"/>
            <a:ext cx="41724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 flipV="1">
            <a:off x="725328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236000" y="115920"/>
            <a:ext cx="173808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EFD5C0-5D1F-4135-B8E7-D3347D26EAEB}" type="slidenum">
              <a:t>10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on’t use System.err.println !!!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3" name=""/>
          <p:cNvSpPr/>
          <p:nvPr/>
        </p:nvSpPr>
        <p:spPr>
          <a:xfrm>
            <a:off x="934920" y="2421000"/>
            <a:ext cx="7382160" cy="325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ublic aspec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EnforceLogging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m.example..*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!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soleDebugger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out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ge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ystem.err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||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*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Throwable+.printStackTrace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arning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: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scope()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&amp;&amp;</a:t>
            </a: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printing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99cc00"/>
                </a:solidFill>
                <a:latin typeface="Lucida Console"/>
              </a:rPr>
              <a:t>        </a:t>
            </a:r>
            <a:r>
              <a:rPr b="0" lang="en-US" sz="1600" spc="-1" strike="noStrike">
                <a:solidFill>
                  <a:srgbClr val="008000"/>
                </a:solidFill>
                <a:latin typeface="Lucida Console"/>
              </a:rPr>
              <a:t>"don't print, use the logger"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6840" y="1398600"/>
            <a:ext cx="808668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Warn developers using System.out, System.err and printStackTra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4C86AA-8870-4C52-8D8A-F227D73503E0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rchitectural Layer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16" name=""/>
          <p:cNvSpPr/>
          <p:nvPr/>
        </p:nvSpPr>
        <p:spPr>
          <a:xfrm>
            <a:off x="3772080" y="351828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3619440" y="1460880"/>
            <a:ext cx="171468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sist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772080" y="2527920"/>
            <a:ext cx="144756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d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3809880" y="4585320"/>
            <a:ext cx="1371600" cy="3988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trol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820" name=""/>
          <p:cNvCxnSpPr>
            <a:stCxn id="816" idx="0"/>
            <a:endCxn id="818" idx="2"/>
          </p:cNvCxnSpPr>
          <p:nvPr/>
        </p:nvCxnSpPr>
        <p:spPr>
          <a:xfrm flipV="1">
            <a:off x="4495320" y="2932200"/>
            <a:ext cx="1080" cy="581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1" name=""/>
          <p:cNvCxnSpPr>
            <a:stCxn id="819" idx="0"/>
            <a:endCxn id="816" idx="2"/>
          </p:cNvCxnSpPr>
          <p:nvPr/>
        </p:nvCxnSpPr>
        <p:spPr>
          <a:xfrm flipV="1">
            <a:off x="4495320" y="3922200"/>
            <a:ext cx="108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822" name=""/>
          <p:cNvCxnSpPr>
            <a:stCxn id="818" idx="0"/>
            <a:endCxn id="817" idx="2"/>
          </p:cNvCxnSpPr>
          <p:nvPr/>
        </p:nvCxnSpPr>
        <p:spPr>
          <a:xfrm flipH="1" flipV="1">
            <a:off x="4475880" y="1864800"/>
            <a:ext cx="19800" cy="6580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grpSp>
        <p:nvGrpSpPr>
          <p:cNvPr id="823" name=""/>
          <p:cNvGrpSpPr/>
          <p:nvPr/>
        </p:nvGrpSpPr>
        <p:grpSpPr>
          <a:xfrm>
            <a:off x="647640" y="4309920"/>
            <a:ext cx="8762760" cy="990720"/>
            <a:chOff x="647640" y="4309920"/>
            <a:chExt cx="8762760" cy="990720"/>
          </a:xfrm>
        </p:grpSpPr>
        <p:sp>
          <p:nvSpPr>
            <p:cNvPr id="824" name=""/>
            <p:cNvSpPr/>
            <p:nvPr/>
          </p:nvSpPr>
          <p:spPr>
            <a:xfrm>
              <a:off x="647640" y="4309920"/>
              <a:ext cx="7647480" cy="99072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844600" y="4606920"/>
              <a:ext cx="356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6" name=""/>
          <p:cNvSpPr/>
          <p:nvPr/>
        </p:nvSpPr>
        <p:spPr>
          <a:xfrm>
            <a:off x="647640" y="3208320"/>
            <a:ext cx="7618320" cy="99072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6972480" y="3513240"/>
            <a:ext cx="126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647640" y="2141640"/>
            <a:ext cx="7620120" cy="990360"/>
          </a:xfrm>
          <a:prstGeom prst="rect">
            <a:avLst/>
          </a:prstGeom>
          <a:noFill/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6896160" y="2446200"/>
            <a:ext cx="147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ayer</a:t>
            </a:r>
            <a:r>
              <a:rPr b="0" lang="en-US" sz="2000" spc="-1" strike="noStrike">
                <a:solidFill>
                  <a:srgbClr val="99cc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0" name=""/>
          <p:cNvGrpSpPr/>
          <p:nvPr/>
        </p:nvGrpSpPr>
        <p:grpSpPr>
          <a:xfrm>
            <a:off x="647640" y="1150920"/>
            <a:ext cx="7619760" cy="914400"/>
            <a:chOff x="647640" y="1150920"/>
            <a:chExt cx="7619760" cy="914400"/>
          </a:xfrm>
        </p:grpSpPr>
        <p:sp>
          <p:nvSpPr>
            <p:cNvPr id="831" name=""/>
            <p:cNvSpPr/>
            <p:nvPr/>
          </p:nvSpPr>
          <p:spPr>
            <a:xfrm>
              <a:off x="647640" y="1150920"/>
              <a:ext cx="7619760" cy="9144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7084440" y="1424880"/>
              <a:ext cx="1031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Layer</a:t>
              </a:r>
              <a:r>
                <a:rPr b="0" lang="en-US" sz="2000" spc="-1" strike="noStrike">
                  <a:solidFill>
                    <a:srgbClr val="99cc00"/>
                  </a:solidFill>
                  <a:latin typeface="Arial"/>
                </a:rPr>
                <a:t> 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4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833" name=""/>
          <p:cNvCxnSpPr>
            <a:stCxn id="819" idx="3"/>
            <a:endCxn id="818" idx="3"/>
          </p:cNvCxnSpPr>
          <p:nvPr/>
        </p:nvCxnSpPr>
        <p:spPr>
          <a:xfrm flipV="1">
            <a:off x="5181480" y="2727000"/>
            <a:ext cx="38880" cy="2057760"/>
          </a:xfrm>
          <a:prstGeom prst="curvedConnector5">
            <a:avLst>
              <a:gd name="adj1" fmla="val 1724299"/>
              <a:gd name="adj2" fmla="val 49991"/>
              <a:gd name="adj3" fmla="val 1724299"/>
            </a:avLst>
          </a:prstGeom>
          <a:ln w="1908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C3CAE-5291-4916-85B4-D9366506FE3F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Map packages to componen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5" name=""/>
          <p:cNvSpPr/>
          <p:nvPr/>
        </p:nvSpPr>
        <p:spPr>
          <a:xfrm>
            <a:off x="539640" y="1881360"/>
            <a:ext cx="8153640" cy="20408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Architecture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View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view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Model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model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Controller() :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controller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inPersistence() : </a:t>
            </a:r>
            <a:r>
              <a:rPr b="0" lang="en-US" sz="1600" spc="-1" strike="noStrike">
                <a:solidFill>
                  <a:srgbClr val="0000ff"/>
                </a:solidFill>
                <a:latin typeface="Lucida Console"/>
              </a:rPr>
              <a:t>within</a:t>
            </a: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(persistence..*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Lucida Console"/>
              </a:rPr>
              <a:t> 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2C87A3-E965-465E-9D27-093B507E78CF}" type="slidenum">
              <a:t>10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‘</a:t>
            </a:r>
            <a:r>
              <a:rPr b="0" lang="en-GB" sz="4200" spc="-1" strike="noStrike">
                <a:solidFill>
                  <a:srgbClr val="006699"/>
                </a:solidFill>
                <a:latin typeface="Trebuchet MS"/>
              </a:rPr>
              <a:t>External’ calls into components</a:t>
            </a:r>
            <a:endParaRPr b="0" lang="en-US" sz="42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7" name=""/>
          <p:cNvSpPr/>
          <p:nvPr/>
        </p:nvSpPr>
        <p:spPr>
          <a:xfrm>
            <a:off x="468360" y="1449360"/>
            <a:ext cx="8153280" cy="307764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view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view..*(..)) &amp;&amp; !inView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model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model..*(..)) &amp;&amp; !inModel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controller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controller..*(..)) &amp;&amp; !inController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persistenceCall()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persistence..*(..)) &amp;&amp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!inPersistenc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pointcut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jdbcCall() :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cal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(* javax.sql..*(..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79B672-F25C-4E8D-B7F2-2AA8B0D7741C}" type="slidenum">
              <a:t>10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Compile warnings for illegal call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39" name=""/>
          <p:cNvSpPr/>
          <p:nvPr/>
        </p:nvSpPr>
        <p:spPr>
          <a:xfrm>
            <a:off x="431640" y="1341360"/>
            <a:ext cx="8153640" cy="3930120"/>
          </a:xfrm>
          <a:prstGeom prst="rect">
            <a:avLst/>
          </a:prstGeom>
          <a:solidFill>
            <a:srgbClr val="ffff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controllerCal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No calls into controll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viewCall() &amp;&amp; !inController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controller can call view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modelCall() &amp;&amp; !(inController() || inView()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view and controller can call model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: persistenceCall() &amp;&amp; !inModel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Only model can access persistence layer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0000ff"/>
                </a:solidFill>
                <a:latin typeface="Lucida Console"/>
              </a:rPr>
              <a:t>declare warning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: jdbcCall() &amp;&amp; !inPersistence() 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</a:t>
            </a:r>
            <a:r>
              <a:rPr b="0" lang="en-US" sz="1400" spc="-1" strike="noStrike">
                <a:solidFill>
                  <a:srgbClr val="1d5d09"/>
                </a:solidFill>
                <a:latin typeface="Lucida Console"/>
              </a:rPr>
              <a:t>Persistence layer handles all db access</a:t>
            </a: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"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DE92BF0-7EDA-4166-8194-A4DF6F15FC3F}" type="slidenum">
              <a:t>10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Auxiliary/Infrastructur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Whole team awarenes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evelopers know aspects are the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untime dependency on aspectjrt.ja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But only some developers 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working practic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 day-to-day tool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ily understood business cas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42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2B4710-990F-4D82-B666-771BF56AB84F}" type="slidenum">
              <a:t>10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i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2383920"/>
            <a:ext cx="8229600" cy="27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ludes IDE suppor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JDT support for Eclip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freely available implement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mpiler &amp; tools are Open Sour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0">
              <a:lnSpc>
                <a:spcPct val="75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-32580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ctive user commun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05600" indent="-2714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j-users@eclipse.or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2580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324000" y="1160640"/>
            <a:ext cx="84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646464"/>
                </a:solidFill>
                <a:latin typeface="Arial"/>
              </a:rPr>
              <a:t>an aspect-oriented extension to Java that supports general-purpose aspect-oriented programming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CAD113F-414D-4B1C-96E6-94C76541A624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xample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cing, logg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rror and exception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onitoring and statistics gather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ransac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ession management (for e.g. persistenc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read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ach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Remote acces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54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3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04FFA7-53F2-40E8-9352-AF4BADA8D119}" type="slidenum">
              <a:t>1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Factors: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umber of source files in projec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erage time spent per file over a releas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(e.g. on tracing code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66" name=""/>
          <p:cNvSpPr/>
          <p:nvPr/>
        </p:nvSpPr>
        <p:spPr>
          <a:xfrm>
            <a:off x="61272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"/>
          <p:cNvSpPr/>
          <p:nvPr/>
        </p:nvSpPr>
        <p:spPr>
          <a:xfrm>
            <a:off x="7289640" y="1133640"/>
            <a:ext cx="1760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"/>
          <p:cNvSpPr/>
          <p:nvPr/>
        </p:nvSpPr>
        <p:spPr>
          <a:xfrm>
            <a:off x="7289640" y="907920"/>
            <a:ext cx="209880" cy="22572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"/>
          <p:cNvSpPr/>
          <p:nvPr/>
        </p:nvSpPr>
        <p:spPr>
          <a:xfrm>
            <a:off x="7707240" y="692280"/>
            <a:ext cx="209520" cy="4413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"/>
          <p:cNvSpPr/>
          <p:nvPr/>
        </p:nvSpPr>
        <p:spPr>
          <a:xfrm>
            <a:off x="7499520" y="798480"/>
            <a:ext cx="207720" cy="3351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"/>
          <p:cNvSpPr/>
          <p:nvPr/>
        </p:nvSpPr>
        <p:spPr>
          <a:xfrm>
            <a:off x="7916760" y="581040"/>
            <a:ext cx="209520" cy="552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"/>
          <p:cNvSpPr/>
          <p:nvPr/>
        </p:nvSpPr>
        <p:spPr>
          <a:xfrm>
            <a:off x="8126280" y="473040"/>
            <a:ext cx="209520" cy="6606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8335800" y="363600"/>
            <a:ext cx="208080" cy="770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"/>
          <p:cNvSpPr/>
          <p:nvPr/>
        </p:nvSpPr>
        <p:spPr>
          <a:xfrm>
            <a:off x="8543880" y="147600"/>
            <a:ext cx="417600" cy="9860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"/>
          <p:cNvSpPr/>
          <p:nvPr/>
        </p:nvSpPr>
        <p:spPr>
          <a:xfrm flipV="1">
            <a:off x="7289640" y="11124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"/>
          <p:cNvSpPr/>
          <p:nvPr/>
        </p:nvSpPr>
        <p:spPr>
          <a:xfrm>
            <a:off x="7272360" y="11592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336513-8EB1-460E-9F62-353B909AEF95}" type="slidenum">
              <a:t>1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Building the Ca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 can certain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simple tracing aspect in &lt; 25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write and test a good tracing aspect in &lt; 50 hour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 save a lot of ti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79" name=""/>
          <p:cNvSpPr/>
          <p:nvPr/>
        </p:nvSpPr>
        <p:spPr>
          <a:xfrm>
            <a:off x="971640" y="3500280"/>
            <a:ext cx="7024680" cy="1414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952560" y="3392640"/>
            <a:ext cx="7004160" cy="148248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"/>
          <p:cNvSpPr/>
          <p:nvPr/>
        </p:nvSpPr>
        <p:spPr>
          <a:xfrm>
            <a:off x="611280" y="3500280"/>
            <a:ext cx="7920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 files x 15 minutes = 25 person hou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500 files x 15 minutes = 3.5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ffffff"/>
                </a:solidFill>
                <a:latin typeface="Lucida Console"/>
              </a:rPr>
              <a:t>1000 files x 15 minutes = 7 person wee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168F05-E8C0-4293-B73D-2B2AE3F1F355}" type="slidenum">
              <a:t>1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Core/Business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aspects when implementing application’s core functiona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Requires full team buy-in to 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Changes to tool set (e.g. JDT -&gt; AJDT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You’ll be ready if you followed staged approach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understand technolog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ough developers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anagement will be aware of valu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894" name=""/>
          <p:cNvSpPr/>
          <p:nvPr/>
        </p:nvSpPr>
        <p:spPr>
          <a:xfrm>
            <a:off x="7326360" y="1125360"/>
            <a:ext cx="1760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"/>
          <p:cNvSpPr/>
          <p:nvPr/>
        </p:nvSpPr>
        <p:spPr>
          <a:xfrm>
            <a:off x="7326360" y="900000"/>
            <a:ext cx="209520" cy="225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6" name=""/>
          <p:cNvSpPr/>
          <p:nvPr/>
        </p:nvSpPr>
        <p:spPr>
          <a:xfrm>
            <a:off x="7743960" y="684360"/>
            <a:ext cx="209520" cy="4410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"/>
          <p:cNvSpPr/>
          <p:nvPr/>
        </p:nvSpPr>
        <p:spPr>
          <a:xfrm>
            <a:off x="7535880" y="790560"/>
            <a:ext cx="208080" cy="33480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"/>
          <p:cNvSpPr/>
          <p:nvPr/>
        </p:nvSpPr>
        <p:spPr>
          <a:xfrm>
            <a:off x="7953480" y="573120"/>
            <a:ext cx="209520" cy="5522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8163000" y="465120"/>
            <a:ext cx="209520" cy="660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8372520" y="355680"/>
            <a:ext cx="208080" cy="76968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8580600" y="139680"/>
            <a:ext cx="417240" cy="98568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 flipV="1">
            <a:off x="7326360" y="103320"/>
            <a:ext cx="1743120" cy="907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308720" y="108000"/>
            <a:ext cx="1738440" cy="907920"/>
          </a:xfrm>
          <a:custGeom>
            <a:avLst/>
            <a:gdLst/>
            <a:ahLst/>
            <a:rect l="l" t="t" r="r" b="b"/>
            <a:pathLst>
              <a:path w="1095" h="572">
                <a:moveTo>
                  <a:pt x="0" y="572"/>
                </a:moveTo>
                <a:lnTo>
                  <a:pt x="0" y="16"/>
                </a:lnTo>
                <a:lnTo>
                  <a:pt x="1095" y="0"/>
                </a:lnTo>
                <a:lnTo>
                  <a:pt x="0" y="57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2367DD-6465-4438-82CC-91FAFB0CB516}" type="slidenum">
              <a:t>1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The book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2"/>
          <a:stretch/>
        </p:blipFill>
        <p:spPr>
          <a:xfrm>
            <a:off x="395280" y="1233360"/>
            <a:ext cx="3102120" cy="41022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3"/>
          <a:stretch/>
        </p:blipFill>
        <p:spPr>
          <a:xfrm>
            <a:off x="7272360" y="3573360"/>
            <a:ext cx="1541520" cy="1938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7" name="" descr=""/>
          <p:cNvPicPr/>
          <p:nvPr/>
        </p:nvPicPr>
        <p:blipFill>
          <a:blip r:embed="rId4"/>
          <a:stretch/>
        </p:blipFill>
        <p:spPr>
          <a:xfrm>
            <a:off x="3851280" y="3429000"/>
            <a:ext cx="155736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8" name="" descr=""/>
          <p:cNvPicPr/>
          <p:nvPr/>
        </p:nvPicPr>
        <p:blipFill>
          <a:blip r:embed="rId5"/>
          <a:stretch/>
        </p:blipFill>
        <p:spPr>
          <a:xfrm>
            <a:off x="5543640" y="3537000"/>
            <a:ext cx="1619280" cy="1942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909" name="" descr=""/>
          <p:cNvPicPr/>
          <p:nvPr/>
        </p:nvPicPr>
        <p:blipFill>
          <a:blip r:embed="rId6"/>
          <a:stretch/>
        </p:blipFill>
        <p:spPr>
          <a:xfrm>
            <a:off x="5543640" y="1233360"/>
            <a:ext cx="1643040" cy="2303640"/>
          </a:xfrm>
          <a:prstGeom prst="rect">
            <a:avLst/>
          </a:prstGeom>
          <a:ln w="0">
            <a:noFill/>
          </a:ln>
        </p:spPr>
      </p:pic>
      <p:pic>
        <p:nvPicPr>
          <p:cNvPr id="910" name="" descr=""/>
          <p:cNvPicPr/>
          <p:nvPr/>
        </p:nvPicPr>
        <p:blipFill>
          <a:blip r:embed="rId7"/>
          <a:stretch/>
        </p:blipFill>
        <p:spPr>
          <a:xfrm>
            <a:off x="7272360" y="126828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911" name="" descr=""/>
          <p:cNvPicPr/>
          <p:nvPr/>
        </p:nvPicPr>
        <p:blipFill>
          <a:blip r:embed="rId8"/>
          <a:stretch/>
        </p:blipFill>
        <p:spPr>
          <a:xfrm>
            <a:off x="3780000" y="1268280"/>
            <a:ext cx="1655640" cy="207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ACCFD0-100A-4F03-8681-E6355C4FDBC8}" type="slidenum">
              <a:t>1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on the web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009999"/>
                </a:solidFill>
                <a:uFillTx/>
                <a:latin typeface="Trebuchet MS"/>
                <a:hlinkClick r:id="rId4"/>
              </a:rPr>
              <a:t>http://eclipse.org/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oin the mailing lists from our homep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mail me!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dy Clement, clemas@uk.ibm.co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630823-A77E-4353-A894-21C005E0A396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V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Hands on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Getting set up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5000"/>
          </a:bodyPr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Handouts and exercises plug-in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http://eclipse.org/ajdt/EclipseCon2006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1.1 or 3.1.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clipse 3.2RC2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 1.4.dev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JDT downloads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eclipse.org/ajdt/downloads/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rom the memory key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ull eclipse including everything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12_ajdt131_exercises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clipse32rc2_ajdt140_exercises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154080" indent="-154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Or… (unzip in your base eclipse directory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3.1_for_eclipse_3.1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jdt_1.4.0.20060503081550_archive.zip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-12852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rg.aspectj.tutorial.exercises_1.0.0.ja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334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718290D-E722-4015-935E-0BA9573B94E7}" type="slidenum">
              <a:t>1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J technolog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is a small extension to Java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id Java programs are also valid AspectJ program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has its own compiler, ajc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uns on Java 2 platform (Java 1.3 or later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oduces Java platform-compatible .class files 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(Java 1.1 - 1.5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spectJ tools suppor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clipse support: AJD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t task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orks with existing debugg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icen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iler, runtime and tools are Open Source and free for any us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53E952-66CA-4F94-96EA-FEA9AA9864D6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edi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921" name=""/>
          <p:cNvSpPr/>
          <p:nvPr/>
        </p:nvSpPr>
        <p:spPr>
          <a:xfrm>
            <a:off x="324000" y="1523880"/>
            <a:ext cx="8604000" cy="473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AspectJ* &amp; AJDT are Eclipse.org proje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urrent AspectJ and AJDT committer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drian Colyer, Matt Chapman, Andrew Clement, Helen Hawkins, Wes Isberg, Sian January, Mik Kersten, Alexandre Vasseur, Julie Waterhouse, and Matthew Webs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table work by: Ron Bodkin, Erik Hilsdale, Jim Hugunin, Gregor Kicz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* Originally developed at PARC, with support from NIST and DARPA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AspectJ is a registered trademark of Palo Alto Research Center Inc. in the United States and/or other countrie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Java and all Java-based trademarks are trademarks of Sun Microsystems, Inc. in the United States, other countries, or both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1670FE-32B2-4E9F-8E56-0DDD1DB143D7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xample: java code base with 10,000 files and 500 develop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30320" indent="-130320">
              <a:lnSpc>
                <a:spcPct val="10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omparison of capturing policies with ‘regular’ techniques or with AspectJ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  (yey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ofiling polic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282240" indent="-108360">
              <a:lnSpc>
                <a:spcPct val="10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98EEA5-EF93-4CAA-BFD3-E381BC7B8E7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What’s the differenc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11" name=""/>
          <p:cNvSpPr/>
          <p:nvPr/>
        </p:nvSpPr>
        <p:spPr>
          <a:xfrm>
            <a:off x="1619280" y="202392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18728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050920" y="299736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>
            <a:off x="1440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71640" y="245592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63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164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295280" y="472608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684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11600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050920" y="3753000"/>
            <a:ext cx="50508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482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303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403280" y="494028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19280" y="4797360"/>
            <a:ext cx="14256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56000" y="4976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368360" y="3068640"/>
            <a:ext cx="142920" cy="10800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00360" y="227664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31640" y="209700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76360" y="2239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476360" y="324792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03280" y="4869000"/>
            <a:ext cx="142920" cy="10764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232000" y="389736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771640" y="4976640"/>
            <a:ext cx="14292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2997360"/>
            <a:ext cx="504720" cy="43164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87280" y="1557360"/>
            <a:ext cx="295272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traditional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1280" y="2023920"/>
            <a:ext cx="50508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5964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23280" y="299736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6912000" y="245592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43640" y="245592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3564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90400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6764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6156360" y="4184640"/>
            <a:ext cx="3952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588000" y="4184640"/>
            <a:ext cx="39708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7523280" y="375300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954920" y="4726080"/>
            <a:ext cx="504720" cy="43164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775640" y="4184640"/>
            <a:ext cx="396720" cy="54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904000" y="2097000"/>
            <a:ext cx="504720" cy="432000"/>
          </a:xfrm>
          <a:prstGeom prst="rect">
            <a:avLst/>
          </a:prstGeom>
          <a:solidFill>
            <a:srgbClr val="bbe0e3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564000" y="4292640"/>
            <a:ext cx="395280" cy="39672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5867280" y="2924280"/>
            <a:ext cx="505080" cy="50472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759280" y="1557360"/>
            <a:ext cx="2953080" cy="37083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op syst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867280" y="2997360"/>
            <a:ext cx="46836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64000" y="4797360"/>
            <a:ext cx="395280" cy="397080"/>
          </a:xfrm>
          <a:prstGeom prst="rect">
            <a:avLst/>
          </a:prstGeom>
          <a:solidFill>
            <a:srgbClr val="13b5b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032360" y="432900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g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2360" y="4834080"/>
            <a:ext cx="169056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456000" y="4221000"/>
            <a:ext cx="1871640" cy="10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43280" y="2097000"/>
            <a:ext cx="1332000" cy="611280"/>
          </a:xfrm>
          <a:custGeom>
            <a:avLst/>
            <a:gdLst>
              <a:gd name="textAreaLeft" fmla="*/ 208080 w 1332000"/>
              <a:gd name="textAreaRight" fmla="*/ 1165680 w 1332000"/>
              <a:gd name="textAreaTop" fmla="*/ 152640 h 611280"/>
              <a:gd name="textAreaBottom" fmla="*/ 458640 h 611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064360" y="2097000"/>
            <a:ext cx="505080" cy="432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781360"/>
            <a:ext cx="259236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scatter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Reduced tang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64000" y="4797360"/>
            <a:ext cx="142560" cy="108000"/>
          </a:xfrm>
          <a:prstGeom prst="rect">
            <a:avLst/>
          </a:prstGeom>
          <a:solidFill>
            <a:srgbClr val="adb2f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9034D7-E25F-4385-A80F-76C34A9265A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513000" y="171360"/>
            <a:ext cx="8118000" cy="10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Eliminating tangl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216000" y="1160280"/>
            <a:ext cx="4427280" cy="5005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FFDCEngine.processException(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ex,”EBean.passivate()”,”237”,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ff0000"/>
                </a:solidFill>
                <a:latin typeface="Lucida Console"/>
              </a:rPr>
              <a:t>this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if (!removed &amp;&amp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 != null 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statisticsCollector.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   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recordPassivation(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223bf8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if (Logger.isEnabled) {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Logger.exit(tc,”passivate”);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  </a:t>
            </a:r>
            <a:r>
              <a:rPr b="1" lang="en-GB" sz="1400" spc="-1" strike="noStrike">
                <a:solidFill>
                  <a:srgbClr val="33cc33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660560" y="785880"/>
            <a:ext cx="40338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67" name=""/>
          <p:cNvSpPr/>
          <p:nvPr/>
        </p:nvSpPr>
        <p:spPr>
          <a:xfrm>
            <a:off x="4716360" y="1160640"/>
            <a:ext cx="3816360" cy="23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r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if (!removed) entityBean.ejbPassiv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setState( POOLED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catch (RemoteException ex 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destroy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throw ex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finally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removed = false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  </a:t>
            </a: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beanPool.put( this 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Lucida Console"/>
              </a:rPr>
              <a:t>}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5780160" y="3683160"/>
            <a:ext cx="2833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Crosscutting concer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trac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148360" y="4616280"/>
            <a:ext cx="3519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3b5b1"/>
                </a:solidFill>
                <a:latin typeface="Trebuchet MS"/>
              </a:rPr>
              <a:t>Example: Code to handle EJB Entity bean passiv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00360" y="3357360"/>
            <a:ext cx="25092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024360" y="1160640"/>
            <a:ext cx="161892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912000" y="1160640"/>
            <a:ext cx="16192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75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D7429-8D11-48ED-B188-EFE56117355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5-30 page policy docume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d by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ffect every develop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ust understand policy documen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8000"/>
          </a:bodyPr>
          <a:p>
            <a:pPr marL="3358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one reusable crosscutting modu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licy captured explicitl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pplies policy uniformly for all ti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35880" indent="-3358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ritten by central team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7920" indent="-280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no burden on other 492 develope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C78F30-6F9C-4A9E-A991-5C76440E6E6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533520" y="1384200"/>
            <a:ext cx="8610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AspectJ applied to a large middleware system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287280" y="1557000"/>
            <a:ext cx="40384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existing policy implement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repeat for new code asse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wkward to support varian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licates product lin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don’t even think about changing the policy!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392720" y="1557000"/>
            <a:ext cx="4535280" cy="342900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Trebuchet MS"/>
              </a:rPr>
              <a:t>policies implemented with AspectJ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utomatically applied to new cod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asy plug and unplu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implifies product line issu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7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hanges to policy happen in one pla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5BA9DE-D0BA-4F6F-986A-BAB46BB3D2A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006699"/>
                </a:solidFill>
                <a:latin typeface="Trebuchet MS"/>
              </a:rPr>
              <a:t>Part II</a:t>
            </a:r>
            <a:endParaRPr b="0" lang="en-US" sz="51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990360" y="27428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646464"/>
                </a:solidFill>
                <a:latin typeface="Trebuchet MS"/>
              </a:rPr>
              <a:t>tutorial</a:t>
            </a:r>
            <a:endParaRPr b="0" lang="en-US" sz="4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language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goal: present basic mechanis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one simple exampl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mphasis on what the mechanisms do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mall scale motiv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6109B9-836F-48B3-8C22-119DED67ACB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ONE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overlay on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dynamic join points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oints in the execution” of Java program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70602D-58B2-4695-944D-98C93206070C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utlin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   AOP and AspectJ overview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otivation for AOP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roblems, basic concepts, contex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   AspectJ tutorial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language mechanism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riting aspec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Java5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-2570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the eclipse tools (demo…)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8520" indent="0">
              <a:lnSpc>
                <a:spcPct val="7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II   Adopting AspectJ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0269A1-D587-4EB6-8794-02A9263E6116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basic mechanism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FOUR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small additions to Java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ick out join points and values at those poin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rimitive, user-defined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inter-type declaratio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646464"/>
                </a:solidFill>
                <a:latin typeface="Trebuchet MS"/>
              </a:rPr>
              <a:t>aspect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08440" indent="-221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 modular unit of crosscutting behavi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3" marL="1551960" indent="-2214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comprised of advice, inter-type, pointcut,</a:t>
            </a:r>
            <a:br>
              <a:rPr sz="2000"/>
            </a:b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, constructor, and method declaration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F6146-CEE7-4D56-B480-A988634D533D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5796000" y="2176560"/>
            <a:ext cx="2305080" cy="1469880"/>
            <a:chOff x="5796000" y="2176560"/>
            <a:chExt cx="2305080" cy="1469880"/>
          </a:xfrm>
        </p:grpSpPr>
        <p:sp>
          <p:nvSpPr>
            <p:cNvPr id="291" name=""/>
            <p:cNvSpPr/>
            <p:nvPr/>
          </p:nvSpPr>
          <p:spPr>
            <a:xfrm>
              <a:off x="5796000" y="2176560"/>
              <a:ext cx="2305080" cy="146988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436080" y="25880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05196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524720" y="27644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12440" y="241164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44480" y="2441160"/>
              <a:ext cx="511920" cy="35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692400" y="3234600"/>
              <a:ext cx="768240" cy="2941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56400" y="319428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656400" y="3495960"/>
              <a:ext cx="63720" cy="58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420680" y="3197880"/>
              <a:ext cx="6408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425000" y="3499560"/>
              <a:ext cx="63720" cy="586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400" bIns="-54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 flipH="1" flipV="1">
            <a:off x="5021280" y="2701800"/>
            <a:ext cx="1216080" cy="1764000"/>
          </a:xfrm>
          <a:prstGeom prst="line">
            <a:avLst/>
          </a:prstGeom>
          <a:ln w="19080">
            <a:solidFill>
              <a:srgbClr val="0033cc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43280" y="4702320"/>
            <a:ext cx="3394080" cy="484200"/>
          </a:xfrm>
          <a:custGeom>
            <a:avLst/>
            <a:gdLst/>
            <a:ahLst/>
            <a:rect l="l" t="t" r="r" b="b"/>
            <a:pathLst>
              <a:path w="2595" h="396">
                <a:moveTo>
                  <a:pt x="2595" y="0"/>
                </a:moveTo>
                <a:lnTo>
                  <a:pt x="1807" y="391"/>
                </a:lnTo>
                <a:lnTo>
                  <a:pt x="540" y="396"/>
                </a:lnTo>
                <a:lnTo>
                  <a:pt x="0" y="208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111640" y="4584600"/>
            <a:ext cx="1125720" cy="139680"/>
          </a:xfrm>
          <a:custGeom>
            <a:avLst/>
            <a:gdLst/>
            <a:ahLst/>
            <a:rect l="l" t="t" r="r" b="b"/>
            <a:pathLst>
              <a:path w="935" h="120">
                <a:moveTo>
                  <a:pt x="935" y="0"/>
                </a:moveTo>
                <a:lnTo>
                  <a:pt x="0" y="120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904000" y="4149720"/>
            <a:ext cx="1728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operations that move el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700360" y="1278000"/>
            <a:ext cx="2654280" cy="1165320"/>
          </a:xfrm>
          <a:custGeom>
            <a:avLst/>
            <a:gdLst/>
            <a:ahLst/>
            <a:rect l="l" t="t" r="r" b="b"/>
            <a:pathLst>
              <a:path w="2404" h="951">
                <a:moveTo>
                  <a:pt x="2404" y="0"/>
                </a:moveTo>
                <a:lnTo>
                  <a:pt x="519" y="432"/>
                </a:lnTo>
                <a:lnTo>
                  <a:pt x="0" y="951"/>
                </a:lnTo>
              </a:path>
            </a:pathLst>
          </a:custGeom>
          <a:noFill/>
          <a:ln w="19080">
            <a:solidFill>
              <a:srgbClr val="0033cc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111640" y="1052640"/>
            <a:ext cx="1432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Arial"/>
              </a:rPr>
              <a:t>factory metho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120680" y="1376280"/>
            <a:ext cx="1536840" cy="34452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657520" y="1940040"/>
            <a:ext cx="76824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189240" y="1720800"/>
            <a:ext cx="19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2647440" y="3757680"/>
            <a:ext cx="76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693880" y="3451320"/>
            <a:ext cx="25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313" name=""/>
          <p:cNvCxnSpPr/>
          <p:nvPr/>
        </p:nvCxnSpPr>
        <p:spPr>
          <a:xfrm flipV="1">
            <a:off x="1879200" y="3106440"/>
            <a:ext cx="1080" cy="2354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4" name=""/>
          <p:cNvCxnSpPr/>
          <p:nvPr/>
        </p:nvCxnSpPr>
        <p:spPr>
          <a:xfrm flipV="1">
            <a:off x="4176360" y="3104280"/>
            <a:ext cx="1080" cy="23436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5" name=""/>
          <p:cNvCxnSpPr/>
          <p:nvPr/>
        </p:nvCxnSpPr>
        <p:spPr>
          <a:xfrm>
            <a:off x="1879200" y="3106440"/>
            <a:ext cx="23054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316" name=""/>
          <p:cNvCxnSpPr/>
          <p:nvPr/>
        </p:nvCxnSpPr>
        <p:spPr>
          <a:xfrm flipV="1">
            <a:off x="4176720" y="2755440"/>
            <a:ext cx="10080" cy="349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grpSp>
        <p:nvGrpSpPr>
          <p:cNvPr id="317" name=""/>
          <p:cNvGrpSpPr/>
          <p:nvPr/>
        </p:nvGrpSpPr>
        <p:grpSpPr>
          <a:xfrm>
            <a:off x="1111320" y="3349800"/>
            <a:ext cx="1697040" cy="1734840"/>
            <a:chOff x="1111320" y="3349800"/>
            <a:chExt cx="1697040" cy="1734840"/>
          </a:xfrm>
        </p:grpSpPr>
        <p:sp>
          <p:nvSpPr>
            <p:cNvPr id="318" name=""/>
            <p:cNvSpPr/>
            <p:nvPr/>
          </p:nvSpPr>
          <p:spPr>
            <a:xfrm>
              <a:off x="1111320" y="3349800"/>
              <a:ext cx="16970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Poi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11320" y="3853800"/>
              <a:ext cx="16970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X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Y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X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Y(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11320" y="3725280"/>
              <a:ext cx="16970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3416400" y="3349800"/>
            <a:ext cx="1695240" cy="1734840"/>
            <a:chOff x="3416400" y="3349800"/>
            <a:chExt cx="1695240" cy="1734840"/>
          </a:xfrm>
        </p:grpSpPr>
        <p:sp>
          <p:nvSpPr>
            <p:cNvPr id="322" name=""/>
            <p:cNvSpPr/>
            <p:nvPr/>
          </p:nvSpPr>
          <p:spPr>
            <a:xfrm>
              <a:off x="3416400" y="3349800"/>
              <a:ext cx="1695240" cy="37692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Lin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416400" y="3853800"/>
              <a:ext cx="1695240" cy="12308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1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getP2(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1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setP2(Point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416400" y="3725280"/>
              <a:ext cx="1695240" cy="128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120680" y="1914480"/>
            <a:ext cx="1536840" cy="1052280"/>
            <a:chOff x="1120680" y="1914480"/>
            <a:chExt cx="1536840" cy="1052280"/>
          </a:xfrm>
        </p:grpSpPr>
        <p:sp>
          <p:nvSpPr>
            <p:cNvPr id="326" name=""/>
            <p:cNvSpPr/>
            <p:nvPr/>
          </p:nvSpPr>
          <p:spPr>
            <a:xfrm>
              <a:off x="1120680" y="1914480"/>
              <a:ext cx="1536840" cy="34560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333399"/>
                  </a:solidFill>
                  <a:latin typeface="Arial"/>
                </a:rPr>
                <a:t>Figure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120680" y="2259000"/>
              <a:ext cx="1536840" cy="7077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Point(..)</a:t>
              </a:r>
              <a:br>
                <a:rPr sz="1600"/>
              </a:b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akeLine(..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120680" y="225648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9" name=""/>
          <p:cNvGrpSpPr/>
          <p:nvPr/>
        </p:nvGrpSpPr>
        <p:grpSpPr>
          <a:xfrm>
            <a:off x="3425760" y="1914480"/>
            <a:ext cx="1536840" cy="991800"/>
            <a:chOff x="3425760" y="1914480"/>
            <a:chExt cx="1536840" cy="991800"/>
          </a:xfrm>
        </p:grpSpPr>
        <p:sp>
          <p:nvSpPr>
            <p:cNvPr id="330" name=""/>
            <p:cNvSpPr/>
            <p:nvPr/>
          </p:nvSpPr>
          <p:spPr>
            <a:xfrm>
              <a:off x="3425760" y="1914480"/>
              <a:ext cx="1536840" cy="345240"/>
            </a:xfrm>
            <a:prstGeom prst="rect">
              <a:avLst/>
            </a:prstGeom>
            <a:noFill/>
            <a:ln w="255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600" spc="-1" strike="noStrike">
                  <a:solidFill>
                    <a:srgbClr val="333399"/>
                  </a:solidFill>
                  <a:latin typeface="Arial"/>
                </a:rPr>
                <a:t>FigureElemen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129920" y="2788920"/>
              <a:ext cx="127800" cy="11736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560" bIns="-756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425760" y="2257200"/>
              <a:ext cx="1536840" cy="5313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moveBy(int, int)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425760" y="2253600"/>
              <a:ext cx="1536840" cy="11016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3FBF1C-84A0-4170-8975-683B9DEA4B45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figure editor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36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296640" y="1085760"/>
            <a:ext cx="5057640" cy="4231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oint implements FigureElement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x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x = x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y) {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.y = y;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EEBDF9-4A59-442A-9192-9313A8C2CCE5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display upda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216000" y="1413000"/>
            <a:ext cx="58975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ollection of figure eleme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that move periodicall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ust refresh the display as need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350" name=""/>
          <p:cNvSpPr/>
          <p:nvPr/>
        </p:nvSpPr>
        <p:spPr>
          <a:xfrm>
            <a:off x="5904000" y="418464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1" name=""/>
          <p:cNvGrpSpPr/>
          <p:nvPr/>
        </p:nvGrpSpPr>
        <p:grpSpPr>
          <a:xfrm>
            <a:off x="5904000" y="2205000"/>
            <a:ext cx="2743200" cy="1905120"/>
            <a:chOff x="5904000" y="2205000"/>
            <a:chExt cx="2743200" cy="1905120"/>
          </a:xfrm>
        </p:grpSpPr>
        <p:sp>
          <p:nvSpPr>
            <p:cNvPr id="352" name=""/>
            <p:cNvSpPr/>
            <p:nvPr/>
          </p:nvSpPr>
          <p:spPr>
            <a:xfrm>
              <a:off x="5904000" y="2205000"/>
              <a:ext cx="2743200" cy="1905120"/>
            </a:xfrm>
            <a:prstGeom prst="rect">
              <a:avLst/>
            </a:prstGeom>
            <a:solidFill>
              <a:srgbClr val="009999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66120" y="27385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208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2967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351920" y="25099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0080" y="254808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971040" y="357660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928200" y="35244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928200" y="391500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837560" y="352908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42600" y="391968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DE18FFB-E072-4B01-B8B2-06D277A2E9B9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64" name=""/>
          <p:cNvSpPr/>
          <p:nvPr/>
        </p:nvSpPr>
        <p:spPr>
          <a:xfrm>
            <a:off x="3419640" y="1015920"/>
            <a:ext cx="550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key points in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rebuchet MS"/>
              </a:rPr>
              <a:t>dynamic</a:t>
            </a:r>
            <a:r>
              <a:rPr b="1" lang="en-US" sz="2400" spc="-1" strike="noStrike">
                <a:solidFill>
                  <a:srgbClr val="ffffff"/>
                </a:solidFill>
                <a:latin typeface="Trebuchet MS"/>
              </a:rPr>
              <a:t> call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FBCFA5-FC0B-472A-9DA5-B356DE6E9594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 terminology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	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990360" y="1828440"/>
            <a:ext cx="754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ll kinds of events </a:t>
            </a:r>
            <a:r>
              <a:rPr b="0" i="1" lang="en-US" sz="2500" spc="-1" strike="noStrike">
                <a:solidFill>
                  <a:srgbClr val="646464"/>
                </a:solidFill>
                <a:latin typeface="Trebuchet MS"/>
              </a:rPr>
              <a:t>could be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 join points but AspectJ exposes this set: 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call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method &amp; constructo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field get &amp; se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xception handler execu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static &amp; dynamic initialization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1C5279-3969-49DA-BB60-D1C2803A4F1A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"/>
          <p:cNvSpPr/>
          <p:nvPr/>
        </p:nvSpPr>
        <p:spPr>
          <a:xfrm>
            <a:off x="503280" y="3844800"/>
            <a:ext cx="817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26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a pointcut identifies some set of join poin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match or not match any given join point, an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optionally, can pull out some of the values (‘context’) at that join poi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0" name=""/>
          <p:cNvSpPr/>
          <p:nvPr/>
        </p:nvSpPr>
        <p:spPr>
          <a:xfrm>
            <a:off x="826920" y="4545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33cc"/>
                </a:solidFill>
                <a:latin typeface="Trebuchet MS"/>
              </a:rPr>
              <a:t>matches if the join point is a method call with this signature ‘void Line.setP1(Point)’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693560B-03CB-41BA-88A7-B5223333CC4F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 composi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pointcuts can be composed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&amp;&amp;, || and !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4508640"/>
            <a:ext cx="860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33cc"/>
                </a:solidFill>
                <a:latin typeface="Trebuchet MS"/>
              </a:rPr>
              <a:t>matches either a call to ‘void Line.setP1(Point)’ or a call to ‘void Line.setP2(Point)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024920" y="314172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62471D-C0FF-44B4-B944-5203F991427B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er-defined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15920"/>
            <a:ext cx="8229600" cy="31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646464"/>
                </a:solidFill>
                <a:latin typeface="Trebuchet MS"/>
              </a:rPr>
              <a:t>user-defined (aka named) pointcuts</a:t>
            </a:r>
            <a:endParaRPr b="0" lang="en-US" sz="29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an be used in the same way as primitive pointcuts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07" name=""/>
          <p:cNvSpPr/>
          <p:nvPr/>
        </p:nvSpPr>
        <p:spPr>
          <a:xfrm>
            <a:off x="552240" y="212256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800360" y="3176640"/>
            <a:ext cx="503280" cy="360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0000" y="2930400"/>
            <a:ext cx="878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nam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843280" y="3213000"/>
            <a:ext cx="504720" cy="324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299040" y="296064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Arial"/>
              </a:rPr>
              <a:t>parameters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264360" y="396864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808080"/>
                </a:solidFill>
                <a:latin typeface="Trebuchet MS"/>
              </a:rPr>
              <a:t>more on parameters and how pointcut can expose values at join points in a few slides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9DAEC7-C4BE-4BFC-ADA3-84C1D7D635BC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4" name=""/>
          <p:cNvSpPr/>
          <p:nvPr/>
        </p:nvSpPr>
        <p:spPr>
          <a:xfrm>
            <a:off x="457200" y="1341360"/>
            <a:ext cx="822960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primitive pointcuts ar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call, execution      - this, target,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get, set             - within, within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handler              - cflow, cflowbelo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initialization, static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646464"/>
                </a:solidFill>
                <a:latin typeface="Trebuchet MS"/>
              </a:rPr>
              <a:t>and with AspectJ5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 </a:t>
            </a: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- @annotation, @within, @withincode, @this, @target, @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Lucida Console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1600" indent="-291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470165-9BE9-4A31-ABD9-1FB1FC23BCEF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2"/>
          <a:stretch/>
        </p:blipFill>
        <p:spPr>
          <a:xfrm>
            <a:off x="8636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XML parsing in org.apache.tomcat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one box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178" name=""/>
          <p:cNvSpPr/>
          <p:nvPr/>
        </p:nvSpPr>
        <p:spPr>
          <a:xfrm>
            <a:off x="3184560" y="12272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E23D03-425D-466F-9306-B66268862E3A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7020000" y="3578040"/>
            <a:ext cx="1547640" cy="4078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rebuchet MS"/>
              </a:rPr>
              <a:t>After Advi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04520" y="2117880"/>
            <a:ext cx="5118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code here runs after each mov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Advic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dditional action to take at join points in a pointcu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19" name=""/>
          <p:cNvSpPr/>
          <p:nvPr/>
        </p:nvSpPr>
        <p:spPr>
          <a:xfrm>
            <a:off x="6551640" y="253692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678880" y="2597040"/>
            <a:ext cx="245880" cy="68760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600"/>
              <a:gd name="textAreaBottom" fmla="*/ 675720 h 687600"/>
            </a:gdLst>
            <a:ahLst/>
            <a:rect l="textAreaLeft" t="textAreaTop" r="textAreaRight" b="textAreaBottom"/>
            <a:pathLst>
              <a:path w="21600" h="60347">
                <a:moveTo>
                  <a:pt x="3600" y="0"/>
                </a:moveTo>
                <a:arcTo wR="3600" hR="3600" stAng="16200000" swAng="-5400000"/>
                <a:lnTo>
                  <a:pt x="0" y="56747"/>
                </a:lnTo>
                <a:arcTo wR="3600" hR="3600" stAng="10800000" swAng="-5400000"/>
                <a:lnTo>
                  <a:pt x="18000" y="603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678880" y="2711520"/>
            <a:ext cx="245880" cy="458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678720" y="260028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 flipH="1">
            <a:off x="8532720" y="3284640"/>
            <a:ext cx="27000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002360" y="23130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l.setP1(p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flipV="1">
            <a:off x="6695640" y="3284640"/>
            <a:ext cx="289080" cy="50472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flipH="1">
            <a:off x="6695640" y="3284640"/>
            <a:ext cx="2089080" cy="0"/>
          </a:xfrm>
          <a:prstGeom prst="line">
            <a:avLst/>
          </a:prstGeom>
          <a:ln w="22320">
            <a:solidFill>
              <a:srgbClr val="bbe0e3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B7D0F-672E-4A71-A3F6-2FE105EB82EE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simple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n aspect defines a ‘special module’ that can crosscut other class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29" name=""/>
          <p:cNvSpPr/>
          <p:nvPr/>
        </p:nvSpPr>
        <p:spPr>
          <a:xfrm>
            <a:off x="560160" y="242424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7D882E-AB83-415F-8183-A71CFE719456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838080" y="4076280"/>
            <a:ext cx="73152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what you would ex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update calls are tangled through the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what is going on” is less explici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2" name=""/>
          <p:cNvSpPr/>
          <p:nvPr/>
        </p:nvSpPr>
        <p:spPr>
          <a:xfrm>
            <a:off x="546120" y="1181160"/>
            <a:ext cx="2923920" cy="29235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2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F0736-3D60-4F34-8304-A04684D70AC2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cut across multiple classes…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5" name=""/>
          <p:cNvSpPr/>
          <p:nvPr/>
        </p:nvSpPr>
        <p:spPr>
          <a:xfrm>
            <a:off x="2106360" y="2260440"/>
            <a:ext cx="5118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setX(int))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i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2D8964-6F01-47A0-9C81-A084476C5F76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use interface signatur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38" name=""/>
          <p:cNvSpPr/>
          <p:nvPr/>
        </p:nvSpPr>
        <p:spPr>
          <a:xfrm>
            <a:off x="986400" y="2690640"/>
            <a:ext cx="6764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</a:t>
            </a:r>
            <a:r>
              <a:rPr b="0" lang="en-US" sz="1800" spc="-1" strike="noStrike">
                <a:solidFill>
                  <a:srgbClr val="99cc00"/>
                </a:solidFill>
                <a:latin typeface="Lucida Console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A972E3-F2BE-4B83-90CB-51FA20A1A61A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 multi-class aspec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1" name=""/>
          <p:cNvSpPr/>
          <p:nvPr/>
        </p:nvSpPr>
        <p:spPr>
          <a:xfrm>
            <a:off x="556200" y="1960560"/>
            <a:ext cx="6764400" cy="3263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4090-BAB8-4018-8262-55C81946DA3B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528120" y="2384280"/>
            <a:ext cx="6901560" cy="29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target(figElt) &amp;&amp;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igureElement 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f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fe is bound to the figure element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values at join poin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464840"/>
            <a:ext cx="8067600" cy="10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pointcuts can explicitly expose certain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dvice can use those value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BEC439-A1AC-4853-8592-981253732C12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plaining pointcut parameters…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539280" y="119700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user-defined pointcut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to all users of user-defined pointcu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419280" y="2492280"/>
            <a:ext cx="1873080" cy="144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219640" y="2276640"/>
            <a:ext cx="3019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pointcut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89960" y="2600280"/>
            <a:ext cx="5941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target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after(Line line) returning: move(line) {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808080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564000" y="3789360"/>
            <a:ext cx="53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 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2268360" y="3176280"/>
            <a:ext cx="13320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B664C9-0749-4CD1-849C-293A55AA2E79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advice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558720" y="123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variable is bound by advice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ointcut supplies value for variab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value is available in advice body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54" name=""/>
          <p:cNvSpPr/>
          <p:nvPr/>
        </p:nvSpPr>
        <p:spPr>
          <a:xfrm>
            <a:off x="524880" y="2565360"/>
            <a:ext cx="594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pointcut move(Line l): 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target(l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(call(void Line.setP1(Point)) ||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call(void Line.setP2(Point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 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1" i="1" lang="en-US" sz="1800" spc="-1" strike="noStrike">
                <a:solidFill>
                  <a:srgbClr val="ffffff"/>
                </a:solidFill>
                <a:latin typeface="Lucida Console"/>
              </a:rPr>
              <a:t>lin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8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580000" y="3284640"/>
            <a:ext cx="34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yped variable in place</a:t>
            </a:r>
            <a:br>
              <a:rPr sz="2400"/>
            </a:b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of type na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543640" y="3968640"/>
            <a:ext cx="660240" cy="540000"/>
          </a:xfrm>
          <a:custGeom>
            <a:avLst/>
            <a:gdLst/>
            <a:ahLst/>
            <a:rect l="l" t="t" r="r" b="b"/>
            <a:pathLst>
              <a:path w="503" h="95">
                <a:moveTo>
                  <a:pt x="503" y="0"/>
                </a:moveTo>
                <a:lnTo>
                  <a:pt x="0" y="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2195640" y="4184640"/>
            <a:ext cx="79200" cy="3477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62080" y="3789360"/>
            <a:ext cx="31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advice paramet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29742A6-4EBC-440C-80C0-60B0EFE2B2F6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explaining parameters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09480" y="1267920"/>
            <a:ext cx="7925040" cy="193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Traditional method invocation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arameter values supplied at call site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pointcut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join point provides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With AspectJ advic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pointcuts provide values for parameter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1" name=""/>
          <p:cNvSpPr/>
          <p:nvPr/>
        </p:nvSpPr>
        <p:spPr>
          <a:xfrm>
            <a:off x="3501000" y="3141720"/>
            <a:ext cx="53010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move(Line l):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target(l) &amp;&amp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1(Point)) ||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Line.setP2(Point)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Line line) returning: move(line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i="1" lang="en-US" sz="1600" spc="-1" strike="noStrike">
                <a:solidFill>
                  <a:srgbClr val="ffffff"/>
                </a:solidFill>
                <a:latin typeface="Lucida Console"/>
              </a:rPr>
              <a:t>&lt;line is bound to the line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	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C14E71-7511-4641-B37B-99CEDBA30C32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876240" y="167472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good modularit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2" name=""/>
          <p:cNvSpPr/>
          <p:nvPr/>
        </p:nvSpPr>
        <p:spPr>
          <a:xfrm>
            <a:off x="3200400" y="123516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584360" y="389412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URL pattern match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relevant lines of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icely fits in two boxes (using inheritanc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68360" y="497664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E2EF8A-AFE2-4A25-BF87-5755D2519713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arget() primitive pointcu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09120" y="1508040"/>
            <a:ext cx="8458200" cy="466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(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TypeName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 | </a:t>
            </a:r>
            <a:r>
              <a:rPr b="0" i="1" lang="en-US" sz="2500" spc="-1" strike="noStrike">
                <a:solidFill>
                  <a:srgbClr val="000000"/>
                </a:solidFill>
                <a:latin typeface="Lucida Console"/>
              </a:rPr>
              <a:t>FormalReference </a:t>
            </a:r>
            <a:r>
              <a:rPr b="0" lang="en-US" sz="2500" spc="-1" strike="noStrike">
                <a:solidFill>
                  <a:srgbClr val="000000"/>
                </a:solidFill>
                <a:latin typeface="Lucida Console"/>
              </a:rPr>
              <a:t>)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does two things: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exposes target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    </a:t>
            </a: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- matches any join point at which target object is an instance of type nam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Line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cc"/>
                </a:solidFill>
                <a:latin typeface="Lucida Console"/>
              </a:rPr>
              <a:t>target</a:t>
            </a:r>
            <a:r>
              <a:rPr b="0" lang="en-US" sz="2200" spc="-1" strike="noStrike">
                <a:solidFill>
                  <a:srgbClr val="000000"/>
                </a:solidFill>
                <a:latin typeface="Lucida Console"/>
              </a:rPr>
              <a:t>(FigureElement)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7FBE87-68ED-487B-A0BC-3354E418D63B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 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expose values at join point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66" name=""/>
          <p:cNvSpPr/>
          <p:nvPr/>
        </p:nvSpPr>
        <p:spPr>
          <a:xfrm>
            <a:off x="531360" y="1758960"/>
            <a:ext cx="6901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i="1" lang="en-US" sz="1800" spc="-1" strike="noStrike">
                <a:solidFill>
                  <a:srgbClr val="ff3300"/>
                </a:solidFill>
                <a:latin typeface="Lucida Console"/>
              </a:rPr>
              <a:t>target(figElt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1F5CA9-7108-48B8-92E1-4AF51E1FDAA7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385560" y="1881360"/>
            <a:ext cx="6901560" cy="3644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igElt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Element.moveBy(int, int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ext &amp; multiple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0" name=""/>
          <p:cNvSpPr/>
          <p:nvPr/>
        </p:nvSpPr>
        <p:spPr>
          <a:xfrm flipH="1">
            <a:off x="3960720" y="7389720"/>
            <a:ext cx="1656000" cy="36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0080" bIns="-1008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967280" y="4689360"/>
            <a:ext cx="39607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rebuchet MS"/>
              </a:rPr>
              <a:t>Taking the FigureElement into ac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3672000" y="4797360"/>
            <a:ext cx="12952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8B32B-32FB-44D3-ACF2-74ED70A55B2F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So far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pturing our update policy, with and without AspectJ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F2B20A-FFC3-4F0B-8745-10682F899A5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Original program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77" name=""/>
          <p:cNvSpPr/>
          <p:nvPr/>
        </p:nvSpPr>
        <p:spPr>
          <a:xfrm>
            <a:off x="6073920" y="1017720"/>
            <a:ext cx="285408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A4BF-69D3-4639-B5D3-F09AB307561B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racking changes in Lin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0" name=""/>
          <p:cNvSpPr/>
          <p:nvPr/>
        </p:nvSpPr>
        <p:spPr>
          <a:xfrm>
            <a:off x="6087960" y="10018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0D3CAF-1B91-4328-9DE6-D6AF79AAC638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5591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Extending it to also support changes in Poi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3" name=""/>
          <p:cNvSpPr/>
          <p:nvPr/>
        </p:nvSpPr>
        <p:spPr>
          <a:xfrm>
            <a:off x="608796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Display.update()</a:t>
            </a:r>
            <a:r>
              <a:rPr b="0" lang="en-US" sz="1000" spc="-1" strike="noStrike">
                <a:solidFill>
                  <a:srgbClr val="99cc00"/>
                </a:solidFill>
                <a:latin typeface="Lucida Console"/>
              </a:rPr>
              <a:t>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0FD84-16B3-4A00-9EE9-914E350A90CD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out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562752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splayUpdating version 3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Recording which object actually chang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22200" indent="-32220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no locus of “display updating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evolution is cumbersom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changes in all class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-26856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have to track &amp; change all caller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98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86" name=""/>
          <p:cNvSpPr/>
          <p:nvPr/>
        </p:nvSpPr>
        <p:spPr>
          <a:xfrm>
            <a:off x="6122880" y="105264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ff3300"/>
                </a:solidFill>
                <a:latin typeface="Lucida Console"/>
              </a:rPr>
              <a:t>Display.update(this)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F1E671-ADC8-418F-90E8-AA5C90D4AEEB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88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C72A56-4F2B-4520-A6DB-7349B0189B3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1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1" name=""/>
          <p:cNvSpPr/>
          <p:nvPr/>
        </p:nvSpPr>
        <p:spPr>
          <a:xfrm>
            <a:off x="320040" y="4230720"/>
            <a:ext cx="5194440" cy="2225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||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81C231-2612-4DF9-8071-F6CDABC0D22D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blems like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86" name=""/>
          <p:cNvSpPr/>
          <p:nvPr/>
        </p:nvSpPr>
        <p:spPr>
          <a:xfrm>
            <a:off x="3327480" y="11714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rcRect l="502" t="4673" r="951" b="39850"/>
          <a:stretch/>
        </p:blipFill>
        <p:spPr>
          <a:xfrm>
            <a:off x="907920" y="1606680"/>
            <a:ext cx="7883640" cy="35510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84360" y="3789360"/>
            <a:ext cx="77724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Trebuchet MS"/>
              </a:rPr>
              <a:t>where is logging in org.apache.tomcat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red shows lines of code that handle logging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in just one pl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rebuchet MS"/>
              </a:rPr>
              <a:t>not even in a small number of pla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776360" y="4941720"/>
            <a:ext cx="1015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ffffff"/>
                </a:solidFill>
                <a:latin typeface="Arial"/>
              </a:rPr>
              <a:t>Courtesy of PARC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78EFB0-EB30-4A9D-ADC9-E8F14BFB20DE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2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5" name=""/>
          <p:cNvSpPr/>
          <p:nvPr/>
        </p:nvSpPr>
        <p:spPr>
          <a:xfrm>
            <a:off x="319680" y="3592440"/>
            <a:ext cx="5407920" cy="2864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FigureElement.moveBy(int, int) ||</a:t>
            </a: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call(void Point.setY(int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) returning: move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932DA7-7B26-4C0A-BBC8-6D8C09C26CEF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th AspectJ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DisplayUpdating version3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lear display updating modu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ll changes in singl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evolution is modula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99" name=""/>
          <p:cNvSpPr/>
          <p:nvPr/>
        </p:nvSpPr>
        <p:spPr>
          <a:xfrm>
            <a:off x="319680" y="3379680"/>
            <a:ext cx="5407920" cy="30776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igElt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target(figElt) &amp;&amp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call(void FigureElement.moveBy(int, int) ||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1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Line.setP2(Point))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X(int))               ||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call(void Point.setY(int))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igureElement 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returning: mov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Display.update(</a:t>
            </a:r>
            <a:r>
              <a:rPr b="0" lang="en-US" sz="1400" spc="-1" strike="noStrike">
                <a:solidFill>
                  <a:srgbClr val="ff3300"/>
                </a:solidFill>
                <a:latin typeface="Lucida Console"/>
              </a:rPr>
              <a:t>fe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6113520" y="1054080"/>
            <a:ext cx="2847600" cy="5393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1() { return p1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Point getP2() { return p2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1(Point p1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1 = p1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setP2(Point p2)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p2 = p2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{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x = 0, y = 0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X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getY() {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return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;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X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x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x = x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set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y) {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.y = y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0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 dy) { … 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77DC40-F311-4AC4-9716-8A721D9021DE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324000" y="1089000"/>
            <a:ext cx="8640720" cy="536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spects </a:t>
            </a:r>
            <a:r>
              <a:rPr b="0" lang="en-US" sz="4400" spc="-1" strike="noStrike" u="sng">
                <a:solidFill>
                  <a:srgbClr val="006699"/>
                </a:solidFill>
                <a:uFillTx/>
                <a:latin typeface="Trebuchet MS"/>
              </a:rPr>
              <a:t>crosscut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 class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809520" y="1219320"/>
            <a:ext cx="53341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 modularity cuts across class modular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04" name=""/>
          <p:cNvSpPr/>
          <p:nvPr/>
        </p:nvSpPr>
        <p:spPr>
          <a:xfrm>
            <a:off x="646200" y="5354640"/>
            <a:ext cx="6948360" cy="799920"/>
          </a:xfrm>
          <a:prstGeom prst="rect">
            <a:avLst/>
          </a:prstGeom>
          <a:noFill/>
          <a:ln w="255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49160" y="138420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Displ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77960" y="2322360"/>
            <a:ext cx="914400" cy="0"/>
          </a:xfrm>
          <a:prstGeom prst="line">
            <a:avLst/>
          </a:prstGeom>
          <a:ln w="19080">
            <a:solidFill>
              <a:srgbClr val="333399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209760" y="2039760"/>
            <a:ext cx="228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*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 flipH="1">
            <a:off x="2567160" y="46782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2620800" y="4281480"/>
            <a:ext cx="3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0" name=""/>
          <p:cNvCxnSpPr/>
          <p:nvPr/>
        </p:nvCxnSpPr>
        <p:spPr>
          <a:xfrm flipV="1">
            <a:off x="1652400" y="3832920"/>
            <a:ext cx="1080" cy="30564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1" name=""/>
          <p:cNvCxnSpPr>
            <a:stCxn id="512" idx="0"/>
          </p:cNvCxnSpPr>
          <p:nvPr/>
        </p:nvCxnSpPr>
        <p:spPr>
          <a:xfrm flipV="1">
            <a:off x="4395600" y="3832920"/>
            <a:ext cx="1080" cy="30420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3" name=""/>
          <p:cNvCxnSpPr/>
          <p:nvPr/>
        </p:nvCxnSpPr>
        <p:spPr>
          <a:xfrm>
            <a:off x="1652760" y="3833280"/>
            <a:ext cx="274392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cxnSp>
        <p:nvCxnSpPr>
          <p:cNvPr id="514" name=""/>
          <p:cNvCxnSpPr/>
          <p:nvPr/>
        </p:nvCxnSpPr>
        <p:spPr>
          <a:xfrm flipV="1">
            <a:off x="4395600" y="3379320"/>
            <a:ext cx="1080" cy="457920"/>
          </a:xfrm>
          <a:prstGeom prst="straightConnector1">
            <a:avLst/>
          </a:prstGeom>
          <a:ln w="19080">
            <a:solidFill>
              <a:srgbClr val="333399"/>
            </a:solidFill>
            <a:miter/>
          </a:ln>
        </p:spPr>
      </p:cxnSp>
      <p:sp>
        <p:nvSpPr>
          <p:cNvPr id="515" name=""/>
          <p:cNvSpPr/>
          <p:nvPr/>
        </p:nvSpPr>
        <p:spPr>
          <a:xfrm>
            <a:off x="7383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383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X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Y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X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Y(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3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481560" y="4149720"/>
            <a:ext cx="1828800" cy="447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i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3481560" y="4748040"/>
            <a:ext cx="1828800" cy="1462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1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etP2(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1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tP2(Point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481560" y="4595760"/>
            <a:ext cx="1828800" cy="152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491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Fig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749160" y="2550960"/>
            <a:ext cx="1828800" cy="9176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Point(..)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keLine(..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749160" y="2548080"/>
            <a:ext cx="1828800" cy="1425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492360" y="2104920"/>
            <a:ext cx="1828800" cy="447840"/>
          </a:xfrm>
          <a:prstGeom prst="rect">
            <a:avLst/>
          </a:prstGeom>
          <a:noFill/>
          <a:ln w="255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333399"/>
                </a:solidFill>
                <a:latin typeface="Arial"/>
              </a:rPr>
              <a:t>FigureElem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4330800" y="3238560"/>
            <a:ext cx="152280" cy="152280"/>
          </a:xfrm>
          <a:prstGeom prst="triangle">
            <a:avLst>
              <a:gd name="adj" fmla="val 50000"/>
            </a:avLst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492360" y="2549520"/>
            <a:ext cx="1828800" cy="6890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oveBy(int, 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492360" y="2544840"/>
            <a:ext cx="1828800" cy="142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3B03F7-91A8-49B4-B290-4665E12A54A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i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609480" y="116064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dditional action to take a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befor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before proceeding at join poin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return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after a join point completes 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 throw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abnormally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ft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en a join point completes (either normally or abnormally)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46464"/>
                </a:solidFill>
                <a:latin typeface="Lucida Console"/>
              </a:rPr>
              <a:t>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20720" indent="-277200"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on arrival at join point gets explicit control over when &amp; if program proceeds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DC170B-613D-4281-AB5A-202D1A07CAD0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95000" y="334800"/>
            <a:ext cx="8458200" cy="7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ntract check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47640" y="141300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What can you use these advice kinds fo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re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parameter is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post-condi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heck whether values were se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46464"/>
                </a:solidFill>
                <a:latin typeface="Trebuchet MS"/>
              </a:rPr>
              <a:t>condition enforcement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force parameters to be valid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3E21B2-BEEE-4449-9024-5F0616F83E54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e-condition: before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2" name=""/>
          <p:cNvSpPr/>
          <p:nvPr/>
        </p:nvSpPr>
        <p:spPr>
          <a:xfrm>
            <a:off x="395280" y="1197000"/>
            <a:ext cx="81723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re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lo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, ..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gt;= MIN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 &lt;= MAX_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gt;= MIN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 &lt;= MAX_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5E1C31-34B6-41DB-B09A-5F773DA67F4E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ost-condition: after advi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34" name=""/>
          <p:cNvSpPr/>
          <p:nvPr/>
        </p:nvSpPr>
        <p:spPr>
          <a:xfrm>
            <a:off x="427680" y="1305000"/>
            <a:ext cx="8547480" cy="3385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PostCondition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X() == newX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Point p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 </a:t>
            </a:r>
            <a:r>
              <a:rPr b="0" lang="en-US" sz="1800" spc="-1" strike="noStrike">
                <a:solidFill>
                  <a:srgbClr val="0000ff"/>
                </a:solidFill>
                <a:latin typeface="Lucida Console"/>
              </a:rPr>
              <a:t>returning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target(p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ser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.getY() == new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56727C-6804-4673-B484-DCB749E45394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358920" y="1711440"/>
            <a:ext cx="785016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Bounds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X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X, MIN_X, MAX_X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ew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new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roceed( clip(newY, MIN_Y, MAX_Y) 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lip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val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in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x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ath.max(min, Math.min(max, val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033560" y="449100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033560" y="3122640"/>
            <a:ext cx="946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99"/>
                </a:solidFill>
                <a:latin typeface="Trebuchet MS"/>
              </a:rPr>
              <a:t>condition enforcement: around advice</a:t>
            </a:r>
            <a:endParaRPr b="0" lang="en-US" sz="38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1C3FB-5C7E-4256-BA27-ACA6BABAB167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method: proceed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609120" y="1368360"/>
            <a:ext cx="8077320" cy="526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for each around advice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aroun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 arg1, T2 arg2, …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re is a special method with the signatur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returnType </a:t>
            </a:r>
            <a:r>
              <a:rPr b="1" lang="en-GB" sz="2400" spc="-1" strike="noStrike">
                <a:solidFill>
                  <a:srgbClr val="0033cc"/>
                </a:solidFill>
                <a:latin typeface="Lucida Console"/>
              </a:rPr>
              <a:t>proceed</a:t>
            </a:r>
            <a:r>
              <a:rPr b="1" lang="en-GB" sz="2400" spc="-1" strike="noStrike">
                <a:solidFill>
                  <a:srgbClr val="000000"/>
                </a:solidFill>
                <a:latin typeface="Lucida Console"/>
              </a:rPr>
              <a:t>(T1, T2, …)</a:t>
            </a:r>
            <a:br>
              <a:rPr sz="2400"/>
            </a:b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vailable only in around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700"/>
              </a:spcBef>
              <a:buClr>
                <a:srgbClr val="646464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means </a:t>
            </a:r>
            <a:r>
              <a:rPr b="0" i="1" lang="en-GB" sz="2800" spc="-1" strike="noStrike">
                <a:solidFill>
                  <a:srgbClr val="646464"/>
                </a:solidFill>
                <a:latin typeface="Trebuchet MS"/>
              </a:rPr>
              <a:t>“run what would have run if this around advice had not been defined”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098709-2ABE-4FFC-8087-8B5F2B18CD7B}" type="slidenum">
              <a:t>58</a:t>
            </a:fld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820080" y="1376280"/>
            <a:ext cx="7313040" cy="3934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Cach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yLookupTable cache = new MyLookupTable(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aroun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y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&amp;&amp; args(x, y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ret = cache.lookup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if (ret ==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ull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ret = proceed(x, y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che.add(x, y, ret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re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2843280" y="3897360"/>
            <a:ext cx="9460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extra: caching with around 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66973B-1878-47E7-9DFD-B4139B99A095}" type="slidenum">
              <a:t>59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itical aspects of large systems don’t fit in traditional module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logging, error handling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ynchroniz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security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memory managemen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formance optimiz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91200" y="2457360"/>
            <a:ext cx="3809520" cy="2608200"/>
            <a:chOff x="5191200" y="2457360"/>
            <a:chExt cx="3809520" cy="2608200"/>
          </a:xfrm>
        </p:grpSpPr>
        <p:pic>
          <p:nvPicPr>
            <p:cNvPr id="193" name="" descr=""/>
            <p:cNvPicPr/>
            <p:nvPr/>
          </p:nvPicPr>
          <p:blipFill>
            <a:blip r:embed="rId2"/>
            <a:srcRect l="502" t="4673" r="951" b="39850"/>
            <a:stretch/>
          </p:blipFill>
          <p:spPr>
            <a:xfrm>
              <a:off x="5191200" y="2457360"/>
              <a:ext cx="3751200" cy="2608200"/>
            </a:xfrm>
            <a:prstGeom prst="rect">
              <a:avLst/>
            </a:prstGeom>
            <a:ln w="12600">
              <a:solidFill>
                <a:srgbClr val="000000"/>
              </a:solidFill>
              <a:miter/>
            </a:ln>
          </p:spPr>
        </p:pic>
        <p:sp>
          <p:nvSpPr>
            <p:cNvPr id="194" name=""/>
            <p:cNvSpPr/>
            <p:nvPr/>
          </p:nvSpPr>
          <p:spPr>
            <a:xfrm>
              <a:off x="5343480" y="4609800"/>
              <a:ext cx="365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logging, security, optimization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B95E5B-A5F5-4DAD-A5B6-7C2899845CD8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07600" y="151920"/>
            <a:ext cx="76201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755280" y="36450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rosscuts of methods with a common property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public/private, return a certain value, in a particular packag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logging, debugging, profiling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log on entry to every </a:t>
            </a:r>
            <a:r>
              <a:rPr b="1" i="1" lang="en-US" sz="2000" spc="-1" strike="noStrike">
                <a:solidFill>
                  <a:srgbClr val="646464"/>
                </a:solidFill>
                <a:latin typeface="Trebuchet MS"/>
              </a:rPr>
              <a:t>public</a:t>
            </a: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 metho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46" name=""/>
          <p:cNvSpPr/>
          <p:nvPr/>
        </p:nvSpPr>
        <p:spPr>
          <a:xfrm>
            <a:off x="539640" y="1484280"/>
            <a:ext cx="3200400" cy="20376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prin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1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oo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240000" y="981000"/>
            <a:ext cx="3256200" cy="25203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sc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2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frotz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bar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724360" y="1341360"/>
            <a:ext cx="3200400" cy="179604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ackage com.parc.cop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C3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…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String s1(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A.doSomething(…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950909-CB95-46F1-A766-BB4EDEAA97A5}" type="slidenum">
              <a:t>60</a:t>
            </a:fld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property-based 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24000" y="4833720"/>
            <a:ext cx="8712000" cy="1616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5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sider code maintenanc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adds a public method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i.e. extends public interface – this code will still work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55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646464"/>
                </a:solidFill>
                <a:latin typeface="Trebuchet MS"/>
              </a:rPr>
              <a:t>another programmer reads this code</a:t>
            </a:r>
            <a:endParaRPr b="0" lang="en-US" sz="22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45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646464"/>
                </a:solidFill>
                <a:latin typeface="Trebuchet MS"/>
              </a:rPr>
              <a:t>what’s really going on” is explicit</a:t>
            </a:r>
            <a:endParaRPr b="0" lang="en-US" sz="1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51" name=""/>
          <p:cNvSpPr/>
          <p:nvPr/>
        </p:nvSpPr>
        <p:spPr>
          <a:xfrm>
            <a:off x="534600" y="148284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warning(e);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neatly captures public interface of my packa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F716AF-8F6D-49B6-B00A-C982437E95C6}" type="slidenum">
              <a:t>61</a:t>
            </a:fld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ildcarding in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5" name=""/>
          <p:cNvSpPr/>
          <p:nvPr/>
        </p:nvSpPr>
        <p:spPr>
          <a:xfrm>
            <a:off x="431640" y="1052640"/>
            <a:ext cx="8521560" cy="43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Poi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geom.*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graphics.ge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target(graphics..*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type in any sub-package of graphic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Point.*(..))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Poi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* *(..))     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public method on any typ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X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Y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Point.set*(*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set*(*)) 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set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Point.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int, int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(..))</a:t>
            </a:r>
            <a:r>
              <a:rPr b="1" lang="en-US" sz="1800" spc="-1" strike="noStrike">
                <a:solidFill>
                  <a:srgbClr val="ffffff"/>
                </a:solidFill>
                <a:latin typeface="Lucida Console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y constru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347440" y="3430440"/>
            <a:ext cx="28602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*” is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“</a:t>
            </a:r>
            <a:r>
              <a:rPr b="0" lang="en-US" sz="1800" spc="-1" strike="noStrike">
                <a:solidFill>
                  <a:srgbClr val="0033cc"/>
                </a:solidFill>
                <a:latin typeface="Trebuchet MS"/>
              </a:rPr>
              <a:t>..” is multi-part wild car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5A793F-B7C9-45F8-BDE7-A446A22B212D}" type="slidenum">
              <a:t>62</a:t>
            </a:fld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pecial value: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84280" y="1596600"/>
            <a:ext cx="7772400" cy="35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flective access to the join point from advi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Methods like: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Signature  getSignature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Lucida Console"/>
              </a:rPr>
              <a:t>Object[]   getArgs(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46464"/>
                </a:solidFill>
                <a:latin typeface="Trebuchet MS"/>
              </a:rPr>
              <a:t>Related ‘thisJoinPointStaticPart’ provides only statically determinable por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646464"/>
                </a:solidFill>
                <a:latin typeface="Trebuchet MS"/>
              </a:rPr>
              <a:t>better performing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D8F12-94A3-4BCF-9F5E-BFB5B1C252AE}" type="slidenum">
              <a:t>63</a:t>
            </a:fld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using thisJoinPoi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0" name=""/>
          <p:cNvSpPr/>
          <p:nvPr/>
        </p:nvSpPr>
        <p:spPr>
          <a:xfrm>
            <a:off x="319680" y="1125360"/>
            <a:ext cx="8547480" cy="3842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ger log = Logger.global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publicInterface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public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* com.bigboxco..*.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  <a:ea typeface="Times New Roman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() throwing (Error e): publicInterface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log.throwing(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DeclaringTyp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thisJoinPoint.getSignature().getName()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e)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  <a:ea typeface="Times New Roman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959280" y="4184640"/>
            <a:ext cx="489276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33cc"/>
                </a:solidFill>
                <a:latin typeface="Trebuchet MS"/>
              </a:rPr>
              <a:t>using thisJoinPoint makes it possible for the advice to recover information about where it is runn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C160F1-616E-4B6A-90E7-1F24541B1CF9}" type="slidenum">
              <a:t>64</a:t>
            </a:fld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39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y join point at which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object is an instance of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contained within type nam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-23976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currently executing code is specified methods or constructor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ield reference or assignment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4" name=""/>
          <p:cNvSpPr/>
          <p:nvPr/>
        </p:nvSpPr>
        <p:spPr>
          <a:xfrm>
            <a:off x="1440000" y="1197000"/>
            <a:ext cx="838188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this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TypeNam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withincode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Member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g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set( </a:t>
            </a:r>
            <a:r>
              <a:rPr b="1" i="1" lang="en-US" sz="2400" spc="-1" strike="noStrike">
                <a:solidFill>
                  <a:srgbClr val="ffffff"/>
                </a:solidFill>
                <a:latin typeface="Lucida Console"/>
              </a:rPr>
              <a:t>FieldSignature </a:t>
            </a:r>
            <a:r>
              <a:rPr b="1" lang="en-US" sz="2400" spc="-1" strike="noStrike">
                <a:solidFill>
                  <a:srgbClr val="ffffff"/>
                </a:solidFill>
                <a:latin typeface="Lucida Console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A4EA96-945C-46FC-ABB6-715E5A961283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nsure that creation of figure elements is done through the factory method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67" name=""/>
          <p:cNvSpPr/>
          <p:nvPr/>
        </p:nvSpPr>
        <p:spPr>
          <a:xfrm>
            <a:off x="503280" y="2997360"/>
            <a:ext cx="8209080" cy="17398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igure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  makeLine(Line p1, Line p2)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.. 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ublic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makePoint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x,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int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y)    {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new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9314A1-53AE-4255-8122-1B60990796C3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Easy to police with a run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but can we do better?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0" name=""/>
          <p:cNvSpPr/>
          <p:nvPr/>
        </p:nvSpPr>
        <p:spPr>
          <a:xfrm>
            <a:off x="468360" y="2565360"/>
            <a:ext cx="81057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): illegalNewFigElt(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hrow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("Use factory method instead."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10C82A-A46B-46DC-B7DD-28045D46AEC8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233000"/>
            <a:ext cx="8229600" cy="43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Can report as a compile time error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Using ‘declare warning/error’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76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ust be a statically resolvable pointcu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3" name=""/>
          <p:cNvSpPr/>
          <p:nvPr/>
        </p:nvSpPr>
        <p:spPr>
          <a:xfrm>
            <a:off x="1141920" y="2276640"/>
            <a:ext cx="676440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Point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|| call(Line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 flipH="1" flipV="1">
            <a:off x="6227280" y="3933720"/>
            <a:ext cx="129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0D824C-3DBB-4D4E-B9F8-8C761B0FD9ED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More generally applicabl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policing all figure 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77" name=""/>
          <p:cNvSpPr/>
          <p:nvPr/>
        </p:nvSpPr>
        <p:spPr>
          <a:xfrm>
            <a:off x="1677600" y="2529000"/>
            <a:ext cx="5529960" cy="2562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actory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FigureElement+.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..)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amp;&amp; !withincode(* Figure.make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error: illegalNewFigElt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factory method instead.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245360" y="2492280"/>
            <a:ext cx="1719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‘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+’ means this type and all subtyp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6192360" y="2781360"/>
            <a:ext cx="129564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4ABAFE-99CB-44FB-BA90-900218091521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99"/>
                </a:solidFill>
                <a:latin typeface="Trebuchet MS"/>
              </a:rPr>
              <a:t>the problem of crosscutting concern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46464"/>
                </a:solidFill>
                <a:latin typeface="Trebuchet MS"/>
              </a:rPr>
              <a:t>tangled code has a cost</a:t>
            </a:r>
            <a:endParaRPr b="0" lang="en-US" sz="36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understan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ifficult to chan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increases with size of system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maintenance costs are hu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E17265-9C1D-4A74-B82D-5A58A5FCEC51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fine-grained protec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‘</a:t>
            </a: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Local enforcement’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582" name=""/>
          <p:cNvSpPr/>
          <p:nvPr/>
        </p:nvSpPr>
        <p:spPr>
          <a:xfrm>
            <a:off x="287280" y="1952640"/>
            <a:ext cx="8640720" cy="44830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x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y) { ...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terEnforcement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error: set(Point Line.*) &amp;&amp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       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!withincode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*(Point)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"Use setter method, even inside Line class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9E69D19-5BD9-448A-AA6C-7D239847D237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more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method/constructor execu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execu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void Point.setX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object initialization join poin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.new(int)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class initialization join points (as the class is loaded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staticinitialization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7A4BA-1633-4017-B0F1-A912793EF523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join points: call and execu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586" name=""/>
          <p:cNvSpPr/>
          <p:nvPr/>
        </p:nvSpPr>
        <p:spPr>
          <a:xfrm>
            <a:off x="6948360" y="4329000"/>
            <a:ext cx="2016360" cy="80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7020000" y="440064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020000" y="4797360"/>
            <a:ext cx="245880" cy="28728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87280"/>
              <a:gd name="textAreaBottom" fmla="*/ 275400 h 287280"/>
            </a:gdLst>
            <a:ahLst/>
            <a:rect l="textAreaLeft" t="textAreaTop" r="textAreaRight" b="textAreaBottom"/>
            <a:pathLst>
              <a:path w="21600" h="25232">
                <a:moveTo>
                  <a:pt x="3600" y="0"/>
                </a:moveTo>
                <a:arcTo wR="3600" hR="3600" stAng="16200000" swAng="-5400000"/>
                <a:lnTo>
                  <a:pt x="0" y="21632"/>
                </a:lnTo>
                <a:arcTo wR="3600" hR="3600" stAng="10800000" swAng="-5400000"/>
                <a:lnTo>
                  <a:pt x="18000" y="252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201080" y="4365720"/>
            <a:ext cx="1834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execu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201080" y="4761000"/>
            <a:ext cx="1763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Method cal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051000" y="21798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467080" y="1771560"/>
            <a:ext cx="0" cy="3552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2087640" y="1484280"/>
            <a:ext cx="75708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L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343240" y="2057400"/>
            <a:ext cx="245880" cy="297972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2979720"/>
              <a:gd name="textAreaBottom" fmla="*/ 2967840 h 2979720"/>
            </a:gdLst>
            <a:ahLst/>
            <a:rect l="textAreaLeft" t="textAreaTop" r="textAreaRight" b="textAreaBottom"/>
            <a:pathLst>
              <a:path w="21600" h="261411">
                <a:moveTo>
                  <a:pt x="3600" y="0"/>
                </a:moveTo>
                <a:arcTo wR="3600" hR="3600" stAng="16200000" swAng="-5400000"/>
                <a:lnTo>
                  <a:pt x="0" y="257811"/>
                </a:lnTo>
                <a:arcTo wR="3600" hR="3600" stAng="10800000" swAng="-5400000"/>
                <a:lnTo>
                  <a:pt x="18000" y="26141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343240" y="2400480"/>
            <a:ext cx="245880" cy="22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716360" y="177336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211640" y="1484280"/>
            <a:ext cx="100800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465280" y="2573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465280" y="3662280"/>
            <a:ext cx="247680" cy="801720"/>
          </a:xfrm>
          <a:custGeom>
            <a:avLst/>
            <a:gdLst>
              <a:gd name="textAreaLeft" fmla="*/ 11880 w 247680"/>
              <a:gd name="textAreaRight" fmla="*/ 235800 w 247680"/>
              <a:gd name="textAreaTop" fmla="*/ 11880 h 801720"/>
              <a:gd name="textAreaBottom" fmla="*/ 789840 h 801720"/>
            </a:gdLst>
            <a:ahLst/>
            <a:rect l="textAreaLeft" t="textAreaTop" r="textAreaRight" b="textAreaBottom"/>
            <a:pathLst>
              <a:path w="21600" h="69847">
                <a:moveTo>
                  <a:pt x="3600" y="0"/>
                </a:moveTo>
                <a:arcTo wR="3600" hR="3600" stAng="16200000" swAng="-5400000"/>
                <a:lnTo>
                  <a:pt x="0" y="66247"/>
                </a:lnTo>
                <a:arcTo wR="3600" hR="3600" stAng="10800000" swAng="-5400000"/>
                <a:lnTo>
                  <a:pt x="18000" y="698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00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4592520" y="2633760"/>
            <a:ext cx="246240" cy="687240"/>
          </a:xfrm>
          <a:custGeom>
            <a:avLst/>
            <a:gdLst>
              <a:gd name="textAreaLeft" fmla="*/ 11880 w 246240"/>
              <a:gd name="textAreaRight" fmla="*/ 234360 w 24624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228">
                <a:moveTo>
                  <a:pt x="3600" y="0"/>
                </a:moveTo>
                <a:arcTo wR="3600" hR="3600" stAng="16200000" swAng="-5400000"/>
                <a:lnTo>
                  <a:pt x="0" y="56628"/>
                </a:lnTo>
                <a:arcTo wR="3600" hR="3600" stAng="10800000" swAng="-5400000"/>
                <a:lnTo>
                  <a:pt x="18000" y="6022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4592520" y="2747880"/>
            <a:ext cx="24624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302520" y="1765440"/>
            <a:ext cx="0" cy="3554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797440" y="1479600"/>
            <a:ext cx="1006560" cy="398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cc"/>
                </a:solidFill>
                <a:latin typeface="Arial"/>
              </a:rPr>
              <a:t>Point 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8680" y="3714840"/>
            <a:ext cx="245880" cy="687240"/>
          </a:xfrm>
          <a:custGeom>
            <a:avLst/>
            <a:gdLst>
              <a:gd name="textAreaLeft" fmla="*/ 11880 w 245880"/>
              <a:gd name="textAreaRight" fmla="*/ 234000 w 245880"/>
              <a:gd name="textAreaTop" fmla="*/ 11880 h 687240"/>
              <a:gd name="textAreaBottom" fmla="*/ 675360 h 687240"/>
            </a:gdLst>
            <a:ahLst/>
            <a:rect l="textAreaLeft" t="textAreaTop" r="textAreaRight" b="textAreaBottom"/>
            <a:pathLst>
              <a:path w="21600" h="60316">
                <a:moveTo>
                  <a:pt x="3600" y="0"/>
                </a:moveTo>
                <a:arcTo wR="3600" hR="3600" stAng="16200000" swAng="-5400000"/>
                <a:lnTo>
                  <a:pt x="0" y="56716"/>
                </a:lnTo>
                <a:arcTo wR="3600" hR="3600" stAng="10800000" swAng="-5400000"/>
                <a:lnTo>
                  <a:pt x="18000" y="6031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00c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78680" y="3828960"/>
            <a:ext cx="245880" cy="4590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92360" y="2637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92360" y="371628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592000" y="4400640"/>
            <a:ext cx="370836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 flipH="1">
            <a:off x="2592360" y="3321000"/>
            <a:ext cx="2124000" cy="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139760" y="2052720"/>
            <a:ext cx="1308240" cy="7920"/>
          </a:xfrm>
          <a:prstGeom prst="line">
            <a:avLst/>
          </a:prstGeom>
          <a:ln w="2232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1139760" y="5032440"/>
            <a:ext cx="1308240" cy="17280"/>
          </a:xfrm>
          <a:prstGeom prst="line">
            <a:avLst/>
          </a:prstGeom>
          <a:ln w="22320">
            <a:solidFill>
              <a:srgbClr val="000000"/>
            </a:solidFill>
            <a:prstDash val="dash"/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42920" y="1341360"/>
            <a:ext cx="1908000" cy="73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rebuchet MS"/>
              </a:rPr>
              <a:t>imagine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Lucida Console"/>
              </a:rPr>
              <a:t>l.moveBy(2,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916360" y="234936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1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695840" y="3429000"/>
            <a:ext cx="210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Lucida Console"/>
              </a:rPr>
              <a:t>p2.moveBy(2,2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7056360" y="3933720"/>
            <a:ext cx="180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rebuchet MS"/>
              </a:rPr>
              <a:t>Join poi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2EC2153-B950-4963-AE26-B6CDC9B3E3E1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ther primitive pointcu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6840" y="1341360"/>
            <a:ext cx="447516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of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23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cflowbelow</a:t>
            </a:r>
            <a:r>
              <a:rPr b="0" lang="en-GB" sz="2400" spc="-1" strike="noStrike">
                <a:solidFill>
                  <a:srgbClr val="000000"/>
                </a:solidFill>
                <a:latin typeface="Lucida Console"/>
              </a:rPr>
              <a:t>(pointcut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“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ll join points in the dynamic control flow below any join point picked out by the specified pointcut”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cc"/>
                </a:solidFill>
                <a:latin typeface="Lucida Console"/>
              </a:rPr>
              <a:t>  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288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grpSp>
        <p:nvGrpSpPr>
          <p:cNvPr id="618" name=""/>
          <p:cNvGrpSpPr/>
          <p:nvPr/>
        </p:nvGrpSpPr>
        <p:grpSpPr>
          <a:xfrm>
            <a:off x="4716000" y="3465360"/>
            <a:ext cx="3657960" cy="1884240"/>
            <a:chOff x="4716000" y="3465360"/>
            <a:chExt cx="3657960" cy="1884240"/>
          </a:xfrm>
        </p:grpSpPr>
        <p:sp>
          <p:nvSpPr>
            <p:cNvPr id="619" name=""/>
            <p:cNvSpPr/>
            <p:nvPr/>
          </p:nvSpPr>
          <p:spPr>
            <a:xfrm flipH="1">
              <a:off x="5034960" y="457812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flipH="1">
              <a:off x="4982400" y="4630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flipH="1">
              <a:off x="4925880" y="469080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flipH="1">
              <a:off x="4715640" y="403380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flipH="1">
              <a:off x="7870680" y="40100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flipH="1">
              <a:off x="7817760" y="4062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flipH="1">
              <a:off x="7760520" y="412272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flipH="1">
              <a:off x="7551720" y="34653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flipH="1">
              <a:off x="6031800" y="43718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flipH="1">
              <a:off x="5979960" y="442404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H="1">
              <a:off x="5922360" y="44845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H="1">
              <a:off x="5713560" y="382716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40440" y="419076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173560" y="425124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6110280" y="375912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319880" y="362556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7605720" y="367164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6183360" y="368604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6219720" y="425448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H="1">
              <a:off x="7870680" y="504324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H="1">
              <a:off x="7817760" y="5095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H="1">
              <a:off x="7760520" y="515592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H="1">
              <a:off x="7551720" y="449892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7156440" y="453708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6261120" y="428292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H="1" rot="5358600">
              <a:off x="7922160" y="408312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 rot="5358600">
              <a:off x="5153400" y="468720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 rot="5358600">
              <a:off x="6138360" y="448380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 rot="5358600">
              <a:off x="6241680" y="448848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 flipH="1" rot="5358600">
              <a:off x="7820280" y="513288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rot="5358600">
              <a:off x="5949720" y="445104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0" name=""/>
          <p:cNvGrpSpPr/>
          <p:nvPr/>
        </p:nvGrpSpPr>
        <p:grpSpPr>
          <a:xfrm>
            <a:off x="4738320" y="1285920"/>
            <a:ext cx="3657960" cy="1884240"/>
            <a:chOff x="4738320" y="1285920"/>
            <a:chExt cx="3657960" cy="1884240"/>
          </a:xfrm>
        </p:grpSpPr>
        <p:sp>
          <p:nvSpPr>
            <p:cNvPr id="651" name=""/>
            <p:cNvSpPr/>
            <p:nvPr/>
          </p:nvSpPr>
          <p:spPr>
            <a:xfrm flipH="1">
              <a:off x="5057280" y="239868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5004720" y="245124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948200" y="2511360"/>
              <a:ext cx="38448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4737960" y="1854360"/>
              <a:ext cx="82260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 flipH="1">
              <a:off x="7893000" y="18306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7840080" y="18828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7782840" y="1943280"/>
              <a:ext cx="384120" cy="9504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574040" y="12859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6054120" y="219240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6002280" y="2244600"/>
              <a:ext cx="384480" cy="9396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5944680" y="23050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5735880" y="1647720"/>
              <a:ext cx="822240" cy="85104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62760" y="2011320"/>
              <a:ext cx="934920" cy="532080"/>
            </a:xfrm>
            <a:custGeom>
              <a:avLst/>
              <a:gdLst/>
              <a:ahLst/>
              <a:rect l="l" t="t" r="r" b="b"/>
              <a:pathLst>
                <a:path w="1185" h="651">
                  <a:moveTo>
                    <a:pt x="0" y="651"/>
                  </a:moveTo>
                  <a:lnTo>
                    <a:pt x="762" y="0"/>
                  </a:lnTo>
                  <a:lnTo>
                    <a:pt x="1185" y="417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95880" y="2071800"/>
              <a:ext cx="863640" cy="503280"/>
            </a:xfrm>
            <a:custGeom>
              <a:avLst/>
              <a:gdLst/>
              <a:ahLst/>
              <a:rect l="l" t="t" r="r" b="b"/>
              <a:pathLst>
                <a:path w="1093" h="617">
                  <a:moveTo>
                    <a:pt x="0" y="617"/>
                  </a:moveTo>
                  <a:lnTo>
                    <a:pt x="712" y="0"/>
                  </a:lnTo>
                  <a:lnTo>
                    <a:pt x="1093" y="351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132600" y="1579680"/>
              <a:ext cx="1247760" cy="795240"/>
            </a:xfrm>
            <a:custGeom>
              <a:avLst/>
              <a:gdLst/>
              <a:ahLst/>
              <a:rect l="l" t="t" r="r" b="b"/>
              <a:pathLst>
                <a:path w="1528" h="974">
                  <a:moveTo>
                    <a:pt x="0" y="974"/>
                  </a:moveTo>
                  <a:lnTo>
                    <a:pt x="441" y="401"/>
                  </a:lnTo>
                  <a:lnTo>
                    <a:pt x="152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342200" y="1446120"/>
              <a:ext cx="695520" cy="547920"/>
            </a:xfrm>
            <a:custGeom>
              <a:avLst/>
              <a:gdLst/>
              <a:ahLst/>
              <a:rect l="l" t="t" r="r" b="b"/>
              <a:pathLst>
                <a:path w="881" h="669">
                  <a:moveTo>
                    <a:pt x="0" y="174"/>
                  </a:moveTo>
                  <a:lnTo>
                    <a:pt x="406" y="0"/>
                  </a:lnTo>
                  <a:lnTo>
                    <a:pt x="881" y="66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628040" y="1492200"/>
              <a:ext cx="368280" cy="520920"/>
            </a:xfrm>
            <a:custGeom>
              <a:avLst/>
              <a:gdLst/>
              <a:ahLst/>
              <a:rect l="l" t="t" r="r" b="b"/>
              <a:pathLst>
                <a:path w="467" h="638">
                  <a:moveTo>
                    <a:pt x="0" y="0"/>
                  </a:moveTo>
                  <a:lnTo>
                    <a:pt x="467" y="638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6205680" y="1506600"/>
              <a:ext cx="1457280" cy="830160"/>
            </a:xfrm>
            <a:custGeom>
              <a:avLst/>
              <a:gdLst/>
              <a:ahLst/>
              <a:rect l="l" t="t" r="r" b="b"/>
              <a:pathLst>
                <a:path w="1798" h="1062">
                  <a:moveTo>
                    <a:pt x="0" y="1062"/>
                  </a:moveTo>
                  <a:lnTo>
                    <a:pt x="375" y="552"/>
                  </a:lnTo>
                  <a:lnTo>
                    <a:pt x="1798" y="0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6242040" y="2075040"/>
              <a:ext cx="1011240" cy="338040"/>
            </a:xfrm>
            <a:custGeom>
              <a:avLst/>
              <a:gdLst/>
              <a:ahLst/>
              <a:rect l="l" t="t" r="r" b="b"/>
              <a:pathLst>
                <a:path w="1216" h="402">
                  <a:moveTo>
                    <a:pt x="0" y="335"/>
                  </a:moveTo>
                  <a:lnTo>
                    <a:pt x="322" y="0"/>
                  </a:lnTo>
                  <a:lnTo>
                    <a:pt x="1216" y="402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>
              <a:off x="7893000" y="2863800"/>
              <a:ext cx="38448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>
              <a:off x="7840080" y="2916360"/>
              <a:ext cx="384120" cy="936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>
              <a:off x="7782840" y="2976480"/>
              <a:ext cx="384120" cy="95400"/>
            </a:xfrm>
            <a:prstGeom prst="rect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>
              <a:off x="7574040" y="2319480"/>
              <a:ext cx="822240" cy="850680"/>
            </a:xfrm>
            <a:prstGeom prst="ellipse">
              <a:avLst/>
            </a:prstGeom>
            <a:noFill/>
            <a:ln w="190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178760" y="2357640"/>
              <a:ext cx="762120" cy="652320"/>
            </a:xfrm>
            <a:custGeom>
              <a:avLst/>
              <a:gdLst/>
              <a:ahLst/>
              <a:rect l="l" t="t" r="r" b="b"/>
              <a:pathLst>
                <a:path w="965" h="799">
                  <a:moveTo>
                    <a:pt x="0" y="0"/>
                  </a:moveTo>
                  <a:lnTo>
                    <a:pt x="552" y="269"/>
                  </a:lnTo>
                  <a:lnTo>
                    <a:pt x="965" y="799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283440" y="2103480"/>
              <a:ext cx="1630440" cy="911160"/>
            </a:xfrm>
            <a:custGeom>
              <a:avLst/>
              <a:gdLst/>
              <a:ahLst/>
              <a:rect l="l" t="t" r="r" b="b"/>
              <a:pathLst>
                <a:path w="2064" h="1116">
                  <a:moveTo>
                    <a:pt x="0" y="294"/>
                  </a:moveTo>
                  <a:lnTo>
                    <a:pt x="288" y="0"/>
                  </a:lnTo>
                  <a:lnTo>
                    <a:pt x="1697" y="642"/>
                  </a:lnTo>
                  <a:lnTo>
                    <a:pt x="2064" y="1116"/>
                  </a:lnTo>
                </a:path>
              </a:pathLst>
            </a:custGeom>
            <a:noFill/>
            <a:ln w="19080">
              <a:solidFill>
                <a:srgbClr val="80808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flipH="1" rot="5358600">
              <a:off x="7944480" y="1903680"/>
              <a:ext cx="36360" cy="860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flipH="1" rot="5358600">
              <a:off x="5175720" y="2507760"/>
              <a:ext cx="363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flipH="1" rot="5358600">
              <a:off x="6160680" y="2304360"/>
              <a:ext cx="36720" cy="856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400" bIns="144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flipH="1" rot="5358600">
              <a:off x="6264000" y="2309040"/>
              <a:ext cx="38160" cy="8424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960" bIns="129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flipH="1" rot="5358600">
              <a:off x="7842600" y="2953440"/>
              <a:ext cx="381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flipH="1" rot="5358600">
              <a:off x="5972040" y="2271600"/>
              <a:ext cx="36360" cy="8388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2" name=""/>
          <p:cNvSpPr/>
          <p:nvPr/>
        </p:nvSpPr>
        <p:spPr>
          <a:xfrm>
            <a:off x="4967280" y="119700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31" y="1286"/>
                  <a:pt x="1869" y="1209"/>
                  <a:pt x="1833" y="1216"/>
                </a:cubicBezTo>
                <a:cubicBezTo>
                  <a:pt x="1797" y="1223"/>
                  <a:pt x="1807" y="1253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61" y="980"/>
                  <a:pt x="42" y="937"/>
                </a:cubicBezTo>
                <a:cubicBezTo>
                  <a:pt x="22" y="894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4944960" y="3300480"/>
            <a:ext cx="3206880" cy="2041560"/>
          </a:xfrm>
          <a:custGeom>
            <a:avLst/>
            <a:gdLst/>
            <a:ahLst/>
            <a:rect l="l" t="t" r="r" b="b"/>
            <a:pathLst>
              <a:path w="2020" h="1286">
                <a:moveTo>
                  <a:pt x="30" y="789"/>
                </a:moveTo>
                <a:cubicBezTo>
                  <a:pt x="60" y="714"/>
                  <a:pt x="163" y="491"/>
                  <a:pt x="278" y="453"/>
                </a:cubicBezTo>
                <a:cubicBezTo>
                  <a:pt x="393" y="415"/>
                  <a:pt x="536" y="616"/>
                  <a:pt x="720" y="560"/>
                </a:cubicBezTo>
                <a:cubicBezTo>
                  <a:pt x="904" y="504"/>
                  <a:pt x="1207" y="196"/>
                  <a:pt x="1382" y="117"/>
                </a:cubicBezTo>
                <a:cubicBezTo>
                  <a:pt x="1557" y="38"/>
                  <a:pt x="1668" y="0"/>
                  <a:pt x="1770" y="87"/>
                </a:cubicBezTo>
                <a:cubicBezTo>
                  <a:pt x="1872" y="174"/>
                  <a:pt x="1964" y="459"/>
                  <a:pt x="1992" y="640"/>
                </a:cubicBezTo>
                <a:cubicBezTo>
                  <a:pt x="2020" y="821"/>
                  <a:pt x="1981" y="1076"/>
                  <a:pt x="1935" y="1171"/>
                </a:cubicBezTo>
                <a:cubicBezTo>
                  <a:pt x="1929" y="1286"/>
                  <a:pt x="1899" y="1247"/>
                  <a:pt x="1863" y="1254"/>
                </a:cubicBezTo>
                <a:cubicBezTo>
                  <a:pt x="1827" y="1261"/>
                  <a:pt x="1812" y="1259"/>
                  <a:pt x="1718" y="1211"/>
                </a:cubicBezTo>
                <a:cubicBezTo>
                  <a:pt x="1281" y="968"/>
                  <a:pt x="1432" y="1037"/>
                  <a:pt x="1296" y="965"/>
                </a:cubicBezTo>
                <a:cubicBezTo>
                  <a:pt x="1188" y="892"/>
                  <a:pt x="1164" y="795"/>
                  <a:pt x="1068" y="771"/>
                </a:cubicBezTo>
                <a:cubicBezTo>
                  <a:pt x="972" y="747"/>
                  <a:pt x="873" y="777"/>
                  <a:pt x="720" y="823"/>
                </a:cubicBezTo>
                <a:cubicBezTo>
                  <a:pt x="567" y="869"/>
                  <a:pt x="339" y="998"/>
                  <a:pt x="236" y="1011"/>
                </a:cubicBezTo>
                <a:cubicBezTo>
                  <a:pt x="133" y="1024"/>
                  <a:pt x="251" y="846"/>
                  <a:pt x="232" y="803"/>
                </a:cubicBezTo>
                <a:cubicBezTo>
                  <a:pt x="212" y="760"/>
                  <a:pt x="0" y="864"/>
                  <a:pt x="30" y="789"/>
                </a:cubicBezTo>
                <a:close/>
              </a:path>
            </a:pathLst>
          </a:custGeom>
          <a:noFill/>
          <a:ln w="2844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916495E-A63D-40AF-83B6-B0154646F71B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ly top-level move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4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86" name=""/>
          <p:cNvSpPr/>
          <p:nvPr/>
        </p:nvSpPr>
        <p:spPr>
          <a:xfrm>
            <a:off x="322200" y="1913040"/>
            <a:ext cx="8605800" cy="44982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cut topLevelMove(FigureElement fe):</a:t>
            </a:r>
            <a:br>
              <a:rPr sz="1800"/>
            </a:b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    move(fe) &amp;&amp; !cflowbelow(move(FigureElement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topLevel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76C47F-F371-4B0C-A59A-3B9CE0614795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…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Java5 introduced many changes to the Java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Generics, enum types, varargs support, covariance, autoboxing, annotation typ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ll of these feature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AspectJ language has been extended to enable exploitation of these new features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4" marL="183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For all the details: see the AspectJ5 quick reference guide and AspectJ5 developers notebook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60960" indent="-254160">
              <a:lnSpc>
                <a:spcPct val="90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2"/>
              </a:rPr>
              <a:t>http://</a:t>
            </a:r>
            <a:r>
              <a:rPr b="0" lang="en-GB" sz="2800" spc="-1" strike="noStrike" u="sng">
                <a:solidFill>
                  <a:srgbClr val="009999"/>
                </a:solidFill>
                <a:uFillTx/>
                <a:latin typeface="Trebuchet MS"/>
                <a:hlinkClick r:id="rId3"/>
              </a:rPr>
              <a:t>eclipse.org/aspectj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05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B244A7-4E3A-4D72-85A5-444FE6F211D1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20560" y="1625760"/>
            <a:ext cx="77724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ava 5 introduces annotations to the Java languag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s are metadata that can be attached to various Java language constru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5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646464"/>
                </a:solidFill>
                <a:latin typeface="Trebuchet MS"/>
              </a:rPr>
              <a:t>methods, fields, types, parameters, constructors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spectJ5 extends the pointcut language to support join point matching based to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9A073A-0130-4FCD-9969-DB3747EE1680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693" name=""/>
          <p:cNvSpPr/>
          <p:nvPr/>
        </p:nvSpPr>
        <p:spPr>
          <a:xfrm>
            <a:off x="287280" y="2276640"/>
            <a:ext cx="5334120" cy="42087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@interfac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MovingOperation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{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clas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 implements FigureElement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 p1, p2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1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1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Point getP2() {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return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2; 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1(Point p1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1 = p1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@MovingOper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P2(Point p2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thi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.p2 = p2;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 flipH="1" flipV="1">
            <a:off x="4464000" y="2457000"/>
            <a:ext cx="2362320" cy="83844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6732720" y="2997360"/>
            <a:ext cx="15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Defining an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588000" y="4005360"/>
            <a:ext cx="223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cc"/>
                </a:solidFill>
                <a:latin typeface="Trebuchet MS"/>
              </a:rPr>
              <a:t>Marking methods with the annot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flipH="1" flipV="1">
            <a:off x="3058920" y="4113360"/>
            <a:ext cx="3600360" cy="28728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 flipH="1">
            <a:off x="3058920" y="4437000"/>
            <a:ext cx="3600360" cy="792360"/>
          </a:xfrm>
          <a:prstGeom prst="line">
            <a:avLst/>
          </a:prstGeom>
          <a:ln w="1584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25C49A-5304-4DED-97D2-49472A90A91C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: matching on annot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0" name=""/>
          <p:cNvSpPr/>
          <p:nvPr/>
        </p:nvSpPr>
        <p:spPr>
          <a:xfrm>
            <a:off x="1249560" y="3268800"/>
            <a:ext cx="6627240" cy="2562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e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fe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3300"/>
                </a:solidFill>
                <a:latin typeface="Lucida Console"/>
              </a:rPr>
              <a:t>call(@MovingOperation 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 returning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uppose methods that ‘move’ figure elements are tagged with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Pointcuts can now be written to match on annotation properties of the pointcut rather than the nam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B73A10-83CD-4427-B64B-BDCF4AB0C275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99"/>
                </a:solidFill>
                <a:latin typeface="Trebuchet MS"/>
              </a:rPr>
              <a:t>Java5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New pointcut primitives have been created to make working with annotated join points even easier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@within, @withincode, @this, @target, @args, @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3C8469-C9C2-47DE-8C2F-A5E875DED8A6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e AOP idea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is inherent in complex system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crosscutting concer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clear purpos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have a natural structure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E3E530-6841-4B94-A552-CD2D1226AD58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06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3920" y="3260880"/>
            <a:ext cx="4295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99cc00"/>
                </a:solidFill>
                <a:latin typeface="Lucida Console"/>
              </a:rPr>
              <a:t>           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265C2E-2714-4FFC-A13D-59BBC6370FA8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ter-type declaration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like member declarations, but with a </a:t>
            </a:r>
            <a:r>
              <a:rPr b="0" i="1" lang="en-US" sz="3200" spc="-1" strike="noStrike">
                <a:solidFill>
                  <a:srgbClr val="646464"/>
                </a:solidFill>
                <a:latin typeface="Trebuchet MS"/>
              </a:rPr>
              <a:t>TargetType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0" name=""/>
          <p:cNvSpPr/>
          <p:nvPr/>
        </p:nvSpPr>
        <p:spPr>
          <a:xfrm>
            <a:off x="2346480" y="3821040"/>
            <a:ext cx="34448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1754280" y="3260880"/>
            <a:ext cx="4295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long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l = 37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void </a:t>
            </a:r>
            <a:r>
              <a:rPr b="0" i="1" lang="en-US" sz="2000" spc="-1" strike="noStrike">
                <a:solidFill>
                  <a:srgbClr val="0033cc"/>
                </a:solidFill>
                <a:latin typeface="Lucida Console"/>
              </a:rPr>
              <a:t>TargetType</a:t>
            </a:r>
            <a:r>
              <a:rPr b="0" lang="en-US" sz="2000" spc="-1" strike="noStrike">
                <a:solidFill>
                  <a:srgbClr val="ffffff"/>
                </a:solidFill>
                <a:latin typeface="Lucida Console"/>
              </a:rPr>
              <a:t>.m() { ...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FBDB73-C319-472F-B828-A771B51C84A5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353160" y="2816280"/>
            <a:ext cx="7724520" cy="3629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static 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move(FigureElement figElt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&lt;as before&gt;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FigureElement fe): move(fe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fe.display.update(f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 display per figure element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5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The aspect makes an inter-type declaration of a display field onto all FigureElement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CE16D0-5776-489F-9F76-81B847E0C574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ommon ITD field idiom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display field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s a field in objects of type FigureElement…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…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but belongs to DisplayUpdating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o, DisplayUpdating should provide getter/sette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17" name=""/>
          <p:cNvSpPr/>
          <p:nvPr/>
        </p:nvSpPr>
        <p:spPr>
          <a:xfrm>
            <a:off x="287280" y="3200400"/>
            <a:ext cx="8569440" cy="33260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Display FigureElement.display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et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 = d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fe.display.update(fe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>
            <a:off x="6119640" y="4365720"/>
            <a:ext cx="2465640" cy="131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private with respect to enclosing aspect declar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5616720" y="3789360"/>
            <a:ext cx="610920" cy="719280"/>
          </a:xfrm>
          <a:custGeom>
            <a:avLst/>
            <a:gdLst/>
            <a:ahLst/>
            <a:rect l="l" t="t" r="r" b="b"/>
            <a:pathLst>
              <a:path w="2231" h="297">
                <a:moveTo>
                  <a:pt x="2231" y="0"/>
                </a:moveTo>
                <a:lnTo>
                  <a:pt x="0" y="29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5A327F-A625-44E2-A0E5-83EB58CA324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one-to-man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DisplayUpdating version6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 figurelement knows about multiple Display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22" name=""/>
          <p:cNvSpPr/>
          <p:nvPr/>
        </p:nvSpPr>
        <p:spPr>
          <a:xfrm>
            <a:off x="311040" y="2205000"/>
            <a:ext cx="8601120" cy="4285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DisplayUpdating {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FigureElement.displays = new LinkedList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dd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add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Display(FigureElement fe, Display d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fe.displays.remove(d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pointcut move(FigureElement figElt):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&lt;as before&gt;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after(FigureElement fe): move(fe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Iterator iter = fe.displays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..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808080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2E7510-6A40-4E96-A1FD-2616E77EBD69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pointcuts can have additional advice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erhaps no advice on the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n figure editor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Courier Ne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46464"/>
                </a:solidFill>
                <a:latin typeface="Courier New"/>
              </a:rPr>
              <a:t>move()</a:t>
            </a: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 can have advice from multiple aspec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module can expose certain well-defined pointcut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524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646464"/>
                </a:solidFill>
                <a:latin typeface="Trebuchet MS"/>
              </a:rPr>
              <a:t>a ‘pointcut library’</a:t>
            </a: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lnSpc>
                <a:spcPct val="75000"/>
              </a:lnSpc>
              <a:spcBef>
                <a:spcPts val="5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653872-78E0-43F6-B3F0-F80F6D29726B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inheritance &amp; specialization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pointcuts can be specialized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spect with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oncrete advice on the abstract pointc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bstract aspects can be packaged and extended by users desiring their capability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3" marL="1600200" indent="-228600">
              <a:lnSpc>
                <a:spcPct val="75000"/>
              </a:lnSpc>
              <a:spcBef>
                <a:spcPts val="49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46464"/>
                </a:solidFill>
                <a:latin typeface="Trebuchet MS"/>
              </a:rPr>
              <a:t>an ‘aspect library’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280F40-7715-4192-9653-B47BC4DC0C76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520200" y="550800"/>
            <a:ext cx="82645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role types and reusable aspects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28" name=""/>
          <p:cNvSpPr/>
          <p:nvPr/>
        </p:nvSpPr>
        <p:spPr>
          <a:xfrm>
            <a:off x="287280" y="1592280"/>
            <a:ext cx="8569440" cy="48355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Subject 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otected interfac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Observer {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ffffff"/>
                </a:solidFill>
                <a:latin typeface="Lucida Console"/>
              </a:rPr>
              <a:t>  </a:t>
            </a:r>
            <a:br>
              <a:rPr sz="500"/>
            </a:b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rivat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List Subject.observers =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new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ArrayList();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add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removeObserver(Subject s, Observer o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public static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List getObservers(Subject s) { ... 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pointcut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changes(Subject s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fter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(Subject s): changes(s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Iterator iter = getObservers(s).iterator(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while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( iter.hasNext() ) {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notifyObserver(s, ((Observer)iter.next())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700" spc="-1" strike="noStrike">
                <a:solidFill>
                  <a:srgbClr val="0033cc"/>
                </a:solidFill>
                <a:latin typeface="Lucida Console"/>
              </a:rPr>
              <a:t>abstract void</a:t>
            </a: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 notifyObserver(Subject s, Observer o);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426805-9B69-4B87-AA39-1F4E70E5234B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is the concrete reus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46464"/>
                </a:solidFill>
                <a:latin typeface="Trebuchet MS"/>
              </a:rPr>
              <a:t>DisplayUpdating version7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Just an example of subject/observer patter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1" name=""/>
          <p:cNvSpPr/>
          <p:nvPr/>
        </p:nvSpPr>
        <p:spPr>
          <a:xfrm>
            <a:off x="250920" y="2276640"/>
            <a:ext cx="8642160" cy="41623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DisplayUpdating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extend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ing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FigureElement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Subjec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arents: Display     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mplements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Observer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changes(Subject s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target(s) &amp;&amp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FigureElement.moveB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,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1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Line.setP2(Point))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X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                ||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Point.setY(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int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)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notifyObserver(Subject s, Observer o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((Display)o).update(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A3018C6-9D57-41D2-A3BA-779610C1C331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5335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what happens if two pieces of advice apply to the same join point?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4" name=""/>
          <p:cNvSpPr/>
          <p:nvPr/>
        </p:nvSpPr>
        <p:spPr>
          <a:xfrm>
            <a:off x="250920" y="2492280"/>
            <a:ext cx="4495680" cy="15541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o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176720" y="314172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216000" y="4834080"/>
            <a:ext cx="32763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jp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 means ‘</a:t>
            </a:r>
            <a:r>
              <a:rPr b="1" lang="en-US" sz="2000" spc="-1" strike="noStrike">
                <a:solidFill>
                  <a:srgbClr val="0033cc"/>
                </a:solidFill>
                <a:latin typeface="Trebuchet MS"/>
              </a:rPr>
              <a:t>thisJoinPoint</a:t>
            </a:r>
            <a:r>
              <a:rPr b="0" lang="en-US" sz="2000" spc="-1" strike="noStrike">
                <a:solidFill>
                  <a:srgbClr val="0033cc"/>
                </a:solidFill>
                <a:latin typeface="Trebuchet MS"/>
              </a:rPr>
              <a:t>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0301D2B-F819-4B1E-9056-D744E4D5E72F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this tutorial is about...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using AOP and AspectJ to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improve the modularity of crosscutting concerns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aspects are two things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concerns that crosscu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desig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75000"/>
              </a:lnSpc>
              <a:spcBef>
                <a:spcPts val="624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a programming construct</a:t>
            </a:r>
            <a:r>
              <a:rPr b="0" lang="en-US" sz="2500" spc="-1" strike="noStrike">
                <a:solidFill>
                  <a:srgbClr val="646464"/>
                </a:solidFill>
                <a:latin typeface="Trebuchet MS"/>
              </a:rPr>
              <a:t>	</a:t>
            </a:r>
            <a:r>
              <a:rPr b="0" lang="en-US" sz="2500" spc="-1" strike="noStrike">
                <a:solidFill>
                  <a:srgbClr val="13b5b1"/>
                </a:solidFill>
                <a:latin typeface="Trebuchet MS"/>
              </a:rPr>
              <a:t>[implementation level]</a:t>
            </a:r>
            <a:endParaRPr b="0" lang="en-US" sz="25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nables crosscutting concerns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to be captured in modular unit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284D270-693C-4E6D-9D25-F24279AB54A7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advice precedence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286920" y="1295280"/>
            <a:ext cx="8388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46464"/>
                </a:solidFill>
                <a:latin typeface="Trebuchet MS"/>
              </a:rPr>
              <a:t>order is undefined</a:t>
            </a: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, unless...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the same aspect,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n subaspect, or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using declare </a:t>
            </a:r>
            <a:br>
              <a:rPr sz="2400"/>
            </a:b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precedenc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39" name=""/>
          <p:cNvSpPr/>
          <p:nvPr/>
        </p:nvSpPr>
        <p:spPr>
          <a:xfrm>
            <a:off x="216000" y="3573360"/>
            <a:ext cx="4495680" cy="17974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ublic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*(..)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if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(!Policy.isAllwed(tjp))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throw new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SecurityExn()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}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decla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precedence: Security, *;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4500720" y="1916280"/>
            <a:ext cx="4495680" cy="20408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aspec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ing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before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(): logged() {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System.err.println(</a:t>
            </a:r>
            <a:br>
              <a:rPr sz="1600"/>
            </a:b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  "Entering " + tjp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pointcut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logged()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   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call(</a:t>
            </a:r>
            <a:r>
              <a:rPr b="0" lang="en-US" sz="1600" spc="-1" strike="noStrike">
                <a:solidFill>
                  <a:srgbClr val="0033cc"/>
                </a:solidFill>
                <a:latin typeface="Lucida Console"/>
              </a:rPr>
              <a:t>void</a:t>
            </a: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 troublesomeMethod()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Lucida Console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370AB-A25A-4E95-A965-0963D48B2184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31640" y="1197000"/>
            <a:ext cx="8229600" cy="515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646464"/>
                </a:solidFill>
                <a:latin typeface="Trebuchet MS"/>
              </a:rPr>
              <a:t>AspectJ5 supports an alternative ‘annotation based’ style of aspect declaration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646464"/>
                </a:solidFill>
                <a:latin typeface="Trebuchet MS"/>
              </a:rPr>
              <a:t>For a subset of the AspectJ languag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Enables aspect development in pure-Java IDE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Aspect is pure-java, compiled with Java5 and then given to the AspectJ weaver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Styles can be mixed within an application (or even within a source file!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-228600"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he intent is that the semantics are identical, regardless of the source style chosen to express the aspect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D1319A-28AE-4237-B07A-60AA1BAEAED7}" type="slidenum">
              <a:t>9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"/>
          <p:cNvSpPr/>
          <p:nvPr/>
        </p:nvSpPr>
        <p:spPr>
          <a:xfrm>
            <a:off x="1116000" y="3645000"/>
            <a:ext cx="698508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import org.aspectj.lang.annotation.*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Asp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class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324000" y="11556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defining an aspect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, a class is annotated to indicate it is an aspec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46" name=""/>
          <p:cNvSpPr/>
          <p:nvPr/>
        </p:nvSpPr>
        <p:spPr>
          <a:xfrm>
            <a:off x="1079640" y="1916280"/>
            <a:ext cx="6984720" cy="3682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ublic aspect Tracing {…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6443640" y="4292640"/>
            <a:ext cx="1511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333cc"/>
                </a:solidFill>
                <a:latin typeface="Trebuchet MS"/>
              </a:rPr>
              <a:t>Don’t forget the impo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 flipH="1" flipV="1">
            <a:off x="5686200" y="4076280"/>
            <a:ext cx="1152360" cy="53964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53B315-45B8-49AC-8ED2-4A4BF568F6B4}" type="slidenum">
              <a:t>9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250560" y="115560"/>
            <a:ext cx="843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pointcut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31640" y="1233000"/>
            <a:ext cx="8229600" cy="432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Unsurprisingly, pointcuts and advice declarations involve these annot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cc"/>
                </a:solidFill>
                <a:latin typeface="Lucida Console"/>
              </a:rPr>
              <a:t>@Pointcut @Before @After @AfterReturning @AfterThrowing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The </a:t>
            </a:r>
            <a:r>
              <a:rPr b="1" lang="en-GB" sz="2400" spc="-1" strike="noStrike">
                <a:solidFill>
                  <a:srgbClr val="3333cc"/>
                </a:solidFill>
                <a:latin typeface="Lucida Console"/>
              </a:rPr>
              <a:t>@Pointcut</a:t>
            </a: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 annotation is attached to a method declar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646464"/>
                </a:solidFill>
                <a:latin typeface="Trebuchet MS"/>
              </a:rPr>
              <a:t>the annotation value is the pointcut text</a:t>
            </a:r>
            <a:endParaRPr b="0" lang="en-US" sz="16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1" name=""/>
          <p:cNvSpPr/>
          <p:nvPr/>
        </p:nvSpPr>
        <p:spPr>
          <a:xfrm>
            <a:off x="324000" y="3483000"/>
            <a:ext cx="410364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pointcut anyCall(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call(* *(..)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4788000" y="3446640"/>
            <a:ext cx="406872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..)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anyCall(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142920" y="4346640"/>
            <a:ext cx="4284720" cy="58068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pointcut listCalls(MyList list)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Lucida Console"/>
              </a:rPr>
              <a:t>call(* *(int)) &amp;&amp; target(list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88000" y="4346640"/>
            <a:ext cx="406872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“call(* *(int)) &amp;&amp; target(list)”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Calls(MyList lis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4427640" y="3699000"/>
            <a:ext cx="358560" cy="215640"/>
          </a:xfrm>
          <a:prstGeom prst="rightArrow">
            <a:avLst>
              <a:gd name="adj1" fmla="val 50000"/>
              <a:gd name="adj2" fmla="val 4156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427640" y="4491000"/>
            <a:ext cx="358560" cy="216000"/>
          </a:xfrm>
          <a:prstGeom prst="rightArrow">
            <a:avLst>
              <a:gd name="adj1" fmla="val 50000"/>
              <a:gd name="adj2" fmla="val 41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B38FC3-38DC-4D0A-AA57-56662B2E8E3B}" type="slidenum">
              <a:t>9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: type references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code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are resolved in the context of any types imported into the source fil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646464"/>
              </a:solidFill>
              <a:latin typeface="Trebuchet MS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In annotation styl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type references need to be resolved </a:t>
            </a: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without</a:t>
            </a:r>
            <a:r>
              <a:rPr b="0" lang="en-GB" sz="2000" spc="-1" strike="noStrike">
                <a:solidFill>
                  <a:srgbClr val="646464"/>
                </a:solidFill>
                <a:latin typeface="Trebuchet MS"/>
              </a:rPr>
              <a:t> that information therefore have to be fully specified (if not visible by default - in the same package or in java.lang)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646464"/>
                </a:solidFill>
                <a:latin typeface="Trebuchet MS"/>
              </a:rPr>
              <a:t>this doesn’t apply to wildcards which are always resolved in global scope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2" marL="1051560" indent="-210240">
              <a:lnSpc>
                <a:spcPct val="80000"/>
              </a:lnSpc>
              <a:spcBef>
                <a:spcPts val="349"/>
              </a:spcBef>
              <a:buClr>
                <a:srgbClr val="006699"/>
              </a:buClr>
              <a:buFont typeface="Symbol" charset="2"/>
              <a:buChar char="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646464"/>
                </a:solidFill>
                <a:latin typeface="Trebuchet MS"/>
              </a:rPr>
              <a:t>List has to be fully qualified, importing it into won’t help</a:t>
            </a:r>
            <a:endParaRPr b="0" lang="en-US" sz="1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59" name=""/>
          <p:cNvSpPr/>
          <p:nvPr/>
        </p:nvSpPr>
        <p:spPr>
          <a:xfrm>
            <a:off x="1042920" y="4257720"/>
            <a:ext cx="7128000" cy="642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@Pointcut("call(* java.util.List.*(..)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Lucida Console"/>
              </a:rPr>
              <a:t>void listOperation() {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6257A4-A25D-4A98-9414-4A1CE1DFB0AD}" type="slidenum">
              <a:t>9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nnotation style development :</a:t>
            </a:r>
            <a:br>
              <a:rPr sz="4000"/>
            </a:br>
            <a:r>
              <a:rPr b="0" lang="en-GB" sz="4000" spc="-1" strike="noStrike">
                <a:solidFill>
                  <a:srgbClr val="006699"/>
                </a:solidFill>
                <a:latin typeface="Trebuchet MS"/>
              </a:rPr>
              <a:t>Advice</a:t>
            </a:r>
            <a:endParaRPr b="0" lang="en-US" sz="40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646464"/>
                </a:solidFill>
                <a:latin typeface="Trebuchet MS"/>
              </a:rPr>
              <a:t>Annotation style advice is a method with the appropriate advice annotatio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6699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cc"/>
                </a:solidFill>
                <a:latin typeface="Lucida Console"/>
              </a:rPr>
              <a:t>@Before @After @AfterReturning @AfterThrowing, @Around</a:t>
            </a: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762" name=""/>
          <p:cNvSpPr/>
          <p:nvPr/>
        </p:nvSpPr>
        <p:spPr>
          <a:xfrm>
            <a:off x="503280" y="2776680"/>
            <a:ext cx="8353440" cy="91692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before(Foo foo) : call(* org.pkg..*(..)) &amp;&amp; this(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503280" y="4071960"/>
            <a:ext cx="8353440" cy="11912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@Before("call(* org.pkg..*(..)) &amp;&amp; this(foo)"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public void callFromFoo(Foo foo) {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System.out.println("Call from Foo: " + foo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Lucida Console"/>
              </a:rPr>
              <a:t>}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 rot="5400000">
            <a:off x="4428720" y="3783240"/>
            <a:ext cx="358920" cy="215640"/>
          </a:xfrm>
          <a:prstGeom prst="rightArrow">
            <a:avLst>
              <a:gd name="adj1" fmla="val 50000"/>
              <a:gd name="adj2" fmla="val 4161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5F2BEE-DCBF-4D6A-A359-821EE07A8C9D}" type="slidenum">
              <a:t>9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"/>
          <p:cNvSpPr/>
          <p:nvPr/>
        </p:nvSpPr>
        <p:spPr>
          <a:xfrm>
            <a:off x="216000" y="1233360"/>
            <a:ext cx="8748720" cy="525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summary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67" name=""/>
          <p:cNvSpPr/>
          <p:nvPr/>
        </p:nvSpPr>
        <p:spPr>
          <a:xfrm>
            <a:off x="6019920" y="1295280"/>
            <a:ext cx="29718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dvi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ro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inter-type decl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ype.metho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declar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ced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refle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JoinPointStaticPar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3505320" y="1295280"/>
            <a:ext cx="266688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pointcu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mitive-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ll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execu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handle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get  set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s  target ar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in withincod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flow cflowbelow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user-defined-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pointcut declaration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abstra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ri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566640" y="1295280"/>
            <a:ext cx="3319560" cy="33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join points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ethod &amp; constructor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cal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el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ception handl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ecu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itializ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ffffff"/>
                </a:solidFill>
                <a:uFillTx/>
                <a:latin typeface="Arial"/>
              </a:rPr>
              <a:t>aspec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rosscutting typ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A0D3C9-3AB4-4E13-83D2-602589BEAEA8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23640" y="404640"/>
            <a:ext cx="842004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006699"/>
                </a:solidFill>
                <a:latin typeface="Trebuchet MS"/>
              </a:rPr>
              <a:t>Part III</a:t>
            </a:r>
            <a:endParaRPr b="0" lang="en-US" sz="65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subTitle"/>
          </p:nvPr>
        </p:nvSpPr>
        <p:spPr>
          <a:xfrm>
            <a:off x="2347920" y="2036880"/>
            <a:ext cx="6400800" cy="12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46464"/>
                </a:solidFill>
                <a:latin typeface="Trebuchet MS"/>
              </a:rPr>
              <a:t>Adopting AspectJ</a:t>
            </a:r>
            <a:endParaRPr b="0" lang="en-US" sz="40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when are aspects appropriate?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46464"/>
                </a:solidFill>
                <a:latin typeface="Trebuchet MS"/>
              </a:rPr>
              <a:t>Think!</a:t>
            </a: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 Is there a concern that: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crosscuts the structure of several objects or operations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743040" indent="-285840"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is beneficial to separate out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BBDABC-22C1-4770-A7FE-7620902522A9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… </a:t>
            </a:r>
            <a:r>
              <a:rPr b="0" lang="en-US" sz="4400" spc="-1" strike="noStrike">
                <a:solidFill>
                  <a:srgbClr val="006699"/>
                </a:solidFill>
                <a:latin typeface="Trebuchet MS"/>
              </a:rPr>
              <a:t>crosscutting</a:t>
            </a:r>
            <a:endParaRPr b="0" lang="en-US" sz="4400" spc="-1" strike="noStrike">
              <a:solidFill>
                <a:srgbClr val="006699"/>
              </a:solidFill>
              <a:latin typeface="Trebuchet MS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37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a design concern that involves several objects or operations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marL="318960" indent="-318960">
              <a:lnSpc>
                <a:spcPct val="75000"/>
              </a:lnSpc>
              <a:spcBef>
                <a:spcPts val="799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46464"/>
                </a:solidFill>
                <a:latin typeface="Trebuchet MS"/>
              </a:rPr>
              <a:t>implemented without AOP would lead to distant places in the code that</a:t>
            </a:r>
            <a:endParaRPr b="0" lang="en-US" sz="32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the same thing 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raceEntry(“Point.set”)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1" marL="690840" indent="-265680">
              <a:lnSpc>
                <a:spcPct val="75000"/>
              </a:lnSpc>
              <a:spcBef>
                <a:spcPts val="700"/>
              </a:spcBef>
              <a:buClr>
                <a:srgbClr val="006699"/>
              </a:buClr>
              <a:buFont typeface="Trebuchet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46464"/>
                </a:solidFill>
                <a:latin typeface="Trebuchet MS"/>
              </a:rPr>
              <a:t>do a coordinated single thing</a:t>
            </a:r>
            <a:endParaRPr b="0" lang="en-US" sz="28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e.g. timing, observer pattern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-212400">
              <a:lnSpc>
                <a:spcPct val="75000"/>
              </a:lnSpc>
              <a:spcBef>
                <a:spcPts val="601"/>
              </a:spcBef>
              <a:buClr>
                <a:srgbClr val="006699"/>
              </a:buClr>
              <a:buFont typeface="Trebuchet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46464"/>
                </a:solidFill>
                <a:latin typeface="Trebuchet MS"/>
              </a:rPr>
              <a:t>harder to find these</a:t>
            </a: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  <a:p>
            <a:pPr lvl="2" marL="1062720" indent="0">
              <a:lnSpc>
                <a:spcPct val="75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46464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2006 by Andy Clement, IBM: made available under the EPL v1.0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1EDB4-31BC-476D-A638-A47A68ABFA02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3T15:26:08Z</dcterms:created>
  <dc:creator/>
  <dc:description/>
  <dc:language>en-US</dc:language>
  <cp:lastModifiedBy>IBM_USER</cp:lastModifiedBy>
  <dcterms:modified xsi:type="dcterms:W3CDTF">2006-05-08T11:57:20Z</dcterms:modified>
  <cp:revision>577</cp:revision>
  <dc:subject/>
  <dc:title>Aspect-Oriented Programming with AspectJ® </dc:title>
</cp:coreProperties>
</file>