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9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42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wmf" ContentType="image/x-wmf"/>
  <Override PartName="/ppt/media/image6.png" ContentType="image/pn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6919913" cy="9385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919200" cy="938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5"/>
          </p:nvPr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056DD08-C99F-44C0-8C80-8FA57482118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079640" y="671040"/>
            <a:ext cx="4775040" cy="358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37800" y="4476600"/>
            <a:ext cx="5054760" cy="417672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6"/>
          </p:nvPr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7"/>
          </p:nvPr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  <a:defRPr b="0" lang="en-US" sz="12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24E0A00C-D663-4B17-A8E6-B27F20A3AAB8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BD7DE21-5CA6-48EA-906B-A1C9CBE0D457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300E0F9-1EB6-46E5-8B93-9983D382D5E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you are going to see is that if you set out to do this, it is possible to do so.  AspectJ is a mix of old and new ideas – its good that some of them are old – in a new package that explicitly supports crosscutting modular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54236FB-7D97-4FED-8F13-0CFE201B8836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C9DEA38-669E-4997-97A9-2340ACCBA89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3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31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BA0CBD1E-5C99-4EB1-8D00-C8F7F9DA2DE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CC7288DD-DB5A-42F7-996A-D62E2FBE661D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39" name="PlaceHolder 2"/>
          <p:cNvSpPr>
            <a:spLocks noGrp="1"/>
          </p:cNvSpPr>
          <p:nvPr>
            <p:ph type="body"/>
          </p:nvPr>
        </p:nvSpPr>
        <p:spPr>
          <a:xfrm>
            <a:off x="922320" y="4457520"/>
            <a:ext cx="5073840" cy="4222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OP is an idea about how to structure systems  the idea of an “object” has proven to be a powerfu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undamentally about classification and specialization (classes and inheritan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this.. it’s a duplicate of previous s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 underb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8188525-8F8E-4961-8D54-3E51EDA3AF4B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63EA397E-F92F-4404-993B-778607FE893E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4960" cy="350676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3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709A0D41-D6F8-49A1-9147-63DB70F15895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895B074-3080-4DD0-85D5-3CD98A3418D3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2248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922320" y="44560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0F483DE9-0932-4B3A-843A-A8565A6E9AA1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322C1296-FB99-4E45-AE4D-52A7D546A338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intenance is always where better modularity pays off b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42061F54-7FF8-4DF8-9603-B217E0F8EFDC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D52FBBC4-4203-4770-84C7-6CB9CEBCCE11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23920" y="711360"/>
            <a:ext cx="4673520" cy="350496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920880" y="4454640"/>
            <a:ext cx="5076720" cy="422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llions and bill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ks that the grey became 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’ll have to fix this, it MAY be easy, if the rest of the tutorial was using symbolic colors consistentl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ove undersco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16000" y="703440"/>
            <a:ext cx="4692600" cy="351936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922320" y="4457880"/>
            <a:ext cx="5073840" cy="4224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ke away poi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. A revolutionary benefit in an incremental adoption package means it’s easy to get started but the benefit grows as the use do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. The evolution of AOP technology can really end in a plat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 write a first aj program in 15 mins, but start using aspectj in their existing code in 15 m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hat IBM, Siemens and ABN AMRO is looking at doing is using AspectJ in an existing proj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sldImg"/>
          </p:nvPr>
        </p:nvSpPr>
        <p:spPr>
          <a:xfrm>
            <a:off x="1112760" y="703440"/>
            <a:ext cx="4694400" cy="3520800"/>
          </a:xfrm>
          <a:prstGeom prst="rect">
            <a:avLst/>
          </a:prstGeom>
          <a:ln w="0">
            <a:noFill/>
          </a:ln>
        </p:spPr>
      </p:sp>
      <p:sp>
        <p:nvSpPr>
          <p:cNvPr id="915" name="PlaceHolder 2"/>
          <p:cNvSpPr>
            <a:spLocks noGrp="1"/>
          </p:cNvSpPr>
          <p:nvPr>
            <p:ph type="body"/>
          </p:nvPr>
        </p:nvSpPr>
        <p:spPr>
          <a:xfrm>
            <a:off x="922320" y="4459320"/>
            <a:ext cx="5073840" cy="4222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tangling is accid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n’t stupidity or lazines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is something fundamentally hard to modularize using OOP going on here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"/>
          <p:cNvSpPr txBox="1"/>
          <p:nvPr/>
        </p:nvSpPr>
        <p:spPr>
          <a:xfrm>
            <a:off x="389844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96AC2D69-7D81-4445-9DA1-807FD8F739D2}" type="slidenum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 txBox="1"/>
          <p:nvPr/>
        </p:nvSpPr>
        <p:spPr>
          <a:xfrm>
            <a:off x="-360" y="895176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 txBox="1"/>
          <p:nvPr/>
        </p:nvSpPr>
        <p:spPr>
          <a:xfrm>
            <a:off x="-36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3898440" y="0"/>
            <a:ext cx="3033720" cy="447840"/>
          </a:xfrm>
          <a:prstGeom prst="rect">
            <a:avLst/>
          </a:prstGeom>
          <a:noFill/>
          <a:ln w="0">
            <a:noFill/>
          </a:ln>
        </p:spPr>
        <p:txBody>
          <a:bodyPr lIns="88200" rIns="88200" tIns="44280" bIns="442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82720"/>
                <a:tab algn="l" pos="1765440"/>
                <a:tab algn="l" pos="2647800"/>
                <a:tab algn="l" pos="3530520"/>
                <a:tab algn="l" pos="4413240"/>
                <a:tab algn="l" pos="5295960"/>
                <a:tab algn="l" pos="6178680"/>
                <a:tab algn="l" pos="7061040"/>
                <a:tab algn="l" pos="7943760"/>
                <a:tab algn="l" pos="8826480"/>
                <a:tab algn="l" pos="9709200"/>
                <a:tab algn="l" pos="10591920"/>
              </a:tabLst>
            </a:pPr>
            <a:fld id="{F4830EF2-4E2E-4805-B899-E0AFE70AAC07}" type="datetime">
              <a:rPr b="0" lang="en-US" sz="1200" spc="-1" strike="noStrike">
                <a:solidFill>
                  <a:srgbClr val="000000"/>
                </a:solidFill>
                <a:latin typeface="Comic Sans MS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PlaceHolder 1"/>
          <p:cNvSpPr>
            <a:spLocks noGrp="1"/>
          </p:cNvSpPr>
          <p:nvPr>
            <p:ph type="sldImg"/>
          </p:nvPr>
        </p:nvSpPr>
        <p:spPr>
          <a:xfrm>
            <a:off x="1109520" y="698400"/>
            <a:ext cx="4700880" cy="3525840"/>
          </a:xfrm>
          <a:prstGeom prst="rect">
            <a:avLst/>
          </a:prstGeom>
          <a:ln w="0">
            <a:noFill/>
          </a:ln>
        </p:spPr>
      </p:sp>
      <p:sp>
        <p:nvSpPr>
          <p:cNvPr id="921" name="PlaceHolder 2"/>
          <p:cNvSpPr>
            <a:spLocks noGrp="1"/>
          </p:cNvSpPr>
          <p:nvPr>
            <p:ph type="body"/>
          </p:nvPr>
        </p:nvSpPr>
        <p:spPr>
          <a:xfrm>
            <a:off x="920880" y="4456080"/>
            <a:ext cx="5076720" cy="423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88200" rIns="88200" tIns="44280" bIns="442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ere we pick up the crystallization of style and analogy to OOP poi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know this, they deal with it a variety of ways, we can make that explic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1) It rests on an assumption that cross-cutting is inherent.  That in any sufficiently complex system…  I haven’t proven this assumption today, I’ve just reminded you about the problem.  But I believe it, and we can talk an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XAMPLE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2) But that cross-cutting concerns are not random…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94C1C6-EF0A-488C-8912-47693806CA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EBE539-7A99-4F0B-8CA1-26D4D5A9E9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23C34-D811-41F8-9293-533A74CFBE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F46B99-480E-40B4-A416-B3EAE20C17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91B0AE-EAB3-4793-8C1A-CA581A7858E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7CF8EA-D010-4B93-A2BF-148436BC1CC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4A927B-211B-4E0D-87CA-7F7465DD008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5502D6-2585-4D14-8E5F-CC46CBD9511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EAFB2B-2CA5-4001-A187-B24AAA2E3D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7CAA62-96A8-4181-AE2B-D79A9896F4D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24124E-8346-4B5F-BB0F-12534D0A07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6080F-CC89-4DC6-A6F2-D3FF427515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B6618F-634D-4F90-A2F1-EAAE027218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A8C03B-D7DC-40BB-ADEA-36A29E1FDC7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A67455-1909-4167-B65A-775E01AFE9E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7E974-35E9-4FB7-9C51-F62DF7994D7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748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865120" y="17524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09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748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865120" y="39020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14533-72DA-4129-A5E3-66CB59BDDE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0A927-8025-403E-9ED8-A248FD491F7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97A92D-8060-40EF-A8F1-3A64585575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D1148-3C2E-4A24-B832-4483D097864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09120" y="75960"/>
            <a:ext cx="762012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6088CD-55F2-40FF-8ECB-FFB0870F8B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09C29A-57C5-47D2-8569-7A0A86C880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92160" y="39020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1443C8-EDFB-4CEA-A518-BBADCA0D30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92160" y="17524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09480" y="39020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D8A6E-B27B-4C0A-B26A-CB8E109E68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85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0" y="6629040"/>
            <a:ext cx="4572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FB539-8FDA-4464-B1C3-D48F56002A88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New%20Logo%20copy" descr=""/>
          <p:cNvPicPr/>
          <p:nvPr/>
        </p:nvPicPr>
        <p:blipFill>
          <a:blip r:embed="rId2"/>
          <a:stretch/>
        </p:blipFill>
        <p:spPr>
          <a:xfrm>
            <a:off x="6934320" y="6248520"/>
            <a:ext cx="2209680" cy="591840"/>
          </a:xfrm>
          <a:prstGeom prst="rect">
            <a:avLst/>
          </a:prstGeom>
          <a:ln w="0">
            <a:noFill/>
          </a:ln>
        </p:spPr>
      </p:pic>
      <p:pic>
        <p:nvPicPr>
          <p:cNvPr id="8" name="New%20Logo%20copy" descr=""/>
          <p:cNvPicPr/>
          <p:nvPr/>
        </p:nvPicPr>
        <p:blipFill>
          <a:blip r:embed="rId3"/>
          <a:stretch/>
        </p:blipFill>
        <p:spPr>
          <a:xfrm>
            <a:off x="6934320" y="6265800"/>
            <a:ext cx="2209680" cy="592200"/>
          </a:xfrm>
          <a:prstGeom prst="rect">
            <a:avLst/>
          </a:prstGeom>
          <a:ln w="0">
            <a:noFill/>
          </a:ln>
        </p:spPr>
      </p:pic>
      <p:pic>
        <p:nvPicPr>
          <p:cNvPr id="9" name="New%20Logo%20copy" descr=""/>
          <p:cNvPicPr/>
          <p:nvPr/>
        </p:nvPicPr>
        <p:blipFill>
          <a:blip r:embed="rId4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ftr" idx="3"/>
          </p:nvPr>
        </p:nvSpPr>
        <p:spPr>
          <a:xfrm>
            <a:off x="533160" y="6629040"/>
            <a:ext cx="51051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b2b2b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b2b2b2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4"/>
          </p:nvPr>
        </p:nvSpPr>
        <p:spPr>
          <a:xfrm>
            <a:off x="0" y="6629040"/>
            <a:ext cx="380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6669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730C3-B9FD-438D-B1C3-8DB8E8922CB4}" type="slidenum">
              <a:rPr b="0" lang="en-US" sz="1000" spc="-1" strike="noStrike">
                <a:solidFill>
                  <a:srgbClr val="666699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2133720"/>
          </a:xfrm>
          <a:prstGeom prst="rect">
            <a:avLst/>
          </a:prstGeom>
          <a:solidFill>
            <a:srgbClr val="949f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New%20Logo%20copy" descr=""/>
          <p:cNvPicPr/>
          <p:nvPr/>
        </p:nvPicPr>
        <p:blipFill>
          <a:blip r:embed="rId2"/>
          <a:stretch/>
        </p:blipFill>
        <p:spPr>
          <a:xfrm>
            <a:off x="6878520" y="6226200"/>
            <a:ext cx="2210040" cy="5922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>
            <a:off x="380520" y="3045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85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0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hyperlink" Target="http://www.sirius-eos.com/index.htm" TargetMode="External"/><Relationship Id="rId6" Type="http://schemas.openxmlformats.org/officeDocument/2006/relationships/image" Target="../media/image8.jpe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95360" y="5331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-Oriented Programming with AspectJ™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33160" y="2776680"/>
            <a:ext cx="8001000" cy="72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J.org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DC3740-B8DA-44B1-993C-EED6F67531A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anguage support to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8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8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8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9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20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20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1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21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1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218" name=""/>
          <p:cNvGrpSpPr/>
          <p:nvPr/>
        </p:nvGrpSpPr>
        <p:grpSpPr>
          <a:xfrm>
            <a:off x="1371600" y="2590560"/>
            <a:ext cx="6858000" cy="3124440"/>
            <a:chOff x="1371600" y="2590560"/>
            <a:chExt cx="6858000" cy="3124440"/>
          </a:xfrm>
        </p:grpSpPr>
        <p:sp>
          <p:nvSpPr>
            <p:cNvPr id="219" name=""/>
            <p:cNvSpPr/>
            <p:nvPr/>
          </p:nvSpPr>
          <p:spPr>
            <a:xfrm flipV="1">
              <a:off x="1371600" y="2590560"/>
              <a:ext cx="3276720" cy="1143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 flipV="1">
              <a:off x="3733920" y="2895480"/>
              <a:ext cx="1295280" cy="914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V="1">
              <a:off x="4648320" y="3048120"/>
              <a:ext cx="1066680" cy="266688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 flipV="1">
              <a:off x="6933960" y="3047760"/>
              <a:ext cx="75960" cy="20574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 flipV="1">
              <a:off x="7772400" y="2895120"/>
              <a:ext cx="457200" cy="2286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 flipV="1">
              <a:off x="2743200" y="3048120"/>
              <a:ext cx="2590920" cy="228600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5" name=""/>
          <p:cNvGrpSpPr/>
          <p:nvPr/>
        </p:nvGrpSpPr>
        <p:grpSpPr>
          <a:xfrm>
            <a:off x="680760" y="1447920"/>
            <a:ext cx="8386920" cy="5105160"/>
            <a:chOff x="680760" y="1447920"/>
            <a:chExt cx="8386920" cy="5105160"/>
          </a:xfrm>
        </p:grpSpPr>
        <p:grpSp>
          <p:nvGrpSpPr>
            <p:cNvPr id="226" name=""/>
            <p:cNvGrpSpPr/>
            <p:nvPr/>
          </p:nvGrpSpPr>
          <p:grpSpPr>
            <a:xfrm>
              <a:off x="733320" y="1447920"/>
              <a:ext cx="8334360" cy="5105160"/>
              <a:chOff x="733320" y="1447920"/>
              <a:chExt cx="8334360" cy="5105160"/>
            </a:xfrm>
          </p:grpSpPr>
          <p:sp>
            <p:nvSpPr>
              <p:cNvPr id="227" name=""/>
              <p:cNvSpPr/>
              <p:nvPr/>
            </p:nvSpPr>
            <p:spPr>
              <a:xfrm>
                <a:off x="733320" y="1447920"/>
                <a:ext cx="6886800" cy="5105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20120" y="1447920"/>
                <a:ext cx="1447560" cy="4114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680760" y="1447920"/>
              <a:ext cx="1441080" cy="2997360"/>
              <a:chOff x="680760" y="1447920"/>
              <a:chExt cx="1441080" cy="2997360"/>
            </a:xfrm>
          </p:grpSpPr>
          <p:grpSp>
            <p:nvGrpSpPr>
              <p:cNvPr id="230" name=""/>
              <p:cNvGrpSpPr/>
              <p:nvPr/>
            </p:nvGrpSpPr>
            <p:grpSpPr>
              <a:xfrm>
                <a:off x="680760" y="1676520"/>
                <a:ext cx="1441080" cy="2768760"/>
                <a:chOff x="680760" y="1676520"/>
                <a:chExt cx="1441080" cy="276876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680760" y="1676520"/>
                  <a:ext cx="733680" cy="2345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3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4" name=""/>
            <p:cNvGrpSpPr/>
            <p:nvPr/>
          </p:nvGrpSpPr>
          <p:grpSpPr>
            <a:xfrm>
              <a:off x="2209680" y="1447920"/>
              <a:ext cx="1981440" cy="4601520"/>
              <a:chOff x="2209680" y="1447920"/>
              <a:chExt cx="1981440" cy="4601520"/>
            </a:xfrm>
          </p:grpSpPr>
          <p:grpSp>
            <p:nvGrpSpPr>
              <p:cNvPr id="235" name=""/>
              <p:cNvGrpSpPr/>
              <p:nvPr/>
            </p:nvGrpSpPr>
            <p:grpSpPr>
              <a:xfrm>
                <a:off x="2209680" y="1676520"/>
                <a:ext cx="1981440" cy="4372920"/>
                <a:chOff x="2209680" y="1676520"/>
                <a:chExt cx="1981440" cy="4372920"/>
              </a:xfrm>
            </p:grpSpPr>
            <p:sp>
              <p:nvSpPr>
                <p:cNvPr id="236" name=""/>
                <p:cNvSpPr/>
                <p:nvPr/>
              </p:nvSpPr>
              <p:spPr>
                <a:xfrm>
                  <a:off x="2209680" y="1676520"/>
                  <a:ext cx="609840" cy="43729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2666880" y="1676520"/>
                  <a:ext cx="685800" cy="423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3200400" y="1676520"/>
                  <a:ext cx="990720" cy="4313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"/>
            <p:cNvGrpSpPr/>
            <p:nvPr/>
          </p:nvGrpSpPr>
          <p:grpSpPr>
            <a:xfrm>
              <a:off x="5879160" y="2817720"/>
              <a:ext cx="1512360" cy="3460320"/>
              <a:chOff x="5879160" y="2817720"/>
              <a:chExt cx="1512360" cy="3460320"/>
            </a:xfrm>
          </p:grpSpPr>
          <p:grpSp>
            <p:nvGrpSpPr>
              <p:cNvPr id="241" name=""/>
              <p:cNvGrpSpPr/>
              <p:nvPr/>
            </p:nvGrpSpPr>
            <p:grpSpPr>
              <a:xfrm>
                <a:off x="5879160" y="3046320"/>
                <a:ext cx="1512360" cy="3231720"/>
                <a:chOff x="5879160" y="3046320"/>
                <a:chExt cx="1512360" cy="3231720"/>
              </a:xfrm>
            </p:grpSpPr>
            <p:sp>
              <p:nvSpPr>
                <p:cNvPr id="242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6553080" y="3046320"/>
                  <a:ext cx="838440" cy="3231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5" name=""/>
            <p:cNvGrpSpPr/>
            <p:nvPr/>
          </p:nvGrpSpPr>
          <p:grpSpPr>
            <a:xfrm>
              <a:off x="7467480" y="2817720"/>
              <a:ext cx="1600200" cy="1957680"/>
              <a:chOff x="7467480" y="2817720"/>
              <a:chExt cx="1600200" cy="1957680"/>
            </a:xfrm>
          </p:grpSpPr>
          <p:sp>
            <p:nvSpPr>
              <p:cNvPr id="246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7" name=""/>
              <p:cNvGrpSpPr/>
              <p:nvPr/>
            </p:nvGrpSpPr>
            <p:grpSpPr>
              <a:xfrm>
                <a:off x="7619760" y="3046320"/>
                <a:ext cx="1295280" cy="1729080"/>
                <a:chOff x="7619760" y="3046320"/>
                <a:chExt cx="1295280" cy="172908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8153280" y="3046320"/>
                  <a:ext cx="761760" cy="140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0" name=""/>
            <p:cNvGrpSpPr/>
            <p:nvPr/>
          </p:nvGrpSpPr>
          <p:grpSpPr>
            <a:xfrm>
              <a:off x="4287240" y="4951440"/>
              <a:ext cx="1477440" cy="1243440"/>
              <a:chOff x="4287240" y="4951440"/>
              <a:chExt cx="1477440" cy="1243440"/>
            </a:xfrm>
          </p:grpSpPr>
          <p:sp>
            <p:nvSpPr>
              <p:cNvPr id="251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2" name=""/>
              <p:cNvGrpSpPr/>
              <p:nvPr/>
            </p:nvGrpSpPr>
            <p:grpSpPr>
              <a:xfrm>
                <a:off x="4287240" y="5180040"/>
                <a:ext cx="1477440" cy="1014840"/>
                <a:chOff x="4287240" y="5180040"/>
                <a:chExt cx="1477440" cy="10148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4287240" y="5180040"/>
                  <a:ext cx="802440" cy="1014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280400" y="2817720"/>
              <a:ext cx="1492560" cy="1877760"/>
              <a:chOff x="4280400" y="2817720"/>
              <a:chExt cx="1492560" cy="1877760"/>
            </a:xfrm>
          </p:grpSpPr>
          <p:sp>
            <p:nvSpPr>
              <p:cNvPr id="256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4280400" y="2970000"/>
                <a:ext cx="1492560" cy="1725480"/>
                <a:chOff x="4280400" y="2970000"/>
                <a:chExt cx="1492560" cy="172548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4280400" y="2970000"/>
                  <a:ext cx="855720" cy="1725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60" name=""/>
            <p:cNvGrpSpPr/>
            <p:nvPr/>
          </p:nvGrpSpPr>
          <p:grpSpPr>
            <a:xfrm>
              <a:off x="684720" y="4800600"/>
              <a:ext cx="1325520" cy="1440000"/>
              <a:chOff x="684720" y="4800600"/>
              <a:chExt cx="1325520" cy="1440000"/>
            </a:xfrm>
          </p:grpSpPr>
          <p:sp>
            <p:nvSpPr>
              <p:cNvPr id="261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62" name=""/>
              <p:cNvGrpSpPr/>
              <p:nvPr/>
            </p:nvGrpSpPr>
            <p:grpSpPr>
              <a:xfrm>
                <a:off x="684720" y="5029200"/>
                <a:ext cx="1325520" cy="1211400"/>
                <a:chOff x="684720" y="5029200"/>
                <a:chExt cx="1325520" cy="12114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684720" y="5029200"/>
                  <a:ext cx="703440" cy="1211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1291680" y="5029200"/>
                  <a:ext cx="718560" cy="1120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65" name=""/>
            <p:cNvSpPr/>
            <p:nvPr/>
          </p:nvSpPr>
          <p:spPr>
            <a:xfrm>
              <a:off x="5257800" y="1568520"/>
              <a:ext cx="79056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int inactiveInterval = -1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val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 else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ing msg = sm.getString("applicationSession.session.ise"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row new IllegalStateException(msg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return lastAccessed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private long lastAccessed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accessed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set last accessed to thisAccessTime as it will be left ove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from the previous acces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 = thisAccess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Access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void validat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if we have an inactive interval, check to see if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we've exceeded it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0280" y="1568520"/>
              <a:ext cx="685800" cy="110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inactiveInterval != -1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hisInterval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(System.currentTimeMillis() - lastAccessed) / 1000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hisInterval &gt; inactiveInterval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validat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 ssm =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Manager.getManager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sm.removeSession(this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long lastAccessedTime = creation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Return the last time the client sent a request associated with this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as the number of milliseconds since midnight, January 1, 197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GMT.  Actions that your application takes, such as getting or setting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a value associated with the session, do not affect the access time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long getLastAccessedTime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turn (this.lastAccessedTime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Update the accessed time information for this session.  This metho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hould be called by the context when a request comes in for a particular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session, even if the application does not reference it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lastAccessedTime = this.thisAccessedTim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thisAccessedTime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this.isNew=fals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0L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astAccessedTime = ((Long) stream.readObject()).long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maxInactiveInterval = ((Integer) stream.readObject()).int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sNew = ((Boolean) stream.readObject()).booleanValu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858000" y="1568520"/>
              <a:ext cx="762120" cy="1168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ream.writeObject(new Long(lastAccessedTime)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M.accessed(ctx, request, sessionId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 Context ctx, Request req, String id 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plicationSession apS=(ApplicationSession)findSession( 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apS==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erSession servS=apS.getServerSession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rv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apS.accessed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it - no need to compute it again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apS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000000"/>
                  </a:solidFill>
                  <a:uFillTx/>
                  <a:latin typeface="Courier New"/>
                </a:rPr>
                <a:t>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Invalidate all sessions that have expired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rivate void processExpires(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long timeNow = System.currentTimeMilli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 sessions[] = findSession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for (int i = 0; i &lt; sessions.length; i++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tandardSession session = (StandardSession) sessions[i]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!session.isValid()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maxInactiveInterval = session.getMaxInactiveInterval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maxInactiveInterval &lt; 0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continue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nt timeIdle = // Truncate, do not round up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int) ((timeNow - session.getLastAccessedTime()) / 1000L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timeIdle &gt;= maxInactiveInterval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session.expire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>
                  <a:solidFill>
                    <a:srgbClr val="000000"/>
                  </a:solidFill>
                  <a:latin typeface="Courier New"/>
                </a:rPr>
                <a:t>    </a:t>
              </a:r>
              <a:r>
                <a:rPr b="1" lang="en-US" sz="100" spc="-1" strike="noStrike">
                  <a:solidFill>
                    <a:srgbClr val="cc0000"/>
                  </a:solidFill>
                  <a:latin typeface="Courier New"/>
                </a:rPr>
                <a:t>/*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Mark the specified session's last accessed time.  This should be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called for each request by a RequestInterceptor.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 @param session The session to be marke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*/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public void accessed(Context ctx, Request req, String id) {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HttpSession session=findSession(ctx, id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( session == null) return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if (session instanceof Session)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((Session) session).access(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// cache the HttpSession - avoid another find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req.setSession( session );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    </a:t>
              </a:r>
              <a:r>
                <a:rPr b="1" lang="en-US" sz="100" spc="-1" strike="noStrike" u="sng">
                  <a:solidFill>
                    <a:srgbClr val="cc0000"/>
                  </a:solidFill>
                  <a:uFillTx/>
                  <a:latin typeface="Courier New"/>
                </a:rPr>
                <a:t>}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62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269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70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B88B2A-05EA-4520-8F1C-671FBA8AB2A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400800" y="3886200"/>
            <a:ext cx="2514600" cy="3780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00800" y="4265640"/>
            <a:ext cx="2514600" cy="12952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Attribute(nam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Attribute(name, v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validate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410080" y="1828800"/>
            <a:ext cx="2514600" cy="37800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ssionIntercep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410080" y="2208240"/>
            <a:ext cx="2514600" cy="10684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Map(reque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foreBody(req, res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65280" y="1828800"/>
            <a:ext cx="7259400" cy="3919680"/>
          </a:xfrm>
          <a:custGeom>
            <a:avLst/>
            <a:gdLst/>
            <a:ahLst/>
            <a:rect l="l" t="t" r="r" b="b"/>
            <a:pathLst>
              <a:path w="4573" h="2469">
                <a:moveTo>
                  <a:pt x="2259" y="2469"/>
                </a:moveTo>
                <a:lnTo>
                  <a:pt x="0" y="2469"/>
                </a:lnTo>
                <a:lnTo>
                  <a:pt x="0" y="2282"/>
                </a:lnTo>
                <a:lnTo>
                  <a:pt x="2184" y="2282"/>
                </a:lnTo>
                <a:lnTo>
                  <a:pt x="2184" y="883"/>
                </a:lnTo>
                <a:lnTo>
                  <a:pt x="0" y="883"/>
                </a:lnTo>
                <a:lnTo>
                  <a:pt x="1" y="540"/>
                </a:lnTo>
                <a:lnTo>
                  <a:pt x="1967" y="539"/>
                </a:lnTo>
                <a:lnTo>
                  <a:pt x="2980" y="0"/>
                </a:lnTo>
                <a:lnTo>
                  <a:pt x="4573" y="0"/>
                </a:lnTo>
                <a:lnTo>
                  <a:pt x="4572" y="911"/>
                </a:lnTo>
                <a:lnTo>
                  <a:pt x="2991" y="911"/>
                </a:lnTo>
                <a:lnTo>
                  <a:pt x="2257" y="2468"/>
                </a:lnTo>
                <a:lnTo>
                  <a:pt x="2259" y="2469"/>
                </a:lnTo>
                <a:close/>
              </a:path>
            </a:pathLst>
          </a:custGeom>
          <a:noFill/>
          <a:ln w="381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2" name=""/>
          <p:cNvGrpSpPr/>
          <p:nvPr/>
        </p:nvGrpSpPr>
        <p:grpSpPr>
          <a:xfrm>
            <a:off x="5257800" y="1847880"/>
            <a:ext cx="380880" cy="1407960"/>
            <a:chOff x="5257800" y="1847880"/>
            <a:chExt cx="380880" cy="1407960"/>
          </a:xfrm>
        </p:grpSpPr>
        <p:sp>
          <p:nvSpPr>
            <p:cNvPr id="283" name=""/>
            <p:cNvSpPr/>
            <p:nvPr/>
          </p:nvSpPr>
          <p:spPr>
            <a:xfrm>
              <a:off x="5403960" y="1847880"/>
              <a:ext cx="0" cy="140796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257800" y="3225960"/>
              <a:ext cx="380880" cy="0"/>
            </a:xfrm>
            <a:prstGeom prst="line">
              <a:avLst/>
            </a:prstGeom>
            <a:ln w="572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6027E-6AC2-43D8-B8DA-023AB05F80C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6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287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2292480" y="1508040"/>
            <a:ext cx="6318000" cy="5216760"/>
            <a:chOff x="2292480" y="1508040"/>
            <a:chExt cx="6318000" cy="5216760"/>
          </a:xfrm>
        </p:grpSpPr>
        <p:grpSp>
          <p:nvGrpSpPr>
            <p:cNvPr id="299" name=""/>
            <p:cNvGrpSpPr/>
            <p:nvPr/>
          </p:nvGrpSpPr>
          <p:grpSpPr>
            <a:xfrm>
              <a:off x="2509920" y="3505320"/>
              <a:ext cx="6100560" cy="3219480"/>
              <a:chOff x="2509920" y="3505320"/>
              <a:chExt cx="6100560" cy="3219480"/>
            </a:xfrm>
          </p:grpSpPr>
          <p:sp>
            <p:nvSpPr>
              <p:cNvPr id="300" name=""/>
              <p:cNvSpPr/>
              <p:nvPr/>
            </p:nvSpPr>
            <p:spPr>
              <a:xfrm flipH="1" flipV="1">
                <a:off x="5181480" y="3505320"/>
                <a:ext cx="1447920" cy="2286000"/>
              </a:xfrm>
              <a:prstGeom prst="line">
                <a:avLst/>
              </a:prstGeom>
              <a:ln w="19080">
                <a:solidFill>
                  <a:srgbClr val="cc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509920" y="6095880"/>
                <a:ext cx="4119480" cy="628920"/>
              </a:xfrm>
              <a:custGeom>
                <a:avLst/>
                <a:gdLst/>
                <a:ahLst/>
                <a:rect l="l" t="t" r="r" b="b"/>
                <a:pathLst>
                  <a:path w="2595" h="396">
                    <a:moveTo>
                      <a:pt x="2595" y="0"/>
                    </a:moveTo>
                    <a:lnTo>
                      <a:pt x="1807" y="391"/>
                    </a:lnTo>
                    <a:lnTo>
                      <a:pt x="540" y="396"/>
                    </a:lnTo>
                    <a:lnTo>
                      <a:pt x="0" y="208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5145120" y="5943600"/>
                <a:ext cx="1484280" cy="190440"/>
              </a:xfrm>
              <a:custGeom>
                <a:avLst/>
                <a:gdLst/>
                <a:ahLst/>
                <a:rect l="l" t="t" r="r" b="b"/>
                <a:pathLst>
                  <a:path w="935" h="120">
                    <a:moveTo>
                      <a:pt x="935" y="0"/>
                    </a:moveTo>
                    <a:lnTo>
                      <a:pt x="0" y="120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6553080" y="5638680"/>
                <a:ext cx="2057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operations that move element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2292480" y="1508040"/>
              <a:ext cx="5796000" cy="1754280"/>
              <a:chOff x="2292480" y="1508040"/>
              <a:chExt cx="5796000" cy="1754280"/>
            </a:xfrm>
          </p:grpSpPr>
          <p:sp>
            <p:nvSpPr>
              <p:cNvPr id="305" name=""/>
              <p:cNvSpPr/>
              <p:nvPr/>
            </p:nvSpPr>
            <p:spPr>
              <a:xfrm>
                <a:off x="2292480" y="1752480"/>
                <a:ext cx="3816360" cy="1509840"/>
              </a:xfrm>
              <a:custGeom>
                <a:avLst/>
                <a:gdLst/>
                <a:ahLst/>
                <a:rect l="l" t="t" r="r" b="b"/>
                <a:pathLst>
                  <a:path w="2404" h="951">
                    <a:moveTo>
                      <a:pt x="2404" y="0"/>
                    </a:moveTo>
                    <a:lnTo>
                      <a:pt x="519" y="432"/>
                    </a:lnTo>
                    <a:lnTo>
                      <a:pt x="0" y="951"/>
                    </a:lnTo>
                  </a:path>
                </a:pathLst>
              </a:custGeom>
              <a:noFill/>
              <a:ln w="19080">
                <a:solidFill>
                  <a:srgbClr val="cc0000"/>
                </a:solidFill>
                <a:round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031080" y="1508040"/>
                <a:ext cx="20574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cc0000"/>
                    </a:solidFill>
                    <a:latin typeface="Arial"/>
                  </a:rPr>
                  <a:t>factory methods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07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308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13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4" name=""/>
            <p:cNvCxnSpPr>
              <a:stCxn id="315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6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317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318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319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2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315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326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9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330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07B4-63D3-436D-BD97-18E3C3B291FA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figure editor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36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7" name=""/>
          <p:cNvSpPr/>
          <p:nvPr/>
        </p:nvSpPr>
        <p:spPr>
          <a:xfrm>
            <a:off x="524160" y="1469880"/>
            <a:ext cx="5667120" cy="47574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implements FigureElement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1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oint getP2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1(Point p1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1 = p1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setP2(Point p2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p2 = p2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 implements FigureElement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x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x = x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y) {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y = y;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x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y) { ... 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ADF20-5520-463E-90EC-C15D7560C7A7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isplay upda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54100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ollection of figure element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at move periodical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refresh the display as nee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lex coll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synchronous ev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5000"/>
              </a:lnSpc>
              <a:spcBef>
                <a:spcPts val="7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ther exampl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ssion liven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alue cac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324480" y="3048120"/>
            <a:ext cx="2743200" cy="1904760"/>
            <a:chOff x="6324480" y="3048120"/>
            <a:chExt cx="2743200" cy="1904760"/>
          </a:xfrm>
        </p:grpSpPr>
        <p:sp>
          <p:nvSpPr>
            <p:cNvPr id="351" name=""/>
            <p:cNvSpPr/>
            <p:nvPr/>
          </p:nvSpPr>
          <p:spPr>
            <a:xfrm>
              <a:off x="6324480" y="3048120"/>
              <a:ext cx="2743200" cy="1904760"/>
            </a:xfrm>
            <a:prstGeom prst="rect">
              <a:avLst/>
            </a:prstGeom>
            <a:solidFill>
              <a:srgbClr val="cccc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086600" y="35812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629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381880" y="38098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772400" y="335268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7810560" y="3390840"/>
              <a:ext cx="609480" cy="456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391520" y="4419360"/>
              <a:ext cx="914400" cy="3808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7348680" y="43671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348680" y="4757760"/>
              <a:ext cx="75960" cy="756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8258040" y="4371840"/>
              <a:ext cx="7632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8263080" y="4762440"/>
              <a:ext cx="75960" cy="759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6313320" y="51055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we will initially assume just a single displ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31E68A-D5A5-423E-AE78-98EEF477AF9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2209320" y="3581280"/>
            <a:ext cx="1330560" cy="541440"/>
            <a:chOff x="2209320" y="3581280"/>
            <a:chExt cx="1330560" cy="541440"/>
          </a:xfrm>
        </p:grpSpPr>
        <p:sp>
          <p:nvSpPr>
            <p:cNvPr id="364" name=""/>
            <p:cNvSpPr/>
            <p:nvPr/>
          </p:nvSpPr>
          <p:spPr>
            <a:xfrm flipH="1">
              <a:off x="2504520" y="3581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2361600" y="3716280"/>
              <a:ext cx="103500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2208960" y="3876840"/>
              <a:ext cx="103500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7" name=""/>
          <p:cNvSpPr/>
          <p:nvPr/>
        </p:nvSpPr>
        <p:spPr>
          <a:xfrm flipH="1">
            <a:off x="1643040" y="216360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2147760" y="22417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6761160" y="5162400"/>
            <a:ext cx="1329840" cy="541440"/>
            <a:chOff x="6761160" y="5162400"/>
            <a:chExt cx="1329840" cy="541440"/>
          </a:xfrm>
        </p:grpSpPr>
        <p:sp>
          <p:nvSpPr>
            <p:cNvPr id="370" name=""/>
            <p:cNvSpPr/>
            <p:nvPr/>
          </p:nvSpPr>
          <p:spPr>
            <a:xfrm flipH="1">
              <a:off x="7056360" y="5162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6913440" y="529740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6761160" y="545796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"/>
          <p:cNvSpPr/>
          <p:nvPr/>
        </p:nvSpPr>
        <p:spPr>
          <a:xfrm flipH="1">
            <a:off x="6194520" y="374508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6688080" y="382284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Po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2962440"/>
            <a:ext cx="2857680" cy="1152360"/>
          </a:xfrm>
          <a:custGeom>
            <a:avLst/>
            <a:gdLst/>
            <a:ahLst/>
            <a:rect l="l" t="t" r="r" b="b"/>
            <a:pathLst>
              <a:path w="1800" h="726">
                <a:moveTo>
                  <a:pt x="0" y="726"/>
                </a:moveTo>
                <a:lnTo>
                  <a:pt x="594" y="0"/>
                </a:lnTo>
                <a:lnTo>
                  <a:pt x="1800" y="58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048120" y="3090960"/>
            <a:ext cx="3305160" cy="1195200"/>
          </a:xfrm>
          <a:custGeom>
            <a:avLst/>
            <a:gdLst/>
            <a:ahLst/>
            <a:rect l="l" t="t" r="r" b="b"/>
            <a:pathLst>
              <a:path w="2082" h="753">
                <a:moveTo>
                  <a:pt x="0" y="624"/>
                </a:moveTo>
                <a:lnTo>
                  <a:pt x="498" y="0"/>
                </a:lnTo>
                <a:lnTo>
                  <a:pt x="2082" y="753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1003320" y="2292480"/>
            <a:ext cx="1635120" cy="177948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346800" y="4273560"/>
            <a:ext cx="1011240" cy="1384200"/>
          </a:xfrm>
          <a:custGeom>
            <a:avLst/>
            <a:gdLst/>
            <a:ahLst/>
            <a:rect l="l" t="t" r="r" b="b"/>
            <a:pathLst>
              <a:path w="637" h="872">
                <a:moveTo>
                  <a:pt x="0" y="0"/>
                </a:moveTo>
                <a:lnTo>
                  <a:pt x="156" y="88"/>
                </a:lnTo>
                <a:lnTo>
                  <a:pt x="637" y="872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14400" y="2133720"/>
            <a:ext cx="1809720" cy="1861920"/>
          </a:xfrm>
          <a:custGeom>
            <a:avLst/>
            <a:gdLst/>
            <a:ahLst/>
            <a:rect l="l" t="t" r="r" b="b"/>
            <a:pathLst>
              <a:path w="1140" h="1173">
                <a:moveTo>
                  <a:pt x="0" y="0"/>
                </a:moveTo>
                <a:lnTo>
                  <a:pt x="744" y="387"/>
                </a:lnTo>
                <a:lnTo>
                  <a:pt x="1140" y="1173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H="1">
            <a:off x="3481560" y="458784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5691240" y="3855960"/>
            <a:ext cx="1733400" cy="1720800"/>
          </a:xfrm>
          <a:custGeom>
            <a:avLst/>
            <a:gdLst/>
            <a:ahLst/>
            <a:rect l="l" t="t" r="r" b="b"/>
            <a:pathLst>
              <a:path w="1092" h="1084">
                <a:moveTo>
                  <a:pt x="0" y="0"/>
                </a:moveTo>
                <a:lnTo>
                  <a:pt x="582" y="270"/>
                </a:lnTo>
                <a:lnTo>
                  <a:pt x="1092" y="1084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>
            <a:off x="6288480" y="437976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 flipH="1">
            <a:off x="1737000" y="279864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dynamic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2979360" y="3899520"/>
            <a:ext cx="2248200" cy="817920"/>
            <a:chOff x="2979360" y="3899520"/>
            <a:chExt cx="2248200" cy="817920"/>
          </a:xfrm>
        </p:grpSpPr>
        <p:sp>
          <p:nvSpPr>
            <p:cNvPr id="387" name=""/>
            <p:cNvSpPr/>
            <p:nvPr/>
          </p:nvSpPr>
          <p:spPr>
            <a:xfrm flipH="1" rot="5268000">
              <a:off x="3048120" y="3836520"/>
              <a:ext cx="9216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 flipV="1">
              <a:off x="3208320" y="3979800"/>
              <a:ext cx="533520" cy="523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475080" y="4410360"/>
              <a:ext cx="1752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0" name=""/>
          <p:cNvSpPr/>
          <p:nvPr/>
        </p:nvSpPr>
        <p:spPr>
          <a:xfrm flipH="1">
            <a:off x="456480" y="469260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1" name=""/>
          <p:cNvGrpSpPr/>
          <p:nvPr/>
        </p:nvGrpSpPr>
        <p:grpSpPr>
          <a:xfrm>
            <a:off x="560160" y="3840120"/>
            <a:ext cx="2160000" cy="962640"/>
            <a:chOff x="560160" y="3840120"/>
            <a:chExt cx="2160000" cy="962640"/>
          </a:xfrm>
        </p:grpSpPr>
        <p:sp>
          <p:nvSpPr>
            <p:cNvPr id="392" name=""/>
            <p:cNvSpPr/>
            <p:nvPr/>
          </p:nvSpPr>
          <p:spPr>
            <a:xfrm flipH="1">
              <a:off x="559800" y="449568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 rot="5360400">
              <a:off x="2559960" y="3773520"/>
              <a:ext cx="91800" cy="22716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 flipV="1">
              <a:off x="1752480" y="3962160"/>
              <a:ext cx="739800" cy="5778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5" name=""/>
          <p:cNvSpPr/>
          <p:nvPr/>
        </p:nvSpPr>
        <p:spPr>
          <a:xfrm flipH="1">
            <a:off x="3961800" y="5867280"/>
            <a:ext cx="210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turning or throw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4063680" y="5425920"/>
            <a:ext cx="3391200" cy="551880"/>
            <a:chOff x="4063680" y="5425920"/>
            <a:chExt cx="3391200" cy="551880"/>
          </a:xfrm>
        </p:grpSpPr>
        <p:sp>
          <p:nvSpPr>
            <p:cNvPr id="397" name=""/>
            <p:cNvSpPr/>
            <p:nvPr/>
          </p:nvSpPr>
          <p:spPr>
            <a:xfrm flipH="1">
              <a:off x="4063320" y="5670720"/>
              <a:ext cx="1903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a method exec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 rot="5537400">
              <a:off x="7293600" y="5362920"/>
              <a:ext cx="91800" cy="226800"/>
            </a:xfrm>
            <a:prstGeom prst="ellipse">
              <a:avLst/>
            </a:prstGeom>
            <a:solidFill>
              <a:srgbClr val="cc0000"/>
            </a:solidFill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5943600" y="5543640"/>
              <a:ext cx="1123920" cy="24768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04920" y="1447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agin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.moveBy(2,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A7A675-5358-4D1F-BB0B-BC54E27AC511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837720" y="4343040"/>
            <a:ext cx="7543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ral kinds of join point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hod </a:t>
            </a: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&amp; constructo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method &amp; constructo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field get &amp; s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exception handler exec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6699"/>
                </a:solidFill>
                <a:latin typeface="Arial"/>
              </a:rPr>
              <a:t>static &amp; dynamic initial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5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" name=""/>
          <p:cNvGrpSpPr/>
          <p:nvPr/>
        </p:nvGrpSpPr>
        <p:grpSpPr>
          <a:xfrm>
            <a:off x="4025880" y="3002040"/>
            <a:ext cx="1329840" cy="541440"/>
            <a:chOff x="4025880" y="3002040"/>
            <a:chExt cx="1329840" cy="541440"/>
          </a:xfrm>
        </p:grpSpPr>
        <p:sp>
          <p:nvSpPr>
            <p:cNvPr id="404" name=""/>
            <p:cNvSpPr/>
            <p:nvPr/>
          </p:nvSpPr>
          <p:spPr>
            <a:xfrm flipH="1">
              <a:off x="4321080" y="3002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4178160" y="3137040"/>
              <a:ext cx="1034640" cy="2462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4025880" y="3297600"/>
              <a:ext cx="1034640" cy="2458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7" name=""/>
          <p:cNvSpPr/>
          <p:nvPr/>
        </p:nvSpPr>
        <p:spPr>
          <a:xfrm flipH="1">
            <a:off x="3459240" y="1584360"/>
            <a:ext cx="2217600" cy="221616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025880" y="16621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L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2370240" y="1704960"/>
            <a:ext cx="2084400" cy="1787400"/>
          </a:xfrm>
          <a:custGeom>
            <a:avLst/>
            <a:gdLst/>
            <a:ahLst/>
            <a:rect l="l" t="t" r="r" b="b"/>
            <a:pathLst>
              <a:path w="1313" h="1126">
                <a:moveTo>
                  <a:pt x="0" y="0"/>
                </a:moveTo>
                <a:lnTo>
                  <a:pt x="927" y="362"/>
                </a:lnTo>
                <a:lnTo>
                  <a:pt x="1313" y="112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394000" y="1603440"/>
            <a:ext cx="2146320" cy="1812960"/>
          </a:xfrm>
          <a:custGeom>
            <a:avLst/>
            <a:gdLst/>
            <a:ahLst/>
            <a:rect l="l" t="t" r="r" b="b"/>
            <a:pathLst>
              <a:path w="1352" h="1142">
                <a:moveTo>
                  <a:pt x="0" y="0"/>
                </a:moveTo>
                <a:lnTo>
                  <a:pt x="956" y="381"/>
                </a:lnTo>
                <a:lnTo>
                  <a:pt x="1352" y="114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3553200" y="2219400"/>
            <a:ext cx="1196640" cy="433800"/>
          </a:xfrm>
          <a:prstGeom prst="ellipse">
            <a:avLst/>
          </a:prstGeom>
          <a:noFill/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pat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6323760" y="3276720"/>
            <a:ext cx="179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thod call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2641680" y="3216240"/>
            <a:ext cx="1625400" cy="8244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727520" y="2413080"/>
            <a:ext cx="1866960" cy="1050840"/>
          </a:xfrm>
          <a:custGeom>
            <a:avLst/>
            <a:gdLst/>
            <a:ahLst/>
            <a:rect l="l" t="t" r="r" b="b"/>
            <a:pathLst>
              <a:path w="1176" h="662">
                <a:moveTo>
                  <a:pt x="0" y="662"/>
                </a:moveTo>
                <a:lnTo>
                  <a:pt x="574" y="0"/>
                </a:lnTo>
                <a:lnTo>
                  <a:pt x="1176" y="276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4894200" y="2567160"/>
            <a:ext cx="1413000" cy="901440"/>
          </a:xfrm>
          <a:custGeom>
            <a:avLst/>
            <a:gdLst/>
            <a:ahLst/>
            <a:rect l="l" t="t" r="r" b="b"/>
            <a:pathLst>
              <a:path w="890" h="568">
                <a:moveTo>
                  <a:pt x="0" y="568"/>
                </a:moveTo>
                <a:lnTo>
                  <a:pt x="497" y="0"/>
                </a:lnTo>
                <a:lnTo>
                  <a:pt x="890" y="179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 flipH="1" rot="5677800">
            <a:off x="4397040" y="3186720"/>
            <a:ext cx="9216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 flipH="1">
            <a:off x="1100880" y="2879640"/>
            <a:ext cx="1793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6699"/>
                </a:solidFill>
                <a:latin typeface="Arial"/>
              </a:rPr>
              <a:t>method execution join poi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 flipH="1" rot="5268000">
            <a:off x="4867920" y="3208680"/>
            <a:ext cx="91800" cy="22680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 flipH="1" flipV="1">
            <a:off x="5227200" y="3382920"/>
            <a:ext cx="1173240" cy="12240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E41D4-A78F-4CA2-B279-81C916C0F967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0" name=""/>
          <p:cNvGrpSpPr/>
          <p:nvPr/>
        </p:nvGrpSpPr>
        <p:grpSpPr>
          <a:xfrm>
            <a:off x="75960" y="2666880"/>
            <a:ext cx="1654200" cy="1654200"/>
            <a:chOff x="75960" y="2666880"/>
            <a:chExt cx="1654200" cy="1654200"/>
          </a:xfrm>
        </p:grpSpPr>
        <p:sp>
          <p:nvSpPr>
            <p:cNvPr id="421" name=""/>
            <p:cNvSpPr/>
            <p:nvPr/>
          </p:nvSpPr>
          <p:spPr>
            <a:xfrm flipH="1">
              <a:off x="718560" y="372420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 flipH="1">
              <a:off x="612000" y="3825720"/>
              <a:ext cx="77148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 flipH="1">
              <a:off x="497880" y="3944880"/>
              <a:ext cx="772920" cy="184320"/>
            </a:xfrm>
            <a:prstGeom prst="rect">
              <a:avLst/>
            </a:prstGeom>
            <a:noFill/>
            <a:ln w="1260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 flipH="1">
              <a:off x="75600" y="2666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b2b2b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52520" y="2725560"/>
              <a:ext cx="85248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"/>
          <p:cNvGrpSpPr/>
          <p:nvPr/>
        </p:nvGrpSpPr>
        <p:grpSpPr>
          <a:xfrm>
            <a:off x="5965560" y="1523880"/>
            <a:ext cx="1654200" cy="1654200"/>
            <a:chOff x="5965560" y="1523880"/>
            <a:chExt cx="1654200" cy="1654200"/>
          </a:xfrm>
        </p:grpSpPr>
        <p:sp>
          <p:nvSpPr>
            <p:cNvPr id="428" name=""/>
            <p:cNvSpPr/>
            <p:nvPr/>
          </p:nvSpPr>
          <p:spPr>
            <a:xfrm flipH="1">
              <a:off x="6608880" y="25812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6501960" y="26827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6388200" y="28015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5965200" y="15238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6336000" y="15825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2147400" y="2252520"/>
            <a:ext cx="1654200" cy="1654200"/>
            <a:chOff x="2147400" y="2252520"/>
            <a:chExt cx="1654200" cy="1654200"/>
          </a:xfrm>
        </p:grpSpPr>
        <p:sp>
          <p:nvSpPr>
            <p:cNvPr id="434" name=""/>
            <p:cNvSpPr/>
            <p:nvPr/>
          </p:nvSpPr>
          <p:spPr>
            <a:xfrm flipH="1">
              <a:off x="2790720" y="330948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2683800" y="341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>
              <a:off x="2570040" y="35301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>
              <a:off x="2147040" y="22525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523960" y="2311200"/>
              <a:ext cx="8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957240" y="2962440"/>
            <a:ext cx="1881360" cy="1033200"/>
          </a:xfrm>
          <a:custGeom>
            <a:avLst/>
            <a:gdLst/>
            <a:ahLst/>
            <a:rect l="l" t="t" r="r" b="b"/>
            <a:pathLst>
              <a:path w="1185" h="651">
                <a:moveTo>
                  <a:pt x="0" y="651"/>
                </a:moveTo>
                <a:lnTo>
                  <a:pt x="762" y="0"/>
                </a:lnTo>
                <a:lnTo>
                  <a:pt x="1185" y="417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027080" y="3081240"/>
            <a:ext cx="1735200" cy="979560"/>
          </a:xfrm>
          <a:custGeom>
            <a:avLst/>
            <a:gdLst/>
            <a:ahLst/>
            <a:rect l="l" t="t" r="r" b="b"/>
            <a:pathLst>
              <a:path w="1093" h="617">
                <a:moveTo>
                  <a:pt x="0" y="617"/>
                </a:moveTo>
                <a:lnTo>
                  <a:pt x="712" y="0"/>
                </a:lnTo>
                <a:lnTo>
                  <a:pt x="1093" y="35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971800" y="2111400"/>
            <a:ext cx="250992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484960" y="182880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78600" y="1917720"/>
            <a:ext cx="741240" cy="101268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124080" y="1967040"/>
            <a:ext cx="2928960" cy="161424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4648320"/>
            <a:ext cx="4191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on this slide are within the control flow of</a:t>
            </a:r>
            <a:br>
              <a:rPr sz="2000"/>
            </a:b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this join 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1218960" y="4114800"/>
            <a:ext cx="685800" cy="53352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200400" y="3076560"/>
            <a:ext cx="2033640" cy="657360"/>
          </a:xfrm>
          <a:custGeom>
            <a:avLst/>
            <a:gdLst/>
            <a:ahLst/>
            <a:rect l="l" t="t" r="r" b="b"/>
            <a:pathLst>
              <a:path w="1216" h="402">
                <a:moveTo>
                  <a:pt x="0" y="335"/>
                </a:moveTo>
                <a:lnTo>
                  <a:pt x="322" y="0"/>
                </a:lnTo>
                <a:lnTo>
                  <a:pt x="1216" y="402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key points in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ynami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call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5965560" y="3603600"/>
            <a:ext cx="1654200" cy="1654200"/>
            <a:chOff x="5965560" y="3603600"/>
            <a:chExt cx="1654200" cy="1654200"/>
          </a:xfrm>
        </p:grpSpPr>
        <p:sp>
          <p:nvSpPr>
            <p:cNvPr id="450" name=""/>
            <p:cNvSpPr/>
            <p:nvPr/>
          </p:nvSpPr>
          <p:spPr>
            <a:xfrm flipH="1">
              <a:off x="6608880" y="466092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 flipH="1">
              <a:off x="6501960" y="476244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 flipH="1">
              <a:off x="6388200" y="488124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 flipH="1">
              <a:off x="5965200" y="360360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336000" y="366228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5143680" y="3666960"/>
            <a:ext cx="1531800" cy="1268640"/>
          </a:xfrm>
          <a:custGeom>
            <a:avLst/>
            <a:gdLst/>
            <a:ahLst/>
            <a:rect l="l" t="t" r="r" b="b"/>
            <a:pathLst>
              <a:path w="965" h="799">
                <a:moveTo>
                  <a:pt x="0" y="0"/>
                </a:moveTo>
                <a:lnTo>
                  <a:pt x="552" y="269"/>
                </a:lnTo>
                <a:lnTo>
                  <a:pt x="965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286080" y="3171960"/>
            <a:ext cx="3276720" cy="1771560"/>
          </a:xfrm>
          <a:custGeom>
            <a:avLst/>
            <a:gdLst/>
            <a:ahLst/>
            <a:rect l="l" t="t" r="r" b="b"/>
            <a:pathLst>
              <a:path w="2064" h="1116">
                <a:moveTo>
                  <a:pt x="0" y="294"/>
                </a:moveTo>
                <a:lnTo>
                  <a:pt x="288" y="0"/>
                </a:lnTo>
                <a:lnTo>
                  <a:pt x="1697" y="642"/>
                </a:lnTo>
                <a:lnTo>
                  <a:pt x="2064" y="1116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 flipH="1" rot="5358600">
            <a:off x="6737400" y="271728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flipH="1" rot="5358600">
            <a:off x="988920" y="39301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 flipH="1" rot="5358600">
            <a:off x="3034800" y="35222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 flipH="1" rot="5358600">
            <a:off x="3250800" y="3530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 flipH="1" rot="5358600">
            <a:off x="6527880" y="48254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 flipH="1" rot="5358600">
            <a:off x="2641680" y="34538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0" y="2666880"/>
            <a:ext cx="457200" cy="1905120"/>
          </a:xfrm>
          <a:prstGeom prst="rect">
            <a:avLst/>
          </a:prstGeom>
          <a:solidFill>
            <a:srgbClr val="c8ce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D52127-E749-4446-A5E4-B5837749634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pointcut constru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762120" y="1616040"/>
            <a:ext cx="746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ime there is a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1(Point)&gt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void Line.setP2(Point)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method c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800600" y="728640"/>
            <a:ext cx="424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ames certain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7" name=""/>
          <p:cNvGrpSpPr/>
          <p:nvPr/>
        </p:nvGrpSpPr>
        <p:grpSpPr>
          <a:xfrm>
            <a:off x="5409720" y="3489480"/>
            <a:ext cx="564840" cy="398880"/>
            <a:chOff x="5409720" y="3489480"/>
            <a:chExt cx="564840" cy="398880"/>
          </a:xfrm>
        </p:grpSpPr>
        <p:sp>
          <p:nvSpPr>
            <p:cNvPr id="468" name=""/>
            <p:cNvSpPr/>
            <p:nvPr/>
          </p:nvSpPr>
          <p:spPr>
            <a:xfrm flipH="1">
              <a:off x="5409720" y="3706920"/>
              <a:ext cx="203400" cy="165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5566680" y="3489480"/>
              <a:ext cx="407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Arial"/>
                </a:rPr>
                <a:t>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0" name=""/>
          <p:cNvGrpSpPr/>
          <p:nvPr/>
        </p:nvGrpSpPr>
        <p:grpSpPr>
          <a:xfrm>
            <a:off x="3125520" y="4424040"/>
            <a:ext cx="3833640" cy="786600"/>
            <a:chOff x="3125520" y="4424040"/>
            <a:chExt cx="3833640" cy="786600"/>
          </a:xfrm>
        </p:grpSpPr>
        <p:sp>
          <p:nvSpPr>
            <p:cNvPr id="471" name=""/>
            <p:cNvSpPr/>
            <p:nvPr/>
          </p:nvSpPr>
          <p:spPr>
            <a:xfrm flipV="1">
              <a:off x="3816000" y="4424040"/>
              <a:ext cx="304920" cy="4568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25520" y="478152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2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3" name=""/>
          <p:cNvGrpSpPr/>
          <p:nvPr/>
        </p:nvGrpSpPr>
        <p:grpSpPr>
          <a:xfrm>
            <a:off x="392040" y="2695680"/>
            <a:ext cx="2913120" cy="850320"/>
            <a:chOff x="392040" y="2695680"/>
            <a:chExt cx="2913120" cy="850320"/>
          </a:xfrm>
        </p:grpSpPr>
        <p:sp>
          <p:nvSpPr>
            <p:cNvPr id="474" name=""/>
            <p:cNvSpPr/>
            <p:nvPr/>
          </p:nvSpPr>
          <p:spPr>
            <a:xfrm>
              <a:off x="2128680" y="3117600"/>
              <a:ext cx="398520" cy="4284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92040" y="2695680"/>
              <a:ext cx="29131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name and parameters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6" name=""/>
          <p:cNvGrpSpPr/>
          <p:nvPr/>
        </p:nvGrpSpPr>
        <p:grpSpPr>
          <a:xfrm>
            <a:off x="3125520" y="2963880"/>
            <a:ext cx="3833640" cy="851040"/>
            <a:chOff x="3125520" y="2963880"/>
            <a:chExt cx="3833640" cy="851040"/>
          </a:xfrm>
        </p:grpSpPr>
        <p:sp>
          <p:nvSpPr>
            <p:cNvPr id="477" name=""/>
            <p:cNvSpPr/>
            <p:nvPr/>
          </p:nvSpPr>
          <p:spPr>
            <a:xfrm>
              <a:off x="3125520" y="2963880"/>
              <a:ext cx="3833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cc0000"/>
                  </a:solidFill>
                  <a:latin typeface="Arial"/>
                </a:rPr>
                <a:t>a “void Line.setP1(Point)” call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3816000" y="3357720"/>
              <a:ext cx="304920" cy="45720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9" name=""/>
          <p:cNvSpPr/>
          <p:nvPr/>
        </p:nvSpPr>
        <p:spPr>
          <a:xfrm>
            <a:off x="523800" y="2138400"/>
            <a:ext cx="5118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F5D72-7006-483D-9055-7EDA06634E2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676080" y="2133720"/>
            <a:ext cx="51184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i="1" lang="en-US" sz="1800" spc="-1" strike="noStrike">
                <a:solidFill>
                  <a:srgbClr val="000000"/>
                </a:solidFill>
                <a:latin typeface="Courier New"/>
              </a:rPr>
              <a:t>&lt;code here runs after each move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fter advic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124080" y="338040"/>
            <a:ext cx="592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tion to take aft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ation under join poi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746400" y="1927080"/>
            <a:ext cx="1654200" cy="1654200"/>
            <a:chOff x="6746400" y="1927080"/>
            <a:chExt cx="1654200" cy="1654200"/>
          </a:xfrm>
        </p:grpSpPr>
        <p:sp>
          <p:nvSpPr>
            <p:cNvPr id="484" name=""/>
            <p:cNvSpPr/>
            <p:nvPr/>
          </p:nvSpPr>
          <p:spPr>
            <a:xfrm flipH="1">
              <a:off x="7389720" y="298440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>
              <a:off x="7282800" y="308592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 flipH="1">
              <a:off x="7169040" y="32047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6746040" y="192708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7116840" y="198576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6053040" y="2217600"/>
            <a:ext cx="1611360" cy="1076400"/>
          </a:xfrm>
          <a:custGeom>
            <a:avLst/>
            <a:gdLst/>
            <a:ahLst/>
            <a:rect l="l" t="t" r="r" b="b"/>
            <a:pathLst>
              <a:path w="1015" h="678">
                <a:moveTo>
                  <a:pt x="0" y="535"/>
                </a:moveTo>
                <a:lnTo>
                  <a:pt x="504" y="0"/>
                </a:lnTo>
                <a:lnTo>
                  <a:pt x="1015" y="678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230880" y="2347920"/>
            <a:ext cx="1370160" cy="985680"/>
          </a:xfrm>
          <a:custGeom>
            <a:avLst/>
            <a:gdLst/>
            <a:ahLst/>
            <a:rect l="l" t="t" r="r" b="b"/>
            <a:pathLst>
              <a:path w="863" h="621">
                <a:moveTo>
                  <a:pt x="0" y="422"/>
                </a:moveTo>
                <a:lnTo>
                  <a:pt x="399" y="0"/>
                </a:lnTo>
                <a:lnTo>
                  <a:pt x="863" y="6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76320" y="1460520"/>
            <a:ext cx="236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after advice runs</a:t>
            </a:r>
            <a:br>
              <a:rPr sz="1800"/>
            </a:b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“on the way back out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 flipH="1" rot="5358600">
            <a:off x="622260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637400" y="2511360"/>
            <a:ext cx="800280" cy="849240"/>
          </a:xfrm>
          <a:custGeom>
            <a:avLst/>
            <a:gdLst/>
            <a:ahLst/>
            <a:rect l="l" t="t" r="r" b="b"/>
            <a:pathLst>
              <a:path w="504" h="535">
                <a:moveTo>
                  <a:pt x="0" y="535"/>
                </a:moveTo>
                <a:lnTo>
                  <a:pt x="504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7815240" y="2641680"/>
            <a:ext cx="633600" cy="669960"/>
          </a:xfrm>
          <a:custGeom>
            <a:avLst/>
            <a:gdLst/>
            <a:ahLst/>
            <a:rect l="l" t="t" r="r" b="b"/>
            <a:pathLst>
              <a:path w="399" h="422">
                <a:moveTo>
                  <a:pt x="0" y="422"/>
                </a:moveTo>
                <a:lnTo>
                  <a:pt x="39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H="1" rot="5358600">
            <a:off x="7777800" y="3171240"/>
            <a:ext cx="68040" cy="16956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 flipH="1" rot="5358600">
            <a:off x="8703720" y="297144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H="1" rot="5358600">
            <a:off x="8889480" y="30729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 flipH="1" rot="5358600">
            <a:off x="8584920" y="269208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H="1" rot="5358600">
            <a:off x="8889480" y="28443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D73EB-929F-4292-8348-8852E0CFB790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tc2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one bo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ML pars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A18003-EA7F-4A54-92BD-882B51CF303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simple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1599840" y="1828800"/>
            <a:ext cx="2514600" cy="10666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038480" y="146376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an aspect defines a special class that can crosscut other cla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609480" y="6186600"/>
            <a:ext cx="403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x means complete running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346640" y="5867280"/>
            <a:ext cx="596880" cy="398520"/>
          </a:xfrm>
          <a:custGeom>
            <a:avLst/>
            <a:gdLst/>
            <a:ahLst/>
            <a:rect l="l" t="t" r="r" b="b"/>
            <a:pathLst>
              <a:path w="376" h="251">
                <a:moveTo>
                  <a:pt x="0" y="251"/>
                </a:moveTo>
                <a:cubicBezTo>
                  <a:pt x="24" y="227"/>
                  <a:pt x="107" y="115"/>
                  <a:pt x="140" y="108"/>
                </a:cubicBezTo>
                <a:cubicBezTo>
                  <a:pt x="173" y="101"/>
                  <a:pt x="158" y="226"/>
                  <a:pt x="197" y="208"/>
                </a:cubicBezTo>
                <a:cubicBezTo>
                  <a:pt x="236" y="190"/>
                  <a:pt x="339" y="43"/>
                  <a:pt x="376" y="0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22360" y="2952720"/>
            <a:ext cx="5118480" cy="283716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B36AF-40E0-48E7-B8BC-2A4A8A96018C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 multi-class aspect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9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10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1" name="" descr=""/>
            <p:cNvPicPr/>
            <p:nvPr/>
          </p:nvPicPr>
          <p:blipFill>
            <a:blip r:embed="rId1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2" name=""/>
          <p:cNvSpPr/>
          <p:nvPr/>
        </p:nvSpPr>
        <p:spPr>
          <a:xfrm>
            <a:off x="518400" y="2952720"/>
            <a:ext cx="6764400" cy="3660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3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4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2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88C9C1-FBB2-4697-B4CF-E6A212F72809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&amp; multiple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7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18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19" name="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95720" y="1498680"/>
            <a:ext cx="6901560" cy="3934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gureElement.moveBy(int, 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          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807240" y="6226200"/>
            <a:ext cx="2286000" cy="592200"/>
            <a:chOff x="6807240" y="6226200"/>
            <a:chExt cx="2286000" cy="592200"/>
          </a:xfrm>
        </p:grpSpPr>
        <p:sp>
          <p:nvSpPr>
            <p:cNvPr id="523" name=""/>
            <p:cNvSpPr/>
            <p:nvPr/>
          </p:nvSpPr>
          <p:spPr>
            <a:xfrm>
              <a:off x="680724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24" name="" descr=""/>
            <p:cNvPicPr/>
            <p:nvPr/>
          </p:nvPicPr>
          <p:blipFill>
            <a:blip r:embed="rId2"/>
            <a:stretch/>
          </p:blipFill>
          <p:spPr>
            <a:xfrm>
              <a:off x="688320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923C4-62AB-410A-9EF0-21DBD9ACE3F1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D4B41-E232-4E73-8BA0-A73181F6D01B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CF2C0-2A73-4990-9FF4-87106F44D558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878B21-7585-4041-971A-7E3076E8C752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536760" y="1514520"/>
            <a:ext cx="246672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3580920" y="4647960"/>
            <a:ext cx="54104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o locus of “display updating”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cumberso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anges in all class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to track &amp; change all call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04D6C-7A22-4DB9-98B5-81550E01D840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E4BDEF-A5BB-4ECC-BB94-E20CFE4F45F3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846600" y="1512720"/>
            <a:ext cx="3762360" cy="17388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1(Point)) ||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Line.setP2(Po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522765-45FF-4DBC-B95B-E0062B07ED54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3846600" y="1512720"/>
            <a:ext cx="3914640" cy="2195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FigureElement.moveBy(int, int) ||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call(void Point.setY(int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returning: move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isplay.update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5DFCAB-CC8D-4FAC-A974-C6CEE584BE1D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tc3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7815240" cy="351792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good modularit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relevant lines of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cely fits in two boxes (using inheritanc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RL pattern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EFF1DD-FCC0-4F95-9B7A-1908C5FC26E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581280" y="4626000"/>
            <a:ext cx="5486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 display updating modul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changes in single aspe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olution is modul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854160" y="1514520"/>
            <a:ext cx="3915000" cy="25002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ointcut move(FigureElement figElt)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target(figElt) &amp;&amp;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(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1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Line.setP2(Point))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X(int))               ||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.setY(int))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)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after(FigureElement fe) returning: move(fe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fe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splayUpdating v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36760" y="1514520"/>
            <a:ext cx="2466720" cy="44798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p1,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x = 0, 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thi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6D574C-9128-4765-A81E-3A9F20D0C7FD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/>
          <p:nvPr/>
        </p:nvSpPr>
        <p:spPr>
          <a:xfrm>
            <a:off x="6858000" y="6248520"/>
            <a:ext cx="2260440" cy="59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s </a:t>
            </a:r>
            <a:r>
              <a:rPr b="1" lang="en-US" sz="4200" spc="-1" strike="noStrike" u="sng">
                <a:solidFill>
                  <a:srgbClr val="000000"/>
                </a:solidFill>
                <a:uFillTx/>
                <a:latin typeface="Arial"/>
              </a:rPr>
              <a:t>crosscut</a:t>
            </a: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 classe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3200040" y="1523520"/>
            <a:ext cx="5638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75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 modularity cuts across class modularity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71400" y="5786280"/>
            <a:ext cx="6948720" cy="800280"/>
          </a:xfrm>
          <a:prstGeom prst="rect">
            <a:avLst/>
          </a:prstGeom>
          <a:noFill/>
          <a:ln w="255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Arial"/>
              </a:rPr>
              <a:t>DisplayUpd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6" name=""/>
          <p:cNvGrpSpPr/>
          <p:nvPr/>
        </p:nvGrpSpPr>
        <p:grpSpPr>
          <a:xfrm>
            <a:off x="750960" y="1676520"/>
            <a:ext cx="4583160" cy="4952880"/>
            <a:chOff x="750960" y="1676520"/>
            <a:chExt cx="4583160" cy="4952880"/>
          </a:xfrm>
        </p:grpSpPr>
        <p:sp>
          <p:nvSpPr>
            <p:cNvPr id="557" name=""/>
            <p:cNvSpPr/>
            <p:nvPr/>
          </p:nvSpPr>
          <p:spPr>
            <a:xfrm>
              <a:off x="762120" y="1676520"/>
              <a:ext cx="1828800" cy="447480"/>
            </a:xfrm>
            <a:prstGeom prst="rect">
              <a:avLst/>
            </a:prstGeom>
            <a:noFill/>
            <a:ln w="2556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666699"/>
                  </a:solidFill>
                  <a:latin typeface="Arial"/>
                </a:rPr>
                <a:t>Displa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590920" y="2741760"/>
              <a:ext cx="914400" cy="0"/>
            </a:xfrm>
            <a:prstGeom prst="line">
              <a:avLst/>
            </a:prstGeom>
            <a:ln w="19080">
              <a:solidFill>
                <a:srgbClr val="666699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222720" y="2459160"/>
              <a:ext cx="228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666699"/>
                  </a:solidFill>
                  <a:latin typeface="Arial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H="1">
              <a:off x="2579760" y="5097600"/>
              <a:ext cx="9144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sm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2633760" y="4700520"/>
              <a:ext cx="30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62" name=""/>
            <p:cNvCxnSpPr/>
            <p:nvPr/>
          </p:nvCxnSpPr>
          <p:spPr>
            <a:xfrm flipV="1">
              <a:off x="1665000" y="4252680"/>
              <a:ext cx="1080" cy="3052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3" name=""/>
            <p:cNvCxnSpPr>
              <a:stCxn id="564" idx="0"/>
            </p:cNvCxnSpPr>
            <p:nvPr/>
          </p:nvCxnSpPr>
          <p:spPr>
            <a:xfrm flipV="1">
              <a:off x="4408200" y="4252680"/>
              <a:ext cx="1080" cy="30384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5" name=""/>
            <p:cNvCxnSpPr/>
            <p:nvPr/>
          </p:nvCxnSpPr>
          <p:spPr>
            <a:xfrm>
              <a:off x="1665360" y="4252680"/>
              <a:ext cx="2743920" cy="108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cxnSp>
          <p:nvCxnSpPr>
            <p:cNvPr id="566" name=""/>
            <p:cNvCxnSpPr/>
            <p:nvPr/>
          </p:nvCxnSpPr>
          <p:spPr>
            <a:xfrm flipV="1">
              <a:off x="4408200" y="3798360"/>
              <a:ext cx="1080" cy="457920"/>
            </a:xfrm>
            <a:prstGeom prst="straightConnector1">
              <a:avLst/>
            </a:prstGeom>
            <a:ln w="19080">
              <a:solidFill>
                <a:srgbClr val="666699"/>
              </a:solidFill>
              <a:miter/>
            </a:ln>
          </p:spPr>
        </p:cxnSp>
        <p:grpSp>
          <p:nvGrpSpPr>
            <p:cNvPr id="567" name=""/>
            <p:cNvGrpSpPr/>
            <p:nvPr/>
          </p:nvGrpSpPr>
          <p:grpSpPr>
            <a:xfrm>
              <a:off x="750960" y="4568760"/>
              <a:ext cx="1828800" cy="2060640"/>
              <a:chOff x="750960" y="4568760"/>
              <a:chExt cx="1828800" cy="2060640"/>
            </a:xfrm>
          </p:grpSpPr>
          <p:sp>
            <p:nvSpPr>
              <p:cNvPr id="568" name=""/>
              <p:cNvSpPr/>
              <p:nvPr/>
            </p:nvSpPr>
            <p:spPr>
              <a:xfrm>
                <a:off x="7509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Poi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09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X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Y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X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Y(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509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1" name=""/>
            <p:cNvGrpSpPr/>
            <p:nvPr/>
          </p:nvGrpSpPr>
          <p:grpSpPr>
            <a:xfrm>
              <a:off x="3494160" y="4568760"/>
              <a:ext cx="1828800" cy="2060640"/>
              <a:chOff x="3494160" y="4568760"/>
              <a:chExt cx="1828800" cy="2060640"/>
            </a:xfrm>
          </p:grpSpPr>
          <p:sp>
            <p:nvSpPr>
              <p:cNvPr id="564" name=""/>
              <p:cNvSpPr/>
              <p:nvPr/>
            </p:nvSpPr>
            <p:spPr>
              <a:xfrm>
                <a:off x="3494160" y="45687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Lin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3494160" y="5167440"/>
                <a:ext cx="1828800" cy="146196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1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P2(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1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P2(Point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3494160" y="5014800"/>
                <a:ext cx="1828800" cy="1526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4" name=""/>
            <p:cNvGrpSpPr/>
            <p:nvPr/>
          </p:nvGrpSpPr>
          <p:grpSpPr>
            <a:xfrm>
              <a:off x="762120" y="2523960"/>
              <a:ext cx="1828800" cy="1363680"/>
              <a:chOff x="762120" y="2523960"/>
              <a:chExt cx="1828800" cy="1363680"/>
            </a:xfrm>
          </p:grpSpPr>
          <p:sp>
            <p:nvSpPr>
              <p:cNvPr id="575" name=""/>
              <p:cNvSpPr/>
              <p:nvPr/>
            </p:nvSpPr>
            <p:spPr>
              <a:xfrm>
                <a:off x="7621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666699"/>
                    </a:solidFill>
                    <a:latin typeface="Arial"/>
                  </a:rPr>
                  <a:t>Figure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62120" y="2970360"/>
                <a:ext cx="1828800" cy="917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Point(..)</a:t>
                </a:r>
                <a:br>
                  <a:rPr sz="1800"/>
                </a:b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akeLine(..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762120" y="296712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3505320" y="2523960"/>
              <a:ext cx="1828800" cy="1285920"/>
              <a:chOff x="3505320" y="2523960"/>
              <a:chExt cx="1828800" cy="1285920"/>
            </a:xfrm>
          </p:grpSpPr>
          <p:sp>
            <p:nvSpPr>
              <p:cNvPr id="579" name=""/>
              <p:cNvSpPr/>
              <p:nvPr/>
            </p:nvSpPr>
            <p:spPr>
              <a:xfrm>
                <a:off x="3505320" y="2523960"/>
                <a:ext cx="1828800" cy="447840"/>
              </a:xfrm>
              <a:prstGeom prst="rect">
                <a:avLst/>
              </a:prstGeom>
              <a:noFill/>
              <a:ln w="2556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1800" spc="-1" strike="noStrike">
                    <a:solidFill>
                      <a:srgbClr val="666699"/>
                    </a:solidFill>
                    <a:latin typeface="Arial"/>
                  </a:rPr>
                  <a:t>FigureElement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343400" y="3657600"/>
                <a:ext cx="152280" cy="15228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66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60" bIns="396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505320" y="2968560"/>
                <a:ext cx="1828800" cy="68904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moveBy(int, int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505320" y="2963880"/>
                <a:ext cx="1828800" cy="14292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8A5E1-3A84-4C31-A646-813DF3B734E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06880" y="1509840"/>
            <a:ext cx="7282440" cy="44521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Object mover, FigureElement fe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return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mover, move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mover, 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5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586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87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593F8D-3A82-4126-BEEF-6CBA038A83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3889440" y="4419720"/>
            <a:ext cx="24663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Display.updat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45599-FF18-4AB6-BA04-FB6C944F7C5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3660840" y="4267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36760" y="1514520"/>
            <a:ext cx="2771640" cy="50889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Line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Point _p1, _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1() { return _p1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oint getP2() { return _p2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1(Point p1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1 = p1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P2(Point p2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p2 = p2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_x = 0, _y = 0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X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etY() {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; 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X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x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x = x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Y(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int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y) {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y = y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One(this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3854520" y="1514520"/>
            <a:ext cx="4447800" cy="2652480"/>
          </a:xfrm>
          <a:prstGeom prst="rect">
            <a:avLst/>
          </a:prstGeom>
          <a:solidFill>
            <a:srgbClr val="ffffff"/>
          </a:solidFill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Track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rivate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private static Set _mover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collect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Object 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, Object o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.add(o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_movers.add(o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stati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Set getmovees(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result = _movees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_movees = new HashSet(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retur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resul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without AspectJ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838080" y="29718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838080" y="358128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838080" y="556272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838080" y="6172200"/>
            <a:ext cx="2438640" cy="0"/>
          </a:xfrm>
          <a:prstGeom prst="line">
            <a:avLst/>
          </a:prstGeom>
          <a:ln w="1260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35592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65000" y="19810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XYZZY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oveit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X(p.getX()+1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70520" y="480060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bar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374840" y="49528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oo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0440" y="39625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z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1603440" y="289548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Bar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mumble(Line l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l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.setP1(new Point()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064200" y="3276720"/>
            <a:ext cx="3076560" cy="1738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AnotherClass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33cc"/>
                </a:solidFill>
                <a:latin typeface="Courier New"/>
              </a:rPr>
              <a:t>public voi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frotz(Point p)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cc0000"/>
                </a:solidFill>
                <a:latin typeface="Courier New"/>
              </a:rPr>
              <a:t>MoveTracking.collectMove(this, p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.setY(42)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1AC6ED-93E5-4591-9AA0-A23277D220E2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perty-based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761760" y="4800600"/>
            <a:ext cx="83818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s methods with a common propert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/private, return a certain value, in a particular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ogging, debugging, profil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 on entry to every public meth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3220920" y="1176480"/>
            <a:ext cx="3048120" cy="341424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2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frotz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r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6019920" y="1752480"/>
            <a:ext cx="3047760" cy="2587320"/>
          </a:xfrm>
          <a:prstGeom prst="foldedCorner">
            <a:avLst>
              <a:gd name="adj" fmla="val 12500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b;</a:t>
            </a:r>
            <a:br>
              <a:rPr sz="1600"/>
            </a:b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3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tring s1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380880" y="1233360"/>
            <a:ext cx="2895840" cy="3591360"/>
          </a:xfrm>
          <a:prstGeom prst="foldedCorner">
            <a:avLst>
              <a:gd name="adj" fmla="val 9921"/>
            </a:avLst>
          </a:prstGeom>
          <a:solidFill>
            <a:srgbClr val="d2d2d2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ackage com.xerox.a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class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1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foo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cc0000"/>
                </a:solidFill>
                <a:latin typeface="Courier New"/>
              </a:rPr>
              <a:t>A.doSomething(…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void mum()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 x = 1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1090F3-5F4A-4AD2-BA41-680BF86B1EA4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logging agai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646200" y="1552680"/>
            <a:ext cx="3020760" cy="44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//From ContextManag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public void service( Request rrequest, Response rresponse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New 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    System.out.print("A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ContextManager( thi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setResponse(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setRequest(rrequest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wront request - parsing err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nt status=rresponse.getStatus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&lt; 400 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 processRequest(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==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enticat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status == 0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status=authorize( rrequest, rresponse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if( status == 0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getWrapper().handleRequest(rrequest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// something went wro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null, status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 (Throwable t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handleError( rrequest, rresponse, t, 0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B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try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finish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quest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response.recycle(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 catch( Throwable ex ) {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   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if(debug&gt;0) log( "Error closing request " + ex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log( "Done with request " + rrequest 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cc0000"/>
                </a:solidFill>
                <a:latin typeface="Courier New"/>
              </a:rPr>
              <a:t>// System.out.print("C")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return;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3962520" y="21337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 "New  request " + rrequest 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3962520" y="25909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“A”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62520" y="4191120"/>
            <a:ext cx="48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B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962520" y="5410080"/>
            <a:ext cx="5105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log("Done with request " + rreques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962520" y="4724280"/>
            <a:ext cx="499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f(debug&gt;0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og("Error closing request " + ex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962520" y="5943600"/>
            <a:ext cx="3497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// System.out.print("C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517840" y="2174760"/>
            <a:ext cx="1468440" cy="111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495520" y="2390760"/>
            <a:ext cx="1490760" cy="276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 flipV="1">
            <a:off x="2004840" y="4343040"/>
            <a:ext cx="198144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3224160" y="4952520"/>
            <a:ext cx="76212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690640" y="5410080"/>
            <a:ext cx="129564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1905120" y="5529240"/>
            <a:ext cx="2081160" cy="566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1FC703-D6C1-4FD6-9B8A-C3216F26609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371600" y="4724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7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sider code maintena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adds a public metho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.e. extends public interface – this code will still 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924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ther programmer reads this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731520" indent="-146160">
              <a:lnSpc>
                <a:spcPct val="75000"/>
              </a:lnSpc>
              <a:spcBef>
                <a:spcPts val="67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’s really going on” is explic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192C97-5389-4270-8846-8BC099CBBCB6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"/>
          <p:cNvSpPr/>
          <p:nvPr/>
        </p:nvSpPr>
        <p:spPr>
          <a:xfrm>
            <a:off x="521280" y="1486080"/>
            <a:ext cx="6901560" cy="31114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sp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ErrorLogg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 log =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ne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og(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ublicInterface (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publi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* com.xerox..*.*(..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()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  <a:ea typeface="Times New Roman"/>
              </a:rPr>
              <a:t>throwing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(Error e): publicInterface(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og.write(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modular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0948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ngled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omplex, difficult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ular implementation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n be clear, easy to 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rosscutting concerns per se not complicated!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202360" y="167652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aptures public interface of com.xerox pack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H="1">
            <a:off x="5202000" y="2514600"/>
            <a:ext cx="533160" cy="3808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7CBCE-6844-4F62-BD95-9F24427B5CE7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join point terminology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3" name=""/>
          <p:cNvGrpSpPr/>
          <p:nvPr/>
        </p:nvGrpSpPr>
        <p:grpSpPr>
          <a:xfrm>
            <a:off x="4947840" y="2133720"/>
            <a:ext cx="1654200" cy="1654200"/>
            <a:chOff x="4947840" y="2133720"/>
            <a:chExt cx="1654200" cy="1654200"/>
          </a:xfrm>
        </p:grpSpPr>
        <p:sp>
          <p:nvSpPr>
            <p:cNvPr id="644" name=""/>
            <p:cNvSpPr/>
            <p:nvPr/>
          </p:nvSpPr>
          <p:spPr>
            <a:xfrm flipH="1">
              <a:off x="5591160" y="3191040"/>
              <a:ext cx="7732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 flipH="1">
              <a:off x="5484240" y="329256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5370480" y="341136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4947480" y="213372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318280" y="2192400"/>
              <a:ext cx="906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Lin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9" name=""/>
          <p:cNvGrpSpPr/>
          <p:nvPr/>
        </p:nvGrpSpPr>
        <p:grpSpPr>
          <a:xfrm>
            <a:off x="1130040" y="2862360"/>
            <a:ext cx="1654200" cy="1654200"/>
            <a:chOff x="1130040" y="2862360"/>
            <a:chExt cx="1654200" cy="1654200"/>
          </a:xfrm>
        </p:grpSpPr>
        <p:sp>
          <p:nvSpPr>
            <p:cNvPr id="650" name=""/>
            <p:cNvSpPr/>
            <p:nvPr/>
          </p:nvSpPr>
          <p:spPr>
            <a:xfrm flipH="1">
              <a:off x="1773360" y="391932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 flipH="1">
              <a:off x="1666440" y="402120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 flipH="1">
              <a:off x="1552680" y="4140000"/>
              <a:ext cx="7732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1129680" y="2862360"/>
              <a:ext cx="16542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506600" y="2921040"/>
              <a:ext cx="8524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Figur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884160" y="2978280"/>
            <a:ext cx="1085760" cy="1261800"/>
          </a:xfrm>
          <a:custGeom>
            <a:avLst/>
            <a:gdLst/>
            <a:ahLst/>
            <a:rect l="l" t="t" r="r" b="b"/>
            <a:pathLst>
              <a:path w="916" h="1065">
                <a:moveTo>
                  <a:pt x="0" y="0"/>
                </a:moveTo>
                <a:lnTo>
                  <a:pt x="520" y="304"/>
                </a:lnTo>
                <a:lnTo>
                  <a:pt x="916" y="1065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250040" y="3962520"/>
            <a:ext cx="1656000" cy="1654200"/>
            <a:chOff x="7250040" y="3962520"/>
            <a:chExt cx="1656000" cy="1654200"/>
          </a:xfrm>
        </p:grpSpPr>
        <p:sp>
          <p:nvSpPr>
            <p:cNvPr id="657" name=""/>
            <p:cNvSpPr/>
            <p:nvPr/>
          </p:nvSpPr>
          <p:spPr>
            <a:xfrm flipH="1">
              <a:off x="7894080" y="5021280"/>
              <a:ext cx="77148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7787520" y="5121360"/>
              <a:ext cx="77148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7673400" y="5240160"/>
              <a:ext cx="77148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7250040" y="3962520"/>
              <a:ext cx="165600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7620120" y="401940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"/>
          <p:cNvGrpSpPr/>
          <p:nvPr/>
        </p:nvGrpSpPr>
        <p:grpSpPr>
          <a:xfrm>
            <a:off x="7216560" y="2111400"/>
            <a:ext cx="1655640" cy="1654200"/>
            <a:chOff x="7216560" y="2111400"/>
            <a:chExt cx="1655640" cy="1654200"/>
          </a:xfrm>
        </p:grpSpPr>
        <p:sp>
          <p:nvSpPr>
            <p:cNvPr id="663" name=""/>
            <p:cNvSpPr/>
            <p:nvPr/>
          </p:nvSpPr>
          <p:spPr>
            <a:xfrm flipH="1">
              <a:off x="7861320" y="3170160"/>
              <a:ext cx="771120" cy="182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>
              <a:off x="7754760" y="3270240"/>
              <a:ext cx="771120" cy="183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>
              <a:off x="7640640" y="3389040"/>
              <a:ext cx="771120" cy="1843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>
              <a:off x="7216200" y="2111400"/>
              <a:ext cx="1655640" cy="165420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7586640" y="2168280"/>
              <a:ext cx="909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 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8" name=""/>
          <p:cNvSpPr/>
          <p:nvPr/>
        </p:nvSpPr>
        <p:spPr>
          <a:xfrm>
            <a:off x="685800" y="2970360"/>
            <a:ext cx="1220760" cy="1326960"/>
          </a:xfrm>
          <a:custGeom>
            <a:avLst/>
            <a:gdLst/>
            <a:ahLst/>
            <a:rect l="l" t="t" r="r" b="b"/>
            <a:pathLst>
              <a:path w="1030" h="1121">
                <a:moveTo>
                  <a:pt x="0" y="0"/>
                </a:moveTo>
                <a:lnTo>
                  <a:pt x="644" y="357"/>
                </a:lnTo>
                <a:lnTo>
                  <a:pt x="1030" y="1121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2038320" y="2720880"/>
            <a:ext cx="2425680" cy="1546200"/>
          </a:xfrm>
          <a:custGeom>
            <a:avLst/>
            <a:gdLst/>
            <a:ahLst/>
            <a:rect l="l" t="t" r="r" b="b"/>
            <a:pathLst>
              <a:path w="1528" h="974">
                <a:moveTo>
                  <a:pt x="0" y="974"/>
                </a:moveTo>
                <a:lnTo>
                  <a:pt x="441" y="401"/>
                </a:lnTo>
                <a:lnTo>
                  <a:pt x="152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081920" y="2438280"/>
            <a:ext cx="1076400" cy="1062000"/>
          </a:xfrm>
          <a:custGeom>
            <a:avLst/>
            <a:gdLst/>
            <a:ahLst/>
            <a:rect l="l" t="t" r="r" b="b"/>
            <a:pathLst>
              <a:path w="678" h="669">
                <a:moveTo>
                  <a:pt x="0" y="77"/>
                </a:moveTo>
                <a:lnTo>
                  <a:pt x="216" y="0"/>
                </a:lnTo>
                <a:lnTo>
                  <a:pt x="678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5891040" y="2581200"/>
            <a:ext cx="1143000" cy="954000"/>
          </a:xfrm>
          <a:custGeom>
            <a:avLst/>
            <a:gdLst/>
            <a:ahLst/>
            <a:rect l="l" t="t" r="r" b="b"/>
            <a:pathLst>
              <a:path w="720" h="601">
                <a:moveTo>
                  <a:pt x="0" y="601"/>
                </a:moveTo>
                <a:lnTo>
                  <a:pt x="429" y="129"/>
                </a:lnTo>
                <a:lnTo>
                  <a:pt x="720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467240" y="2438280"/>
            <a:ext cx="1398600" cy="1062000"/>
          </a:xfrm>
          <a:custGeom>
            <a:avLst/>
            <a:gdLst/>
            <a:ahLst/>
            <a:rect l="l" t="t" r="r" b="b"/>
            <a:pathLst>
              <a:path w="881" h="669">
                <a:moveTo>
                  <a:pt x="0" y="174"/>
                </a:moveTo>
                <a:lnTo>
                  <a:pt x="406" y="0"/>
                </a:lnTo>
                <a:lnTo>
                  <a:pt x="881" y="66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5060880" y="2527200"/>
            <a:ext cx="741600" cy="1013040"/>
          </a:xfrm>
          <a:custGeom>
            <a:avLst/>
            <a:gdLst/>
            <a:ahLst/>
            <a:rect l="l" t="t" r="r" b="b"/>
            <a:pathLst>
              <a:path w="467" h="638">
                <a:moveTo>
                  <a:pt x="0" y="0"/>
                </a:moveTo>
                <a:lnTo>
                  <a:pt x="467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2181240" y="2576520"/>
            <a:ext cx="2854440" cy="1685880"/>
          </a:xfrm>
          <a:custGeom>
            <a:avLst/>
            <a:gdLst/>
            <a:ahLst/>
            <a:rect l="l" t="t" r="r" b="b"/>
            <a:pathLst>
              <a:path w="1798" h="1062">
                <a:moveTo>
                  <a:pt x="0" y="1062"/>
                </a:moveTo>
                <a:lnTo>
                  <a:pt x="375" y="552"/>
                </a:lnTo>
                <a:lnTo>
                  <a:pt x="1798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353360" y="2529000"/>
            <a:ext cx="741240" cy="1011240"/>
          </a:xfrm>
          <a:custGeom>
            <a:avLst/>
            <a:gdLst/>
            <a:ahLst/>
            <a:rect l="l" t="t" r="r" b="b"/>
            <a:pathLst>
              <a:path w="467" h="637">
                <a:moveTo>
                  <a:pt x="0" y="0"/>
                </a:moveTo>
                <a:lnTo>
                  <a:pt x="467" y="637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6014880" y="2543040"/>
            <a:ext cx="1347840" cy="986040"/>
          </a:xfrm>
          <a:custGeom>
            <a:avLst/>
            <a:gdLst/>
            <a:ahLst/>
            <a:rect l="l" t="t" r="r" b="b"/>
            <a:pathLst>
              <a:path w="849" h="621">
                <a:moveTo>
                  <a:pt x="0" y="621"/>
                </a:moveTo>
                <a:lnTo>
                  <a:pt x="371" y="197"/>
                </a:lnTo>
                <a:lnTo>
                  <a:pt x="849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 flipH="1" rot="5677800">
            <a:off x="2199600" y="403524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 flipH="1" rot="5677800">
            <a:off x="5985360" y="330516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7032600" y="4060800"/>
            <a:ext cx="1136520" cy="1268280"/>
          </a:xfrm>
          <a:custGeom>
            <a:avLst/>
            <a:gdLst/>
            <a:ahLst/>
            <a:rect l="l" t="t" r="r" b="b"/>
            <a:pathLst>
              <a:path w="716" h="799">
                <a:moveTo>
                  <a:pt x="0" y="0"/>
                </a:moveTo>
                <a:lnTo>
                  <a:pt x="335" y="192"/>
                </a:lnTo>
                <a:lnTo>
                  <a:pt x="716" y="799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64200" y="3519360"/>
            <a:ext cx="1003320" cy="557280"/>
          </a:xfrm>
          <a:custGeom>
            <a:avLst/>
            <a:gdLst/>
            <a:ahLst/>
            <a:rect l="l" t="t" r="r" b="b"/>
            <a:pathLst>
              <a:path w="632" h="351">
                <a:moveTo>
                  <a:pt x="0" y="0"/>
                </a:moveTo>
                <a:lnTo>
                  <a:pt x="632" y="351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4492800" y="2833560"/>
            <a:ext cx="1157040" cy="698760"/>
          </a:xfrm>
          <a:custGeom>
            <a:avLst/>
            <a:gdLst/>
            <a:ahLst/>
            <a:rect l="l" t="t" r="r" b="b"/>
            <a:pathLst>
              <a:path w="729" h="440">
                <a:moveTo>
                  <a:pt x="0" y="126"/>
                </a:moveTo>
                <a:lnTo>
                  <a:pt x="290" y="0"/>
                </a:lnTo>
                <a:lnTo>
                  <a:pt x="729" y="44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286000" y="3048120"/>
            <a:ext cx="2171880" cy="1170000"/>
          </a:xfrm>
          <a:custGeom>
            <a:avLst/>
            <a:gdLst/>
            <a:ahLst/>
            <a:rect l="l" t="t" r="r" b="b"/>
            <a:pathLst>
              <a:path w="1368" h="737">
                <a:moveTo>
                  <a:pt x="0" y="737"/>
                </a:moveTo>
                <a:lnTo>
                  <a:pt x="319" y="450"/>
                </a:lnTo>
                <a:lnTo>
                  <a:pt x="1368" y="0"/>
                </a:lnTo>
              </a:path>
            </a:pathLst>
          </a:custGeom>
          <a:noFill/>
          <a:ln w="19080">
            <a:solidFill>
              <a:srgbClr val="000000"/>
            </a:solidFill>
            <a:prstDash val="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365960" y="4356000"/>
            <a:ext cx="739800" cy="1013040"/>
          </a:xfrm>
          <a:custGeom>
            <a:avLst/>
            <a:gdLst/>
            <a:ahLst/>
            <a:rect l="l" t="t" r="r" b="b"/>
            <a:pathLst>
              <a:path w="466" h="638">
                <a:moveTo>
                  <a:pt x="0" y="0"/>
                </a:moveTo>
                <a:lnTo>
                  <a:pt x="86" y="52"/>
                </a:lnTo>
                <a:lnTo>
                  <a:pt x="466" y="638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6006960" y="3594240"/>
            <a:ext cx="1339920" cy="752400"/>
          </a:xfrm>
          <a:custGeom>
            <a:avLst/>
            <a:gdLst/>
            <a:ahLst/>
            <a:rect l="l" t="t" r="r" b="b"/>
            <a:pathLst>
              <a:path w="844" h="474">
                <a:moveTo>
                  <a:pt x="0" y="0"/>
                </a:moveTo>
                <a:lnTo>
                  <a:pt x="844" y="47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4948200" y="2938320"/>
            <a:ext cx="655560" cy="627120"/>
          </a:xfrm>
          <a:custGeom>
            <a:avLst/>
            <a:gdLst/>
            <a:ahLst/>
            <a:rect l="l" t="t" r="r" b="b"/>
            <a:pathLst>
              <a:path w="413" h="395">
                <a:moveTo>
                  <a:pt x="0" y="0"/>
                </a:moveTo>
                <a:lnTo>
                  <a:pt x="413" y="395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2362320" y="2943360"/>
            <a:ext cx="2566800" cy="1347480"/>
          </a:xfrm>
          <a:custGeom>
            <a:avLst/>
            <a:gdLst/>
            <a:ahLst/>
            <a:rect l="l" t="t" r="r" b="b"/>
            <a:pathLst>
              <a:path w="1617" h="849">
                <a:moveTo>
                  <a:pt x="0" y="849"/>
                </a:moveTo>
                <a:lnTo>
                  <a:pt x="270" y="576"/>
                </a:lnTo>
                <a:lnTo>
                  <a:pt x="1617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 flipH="1" rot="2336400">
            <a:off x="6046920" y="3472920"/>
            <a:ext cx="6804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H="1" rot="1841400">
            <a:off x="1066680" y="3048120"/>
            <a:ext cx="68400" cy="1699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flipH="1" rot="5677800">
            <a:off x="5983920" y="330228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flipH="1" rot="5677800">
            <a:off x="2197800" y="4035240"/>
            <a:ext cx="6804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flipH="1" rot="2336400">
            <a:off x="6048000" y="3471840"/>
            <a:ext cx="68400" cy="1695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flipH="1" rot="7960800">
            <a:off x="2260440" y="4149720"/>
            <a:ext cx="68400" cy="169920"/>
          </a:xfrm>
          <a:prstGeom prst="ellipse">
            <a:avLst/>
          </a:prstGeom>
          <a:solidFill>
            <a:srgbClr val="b2b2b2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trol f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120" y="53182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ll join points in this picture are in the control flow of this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 flipV="1">
            <a:off x="1066680" y="3276360"/>
            <a:ext cx="76320" cy="1981080"/>
          </a:xfrm>
          <a:prstGeom prst="line">
            <a:avLst/>
          </a:prstGeom>
          <a:ln w="19080">
            <a:solidFill>
              <a:srgbClr val="cc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6442C-033F-4F92-8464-A350CC74B38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52578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n org.apache.tomc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d shows lines of code that handle logging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in just one pl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ven in a small number of pl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gg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9" name="log-nebulous" descr=""/>
          <p:cNvPicPr/>
          <p:nvPr/>
        </p:nvPicPr>
        <p:blipFill>
          <a:blip r:embed="rId1"/>
          <a:srcRect l="502" t="4673" r="951" b="39850"/>
          <a:stretch/>
        </p:blipFill>
        <p:spPr>
          <a:xfrm>
            <a:off x="895320" y="1608120"/>
            <a:ext cx="7883640" cy="3551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533E8-512F-4112-9AC2-A041F6AD1D1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sensitive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507240" y="1509840"/>
            <a:ext cx="6764400" cy="47574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spect DisplayUpdating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arget(figElt) &amp;&amp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FigureElement.moveBy(int, int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topLevelMove(FigureElement figElt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move(figElt) &amp;&amp; !cflow(move(FigureElement)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FigureElement fe): topLevelMove(f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isplay.update(f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0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02" name=""/>
          <p:cNvSpPr/>
          <p:nvPr/>
        </p:nvSpPr>
        <p:spPr>
          <a:xfrm>
            <a:off x="3124080" y="728640"/>
            <a:ext cx="592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veTracking v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08C81F-2627-4CF0-BD30-283308249816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2666880" y="2101680"/>
            <a:ext cx="3484800" cy="762120"/>
          </a:xfrm>
          <a:custGeom>
            <a:avLst/>
            <a:gdLst/>
            <a:ahLst/>
            <a:rect l="l" t="t" r="r" b="b"/>
            <a:pathLst>
              <a:path w="2195" h="480">
                <a:moveTo>
                  <a:pt x="0" y="480"/>
                </a:moveTo>
                <a:cubicBezTo>
                  <a:pt x="32" y="404"/>
                  <a:pt x="87" y="29"/>
                  <a:pt x="197" y="25"/>
                </a:cubicBezTo>
                <a:cubicBezTo>
                  <a:pt x="306" y="21"/>
                  <a:pt x="548" y="446"/>
                  <a:pt x="657" y="452"/>
                </a:cubicBezTo>
                <a:cubicBezTo>
                  <a:pt x="765" y="458"/>
                  <a:pt x="768" y="75"/>
                  <a:pt x="847" y="59"/>
                </a:cubicBezTo>
                <a:cubicBezTo>
                  <a:pt x="926" y="43"/>
                  <a:pt x="1048" y="349"/>
                  <a:pt x="1130" y="356"/>
                </a:cubicBezTo>
                <a:cubicBezTo>
                  <a:pt x="1211" y="363"/>
                  <a:pt x="1268" y="120"/>
                  <a:pt x="1339" y="101"/>
                </a:cubicBezTo>
                <a:cubicBezTo>
                  <a:pt x="1411" y="81"/>
                  <a:pt x="1463" y="252"/>
                  <a:pt x="1556" y="239"/>
                </a:cubicBezTo>
                <a:cubicBezTo>
                  <a:pt x="1649" y="226"/>
                  <a:pt x="1806" y="46"/>
                  <a:pt x="1896" y="23"/>
                </a:cubicBezTo>
                <a:cubicBezTo>
                  <a:pt x="1986" y="0"/>
                  <a:pt x="2052" y="76"/>
                  <a:pt x="2098" y="103"/>
                </a:cubicBezTo>
                <a:cubicBezTo>
                  <a:pt x="2144" y="130"/>
                  <a:pt x="2153" y="164"/>
                  <a:pt x="2169" y="187"/>
                </a:cubicBezTo>
                <a:cubicBezTo>
                  <a:pt x="2185" y="210"/>
                  <a:pt x="2190" y="232"/>
                  <a:pt x="2195" y="24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07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08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10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11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3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14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17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9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20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21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24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26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27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9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30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731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3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734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6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737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39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740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42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743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5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1" name=""/>
          <p:cNvSpPr/>
          <p:nvPr/>
        </p:nvSpPr>
        <p:spPr>
          <a:xfrm>
            <a:off x="4552920" y="2481120"/>
            <a:ext cx="2533680" cy="3378240"/>
          </a:xfrm>
          <a:custGeom>
            <a:avLst/>
            <a:gdLst/>
            <a:ahLst/>
            <a:rect l="l" t="t" r="r" b="b"/>
            <a:pathLst>
              <a:path w="1596" h="2128">
                <a:moveTo>
                  <a:pt x="1004" y="0"/>
                </a:moveTo>
                <a:cubicBezTo>
                  <a:pt x="1002" y="9"/>
                  <a:pt x="1027" y="5"/>
                  <a:pt x="989" y="57"/>
                </a:cubicBezTo>
                <a:cubicBezTo>
                  <a:pt x="951" y="109"/>
                  <a:pt x="822" y="229"/>
                  <a:pt x="776" y="312"/>
                </a:cubicBezTo>
                <a:cubicBezTo>
                  <a:pt x="730" y="395"/>
                  <a:pt x="667" y="502"/>
                  <a:pt x="716" y="558"/>
                </a:cubicBezTo>
                <a:cubicBezTo>
                  <a:pt x="765" y="614"/>
                  <a:pt x="1096" y="567"/>
                  <a:pt x="1070" y="647"/>
                </a:cubicBezTo>
                <a:cubicBezTo>
                  <a:pt x="1045" y="727"/>
                  <a:pt x="552" y="971"/>
                  <a:pt x="565" y="1040"/>
                </a:cubicBezTo>
                <a:cubicBezTo>
                  <a:pt x="578" y="1108"/>
                  <a:pt x="1097" y="980"/>
                  <a:pt x="1150" y="1061"/>
                </a:cubicBezTo>
                <a:cubicBezTo>
                  <a:pt x="1202" y="1142"/>
                  <a:pt x="833" y="1440"/>
                  <a:pt x="880" y="1522"/>
                </a:cubicBezTo>
                <a:cubicBezTo>
                  <a:pt x="927" y="1605"/>
                  <a:pt x="1565" y="1468"/>
                  <a:pt x="1432" y="1556"/>
                </a:cubicBezTo>
                <a:cubicBezTo>
                  <a:pt x="1299" y="1644"/>
                  <a:pt x="158" y="1974"/>
                  <a:pt x="79" y="2051"/>
                </a:cubicBezTo>
                <a:cubicBezTo>
                  <a:pt x="0" y="2128"/>
                  <a:pt x="706" y="2021"/>
                  <a:pt x="959" y="2018"/>
                </a:cubicBezTo>
                <a:cubicBezTo>
                  <a:pt x="1212" y="2015"/>
                  <a:pt x="1463" y="2030"/>
                  <a:pt x="1596" y="20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753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54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1B428C-88CE-4012-A3DC-8576259474B6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609480" y="4038480"/>
            <a:ext cx="3886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orkers need to know the call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pabil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ge bac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customize resul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7" name=""/>
          <p:cNvGrpSpPr/>
          <p:nvPr/>
        </p:nvGrpSpPr>
        <p:grpSpPr>
          <a:xfrm>
            <a:off x="1555920" y="1601640"/>
            <a:ext cx="1166760" cy="2043000"/>
            <a:chOff x="1555920" y="1601640"/>
            <a:chExt cx="1166760" cy="2043000"/>
          </a:xfrm>
        </p:grpSpPr>
        <p:grpSp>
          <p:nvGrpSpPr>
            <p:cNvPr id="758" name=""/>
            <p:cNvGrpSpPr/>
            <p:nvPr/>
          </p:nvGrpSpPr>
          <p:grpSpPr>
            <a:xfrm>
              <a:off x="1555920" y="1601640"/>
              <a:ext cx="1166760" cy="1012680"/>
              <a:chOff x="1555920" y="1601640"/>
              <a:chExt cx="1166760" cy="1012680"/>
            </a:xfrm>
          </p:grpSpPr>
          <p:sp>
            <p:nvSpPr>
              <p:cNvPr id="759" name=""/>
              <p:cNvSpPr/>
              <p:nvPr/>
            </p:nvSpPr>
            <p:spPr>
              <a:xfrm>
                <a:off x="1633680" y="160164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1555920" y="19015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61" name=""/>
            <p:cNvGrpSpPr/>
            <p:nvPr/>
          </p:nvGrpSpPr>
          <p:grpSpPr>
            <a:xfrm>
              <a:off x="1555920" y="2631960"/>
              <a:ext cx="1166760" cy="1012680"/>
              <a:chOff x="1555920" y="2631960"/>
              <a:chExt cx="1166760" cy="1012680"/>
            </a:xfrm>
          </p:grpSpPr>
          <p:sp>
            <p:nvSpPr>
              <p:cNvPr id="762" name=""/>
              <p:cNvSpPr/>
              <p:nvPr/>
            </p:nvSpPr>
            <p:spPr>
              <a:xfrm>
                <a:off x="1633680" y="263196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1555920" y="293184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caller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4" name=""/>
          <p:cNvGrpSpPr/>
          <p:nvPr/>
        </p:nvGrpSpPr>
        <p:grpSpPr>
          <a:xfrm>
            <a:off x="5332320" y="1738440"/>
            <a:ext cx="1166760" cy="1012680"/>
            <a:chOff x="5332320" y="1738440"/>
            <a:chExt cx="1166760" cy="1012680"/>
          </a:xfrm>
        </p:grpSpPr>
        <p:sp>
          <p:nvSpPr>
            <p:cNvPr id="765" name=""/>
            <p:cNvSpPr/>
            <p:nvPr/>
          </p:nvSpPr>
          <p:spPr>
            <a:xfrm>
              <a:off x="5410080" y="1738440"/>
              <a:ext cx="1011240" cy="10126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5332320" y="2036880"/>
              <a:ext cx="1166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Servi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7" name=""/>
          <p:cNvGrpSpPr/>
          <p:nvPr/>
        </p:nvGrpSpPr>
        <p:grpSpPr>
          <a:xfrm>
            <a:off x="2698920" y="2208240"/>
            <a:ext cx="2644560" cy="837720"/>
            <a:chOff x="2698920" y="2208240"/>
            <a:chExt cx="2644560" cy="837720"/>
          </a:xfrm>
        </p:grpSpPr>
        <p:sp>
          <p:nvSpPr>
            <p:cNvPr id="768" name=""/>
            <p:cNvSpPr/>
            <p:nvPr/>
          </p:nvSpPr>
          <p:spPr>
            <a:xfrm>
              <a:off x="2698920" y="2208240"/>
              <a:ext cx="2633400" cy="759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flipV="1">
              <a:off x="2698920" y="2415600"/>
              <a:ext cx="2644560" cy="6303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4071960" y="5465880"/>
            <a:ext cx="3776760" cy="1012680"/>
            <a:chOff x="4071960" y="5465880"/>
            <a:chExt cx="3776760" cy="1012680"/>
          </a:xfrm>
        </p:grpSpPr>
        <p:grpSp>
          <p:nvGrpSpPr>
            <p:cNvPr id="771" name=""/>
            <p:cNvGrpSpPr/>
            <p:nvPr/>
          </p:nvGrpSpPr>
          <p:grpSpPr>
            <a:xfrm>
              <a:off x="4071960" y="5465880"/>
              <a:ext cx="1165320" cy="1012680"/>
              <a:chOff x="4071960" y="5465880"/>
              <a:chExt cx="1165320" cy="1012680"/>
            </a:xfrm>
          </p:grpSpPr>
          <p:sp>
            <p:nvSpPr>
              <p:cNvPr id="772" name=""/>
              <p:cNvSpPr/>
              <p:nvPr/>
            </p:nvSpPr>
            <p:spPr>
              <a:xfrm>
                <a:off x="4149720" y="5465880"/>
                <a:ext cx="10130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1960" y="5765760"/>
                <a:ext cx="11653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4" name=""/>
            <p:cNvGrpSpPr/>
            <p:nvPr/>
          </p:nvGrpSpPr>
          <p:grpSpPr>
            <a:xfrm>
              <a:off x="6681960" y="5465880"/>
              <a:ext cx="1166760" cy="1012680"/>
              <a:chOff x="6681960" y="5465880"/>
              <a:chExt cx="1166760" cy="1012680"/>
            </a:xfrm>
          </p:grpSpPr>
          <p:sp>
            <p:nvSpPr>
              <p:cNvPr id="775" name=""/>
              <p:cNvSpPr/>
              <p:nvPr/>
            </p:nvSpPr>
            <p:spPr>
              <a:xfrm>
                <a:off x="6759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681960" y="576576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3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7" name=""/>
            <p:cNvGrpSpPr/>
            <p:nvPr/>
          </p:nvGrpSpPr>
          <p:grpSpPr>
            <a:xfrm>
              <a:off x="5376960" y="5465880"/>
              <a:ext cx="1166760" cy="1012680"/>
              <a:chOff x="5376960" y="5465880"/>
              <a:chExt cx="1166760" cy="1012680"/>
            </a:xfrm>
          </p:grpSpPr>
          <p:sp>
            <p:nvSpPr>
              <p:cNvPr id="778" name=""/>
              <p:cNvSpPr/>
              <p:nvPr/>
            </p:nvSpPr>
            <p:spPr>
              <a:xfrm>
                <a:off x="5454720" y="5465880"/>
                <a:ext cx="1011240" cy="10126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5376960" y="5764320"/>
                <a:ext cx="1166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worker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</a:rPr>
                  <a:t> </a:t>
                </a: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2409840" y="2133720"/>
            <a:ext cx="1324080" cy="902880"/>
            <a:chOff x="2409840" y="2133720"/>
            <a:chExt cx="1324080" cy="902880"/>
          </a:xfrm>
        </p:grpSpPr>
        <p:sp>
          <p:nvSpPr>
            <p:cNvPr id="781" name=""/>
            <p:cNvSpPr/>
            <p:nvPr/>
          </p:nvSpPr>
          <p:spPr>
            <a:xfrm>
              <a:off x="3429000" y="2133720"/>
              <a:ext cx="304920" cy="7617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 rot="16390200">
              <a:off x="2927880" y="1792800"/>
              <a:ext cx="182520" cy="112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397320" y="2228760"/>
              <a:ext cx="142920" cy="64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>
              <a:off x="3483000" y="2828880"/>
              <a:ext cx="123840" cy="28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09840" y="2333520"/>
              <a:ext cx="1050840" cy="36720"/>
            </a:xfrm>
            <a:prstGeom prst="line">
              <a:avLst/>
            </a:prstGeom>
            <a:ln w="38160">
              <a:solidFill>
                <a:srgbClr val="cc0000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 rot="15427800">
              <a:off x="2888280" y="2281680"/>
              <a:ext cx="216000" cy="10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503440" y="2695680"/>
              <a:ext cx="988920" cy="233280"/>
            </a:xfrm>
            <a:custGeom>
              <a:avLst/>
              <a:gdLst/>
              <a:ahLst/>
              <a:rect l="l" t="t" r="r" b="b"/>
              <a:pathLst>
                <a:path w="623" h="147">
                  <a:moveTo>
                    <a:pt x="0" y="147"/>
                  </a:moveTo>
                  <a:lnTo>
                    <a:pt x="623" y="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8" name=""/>
          <p:cNvGrpSpPr/>
          <p:nvPr/>
        </p:nvGrpSpPr>
        <p:grpSpPr>
          <a:xfrm>
            <a:off x="4495680" y="5106960"/>
            <a:ext cx="2754720" cy="470880"/>
            <a:chOff x="4495680" y="5106960"/>
            <a:chExt cx="2754720" cy="470880"/>
          </a:xfrm>
        </p:grpSpPr>
        <p:sp>
          <p:nvSpPr>
            <p:cNvPr id="789" name=""/>
            <p:cNvSpPr/>
            <p:nvPr/>
          </p:nvSpPr>
          <p:spPr>
            <a:xfrm>
              <a:off x="564840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6791400" y="510696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495680" y="5110200"/>
              <a:ext cx="457200" cy="17316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7553000">
              <a:off x="4489200" y="5308200"/>
              <a:ext cx="336600" cy="16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 flipH="1">
              <a:off x="4597920" y="5207040"/>
              <a:ext cx="124920" cy="316440"/>
            </a:xfrm>
            <a:prstGeom prst="line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4945200">
              <a:off x="5698080" y="5304600"/>
              <a:ext cx="3430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864400" y="5200560"/>
              <a:ext cx="15840" cy="33336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20700000">
              <a:off x="7066080" y="5229000"/>
              <a:ext cx="14580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045200" y="5200560"/>
              <a:ext cx="155880" cy="31932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381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8" name=""/>
          <p:cNvGrpSpPr/>
          <p:nvPr/>
        </p:nvGrpSpPr>
        <p:grpSpPr>
          <a:xfrm>
            <a:off x="4712760" y="2798640"/>
            <a:ext cx="2514960" cy="2628720"/>
            <a:chOff x="4712760" y="2798640"/>
            <a:chExt cx="2514960" cy="2628720"/>
          </a:xfrm>
        </p:grpSpPr>
        <p:grpSp>
          <p:nvGrpSpPr>
            <p:cNvPr id="799" name=""/>
            <p:cNvGrpSpPr/>
            <p:nvPr/>
          </p:nvGrpSpPr>
          <p:grpSpPr>
            <a:xfrm>
              <a:off x="5445000" y="3193920"/>
              <a:ext cx="961920" cy="342720"/>
              <a:chOff x="5445000" y="3193920"/>
              <a:chExt cx="961920" cy="342720"/>
            </a:xfrm>
          </p:grpSpPr>
          <p:sp>
            <p:nvSpPr>
              <p:cNvPr id="800" name=""/>
              <p:cNvSpPr/>
              <p:nvPr/>
            </p:nvSpPr>
            <p:spPr>
              <a:xfrm>
                <a:off x="54450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064200" y="3193920"/>
                <a:ext cx="3427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2" name=""/>
            <p:cNvGrpSpPr/>
            <p:nvPr/>
          </p:nvGrpSpPr>
          <p:grpSpPr>
            <a:xfrm>
              <a:off x="5270400" y="3998880"/>
              <a:ext cx="1305000" cy="342720"/>
              <a:chOff x="5270400" y="3998880"/>
              <a:chExt cx="1305000" cy="342720"/>
            </a:xfrm>
          </p:grpSpPr>
          <p:sp>
            <p:nvSpPr>
              <p:cNvPr id="803" name=""/>
              <p:cNvSpPr/>
              <p:nvPr/>
            </p:nvSpPr>
            <p:spPr>
              <a:xfrm>
                <a:off x="6232320" y="3998880"/>
                <a:ext cx="34308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5270400" y="3998880"/>
                <a:ext cx="344520" cy="3427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5" name=""/>
            <p:cNvGrpSpPr/>
            <p:nvPr/>
          </p:nvGrpSpPr>
          <p:grpSpPr>
            <a:xfrm>
              <a:off x="5756400" y="4714560"/>
              <a:ext cx="1234440" cy="344520"/>
              <a:chOff x="5756400" y="4714560"/>
              <a:chExt cx="1234440" cy="344520"/>
            </a:xfrm>
          </p:grpSpPr>
          <p:sp>
            <p:nvSpPr>
              <p:cNvPr id="806" name=""/>
              <p:cNvSpPr/>
              <p:nvPr/>
            </p:nvSpPr>
            <p:spPr>
              <a:xfrm>
                <a:off x="664812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5756400" y="4714560"/>
                <a:ext cx="342720" cy="344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8" name=""/>
            <p:cNvGrpSpPr/>
            <p:nvPr/>
          </p:nvGrpSpPr>
          <p:grpSpPr>
            <a:xfrm>
              <a:off x="5698800" y="2798640"/>
              <a:ext cx="465120" cy="360360"/>
              <a:chOff x="5698800" y="2798640"/>
              <a:chExt cx="465120" cy="360360"/>
            </a:xfrm>
          </p:grpSpPr>
          <p:sp>
            <p:nvSpPr>
              <p:cNvPr id="809" name=""/>
              <p:cNvSpPr/>
              <p:nvPr/>
            </p:nvSpPr>
            <p:spPr>
              <a:xfrm flipH="1">
                <a:off x="569880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038280" y="2798640"/>
                <a:ext cx="12564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11" name=""/>
            <p:cNvGrpSpPr/>
            <p:nvPr/>
          </p:nvGrpSpPr>
          <p:grpSpPr>
            <a:xfrm>
              <a:off x="5440320" y="3557520"/>
              <a:ext cx="1002960" cy="360360"/>
              <a:chOff x="5440320" y="3557520"/>
              <a:chExt cx="1002960" cy="360360"/>
            </a:xfrm>
          </p:grpSpPr>
          <p:sp>
            <p:nvSpPr>
              <p:cNvPr id="812" name=""/>
              <p:cNvSpPr/>
              <p:nvPr/>
            </p:nvSpPr>
            <p:spPr>
              <a:xfrm flipH="1">
                <a:off x="5440320" y="3557520"/>
                <a:ext cx="12672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6318720" y="3557520"/>
                <a:ext cx="124560" cy="360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4" name=""/>
            <p:cNvSpPr/>
            <p:nvPr/>
          </p:nvSpPr>
          <p:spPr>
            <a:xfrm flipH="1">
              <a:off x="4712760" y="4338360"/>
              <a:ext cx="514440" cy="1055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7054920" y="5100480"/>
              <a:ext cx="172800" cy="3268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942160" y="5076720"/>
              <a:ext cx="15840" cy="309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570640" y="4338360"/>
              <a:ext cx="218880" cy="3398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6086520" y="4333680"/>
              <a:ext cx="241200" cy="3240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6627960" y="4332240"/>
              <a:ext cx="166680" cy="3204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21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22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C0159A-4C17-4692-B805-210B5ACC64BB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"/>
          <p:cNvSpPr/>
          <p:nvPr/>
        </p:nvSpPr>
        <p:spPr>
          <a:xfrm>
            <a:off x="545040" y="1571760"/>
            <a:ext cx="6642360" cy="423108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apabilityCheck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vocation(Caller c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is(c) &amp;&amp; 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ervice.doService(String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orkPoint(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oTask(Task)) &amp;&amp; targe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perCallerWork(Caller c, Worker w)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flow(invocation(c)) &amp;&amp; workPoint(w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befor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aller c, Worker w): perCallerWork(c, w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.checkCapabilities(c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ontext passing aspec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5" name=""/>
          <p:cNvGrpSpPr/>
          <p:nvPr/>
        </p:nvGrpSpPr>
        <p:grpSpPr>
          <a:xfrm>
            <a:off x="6629400" y="3276720"/>
            <a:ext cx="2378160" cy="2284200"/>
            <a:chOff x="6629400" y="3276720"/>
            <a:chExt cx="2378160" cy="2284200"/>
          </a:xfrm>
        </p:grpSpPr>
        <p:sp>
          <p:nvSpPr>
            <p:cNvPr id="826" name=""/>
            <p:cNvSpPr/>
            <p:nvPr/>
          </p:nvSpPr>
          <p:spPr>
            <a:xfrm>
              <a:off x="7315200" y="3276720"/>
              <a:ext cx="1689120" cy="228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6858000" y="373392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6912000" y="3657600"/>
              <a:ext cx="479520" cy="228600"/>
              <a:chOff x="6912000" y="3657600"/>
              <a:chExt cx="479520" cy="228600"/>
            </a:xfrm>
          </p:grpSpPr>
          <p:sp>
            <p:nvSpPr>
              <p:cNvPr id="829" name=""/>
              <p:cNvSpPr/>
              <p:nvPr/>
            </p:nvSpPr>
            <p:spPr>
              <a:xfrm>
                <a:off x="6912000" y="3772080"/>
                <a:ext cx="409680" cy="9360"/>
              </a:xfrm>
              <a:custGeom>
                <a:avLst/>
                <a:gdLst/>
                <a:ahLst/>
                <a:rect l="l" t="t" r="r" b="b"/>
                <a:pathLst>
                  <a:path w="258" h="6">
                    <a:moveTo>
                      <a:pt x="0" y="0"/>
                    </a:moveTo>
                    <a:lnTo>
                      <a:pt x="258" y="6"/>
                    </a:lnTo>
                  </a:path>
                </a:pathLst>
              </a:custGeom>
              <a:noFill/>
              <a:ln w="28440">
                <a:solidFill>
                  <a:srgbClr val="cc0000"/>
                </a:solidFill>
                <a:prstDash val="dash"/>
                <a:round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7292880" y="3657600"/>
                <a:ext cx="98640" cy="228600"/>
              </a:xfrm>
              <a:prstGeom prst="ellipse">
                <a:avLst/>
              </a:prstGeom>
              <a:noFill/>
              <a:ln w="1908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31" name=""/>
            <p:cNvGrpSpPr/>
            <p:nvPr/>
          </p:nvGrpSpPr>
          <p:grpSpPr>
            <a:xfrm>
              <a:off x="6629400" y="3506760"/>
              <a:ext cx="2378160" cy="1979640"/>
              <a:chOff x="6629400" y="3506760"/>
              <a:chExt cx="2378160" cy="1979640"/>
            </a:xfrm>
          </p:grpSpPr>
          <p:sp>
            <p:nvSpPr>
              <p:cNvPr id="832" name=""/>
              <p:cNvSpPr/>
              <p:nvPr/>
            </p:nvSpPr>
            <p:spPr>
              <a:xfrm>
                <a:off x="6629400" y="3506760"/>
                <a:ext cx="392040" cy="3924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6629400" y="390708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8093160" y="355932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8061480" y="3675240"/>
                <a:ext cx="453960" cy="396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7042320" y="3703680"/>
                <a:ext cx="1020600" cy="302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flipV="1">
                <a:off x="7042320" y="3822480"/>
                <a:ext cx="1025280" cy="244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59456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8615520" y="5094360"/>
                <a:ext cx="39204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8105760" y="5094360"/>
                <a:ext cx="390600" cy="39204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8105760" y="4146840"/>
                <a:ext cx="13356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8329680" y="4146840"/>
                <a:ext cx="133200" cy="1317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8415360" y="4461120"/>
                <a:ext cx="13320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999560" y="4464000"/>
                <a:ext cx="133200" cy="13356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858348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8226360" y="4762800"/>
                <a:ext cx="133560" cy="13320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flipH="1">
                <a:off x="8196480" y="3970440"/>
                <a:ext cx="5688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8336160" y="3970440"/>
                <a:ext cx="3492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8091000" y="4295880"/>
                <a:ext cx="49320" cy="139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8408880" y="4295880"/>
                <a:ext cx="49320" cy="1443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H="1">
                <a:off x="7818480" y="4613400"/>
                <a:ext cx="203040" cy="457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8688600" y="4908600"/>
                <a:ext cx="63360" cy="155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8293320" y="4918320"/>
                <a:ext cx="0" cy="1458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8159760" y="4597560"/>
                <a:ext cx="82440" cy="14616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8345160" y="4605480"/>
                <a:ext cx="90360" cy="13320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8531280" y="4600800"/>
                <a:ext cx="87480" cy="142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arrow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57" name=""/>
          <p:cNvGrpSpPr/>
          <p:nvPr/>
        </p:nvGrpSpPr>
        <p:grpSpPr>
          <a:xfrm>
            <a:off x="7696080" y="4815000"/>
            <a:ext cx="1076400" cy="304560"/>
            <a:chOff x="7696080" y="4815000"/>
            <a:chExt cx="1076400" cy="304560"/>
          </a:xfrm>
        </p:grpSpPr>
        <p:sp>
          <p:nvSpPr>
            <p:cNvPr id="858" name=""/>
            <p:cNvSpPr/>
            <p:nvPr/>
          </p:nvSpPr>
          <p:spPr>
            <a:xfrm>
              <a:off x="777240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250120" y="503568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8696160" y="5043600"/>
              <a:ext cx="76320" cy="75960"/>
            </a:xfrm>
            <a:prstGeom prst="ellipse">
              <a:avLst/>
            </a:prstGeom>
            <a:solidFill>
              <a:srgbClr val="cc0000"/>
            </a:solidFill>
            <a:ln w="1260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840" bIns="68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8050320" y="4816440"/>
              <a:ext cx="14436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8408880" y="4815000"/>
              <a:ext cx="144720" cy="7308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5400" bIns="54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7696080" y="4816440"/>
              <a:ext cx="144720" cy="71640"/>
            </a:xfrm>
            <a:prstGeom prst="ellipse">
              <a:avLst/>
            </a:prstGeom>
            <a:noFill/>
            <a:ln w="2844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60" bIns="396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 rot="17553000">
              <a:off x="7719480" y="4857840"/>
              <a:ext cx="74880" cy="5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 rot="4945200">
              <a:off x="8078400" y="4871880"/>
              <a:ext cx="74520" cy="4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 rot="20700000">
              <a:off x="8469000" y="4865400"/>
              <a:ext cx="44280" cy="7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7757280" y="4916880"/>
              <a:ext cx="12960" cy="102240"/>
            </a:xfrm>
            <a:prstGeom prst="line">
              <a:avLst/>
            </a:prstGeom>
            <a:ln w="19080">
              <a:solidFill>
                <a:srgbClr val="cc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8116920" y="4890960"/>
              <a:ext cx="74520" cy="123840"/>
            </a:xfrm>
            <a:custGeom>
              <a:avLst/>
              <a:gdLst/>
              <a:ahLst/>
              <a:rect l="l" t="t" r="r" b="b"/>
              <a:pathLst>
                <a:path w="10" h="210">
                  <a:moveTo>
                    <a:pt x="0" y="0"/>
                  </a:moveTo>
                  <a:lnTo>
                    <a:pt x="10" y="210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8488440" y="4896000"/>
              <a:ext cx="48960" cy="133200"/>
            </a:xfrm>
            <a:custGeom>
              <a:avLst/>
              <a:gdLst/>
              <a:ahLst/>
              <a:rect l="l" t="t" r="r" b="b"/>
              <a:pathLst>
                <a:path w="98" h="201">
                  <a:moveTo>
                    <a:pt x="0" y="0"/>
                  </a:moveTo>
                  <a:lnTo>
                    <a:pt x="98" y="201"/>
                  </a:lnTo>
                </a:path>
              </a:pathLst>
            </a:custGeom>
            <a:noFill/>
            <a:ln w="19080">
              <a:solidFill>
                <a:srgbClr val="cc0000"/>
              </a:solidFill>
              <a:round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158B5-ECC0-4886-A6D7-8A31E6AC2DA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2 kinds of crosscutting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modular unit of crosscutting implement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functionality to existing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asp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new op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s per-objec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49F1CB-63C9-4C1B-A941-D23880E0AC0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inter-class declaration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"/>
          <p:cNvSpPr/>
          <p:nvPr/>
        </p:nvSpPr>
        <p:spPr>
          <a:xfrm>
            <a:off x="530280" y="1530360"/>
            <a:ext cx="6154560" cy="4291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aspec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isplayUpdating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rivat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lastMovedBy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33cc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Object FigureElement.getLastMovedBy() {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turn lastMovedBy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pointcu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move(Object mover, FigureElement movee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his(mover)      &amp;&amp;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target(movee)    &amp;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1(Point)) ||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ine.setP2(Point))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X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   ||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ll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void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Point.setY(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int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33cc"/>
                </a:solidFill>
                <a:latin typeface="Courier New"/>
              </a:rPr>
              <a:t>after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Object mover, FigureElement movee): move(mover, movee) {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isplay.update(movee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vee.lastMovedBy = mover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685800" y="728640"/>
            <a:ext cx="83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Arial"/>
              </a:rPr>
              <a:t>(like “open classes”)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MoveTracking 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4495680" y="1295280"/>
            <a:ext cx="4343400" cy="703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adds members to target type, declared by aspect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181480" y="3657600"/>
            <a:ext cx="3048120" cy="10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public and private are with respect to enclosing aspect decla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138320" y="2560680"/>
            <a:ext cx="4179960" cy="1395360"/>
          </a:xfrm>
          <a:custGeom>
            <a:avLst/>
            <a:gdLst/>
            <a:ahLst/>
            <a:rect l="l" t="t" r="r" b="b"/>
            <a:pathLst>
              <a:path w="2633" h="879">
                <a:moveTo>
                  <a:pt x="2633" y="879"/>
                </a:moveTo>
                <a:lnTo>
                  <a:pt x="318" y="774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304920" y="2255760"/>
            <a:ext cx="4802040" cy="1697040"/>
          </a:xfrm>
          <a:custGeom>
            <a:avLst/>
            <a:gdLst/>
            <a:ahLst/>
            <a:rect l="l" t="t" r="r" b="b"/>
            <a:pathLst>
              <a:path w="3025" h="1069">
                <a:moveTo>
                  <a:pt x="3025" y="1069"/>
                </a:moveTo>
                <a:lnTo>
                  <a:pt x="63" y="984"/>
                </a:lnTo>
                <a:lnTo>
                  <a:pt x="0" y="646"/>
                </a:lnTo>
                <a:lnTo>
                  <a:pt x="358" y="0"/>
                </a:lnTo>
              </a:path>
            </a:pathLst>
          </a:custGeom>
          <a:noFill/>
          <a:ln w="19080">
            <a:solidFill>
              <a:srgbClr val="cc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88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8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2AD50-6FB6-4458-9D03-31346AE5055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re’s mor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advi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fore, after (3 kinds), a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pointcu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elds, exception handlers, initialization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more inter-class declaratio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e error, warning, par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spect extension, aspect librari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tools…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A7AED-6E65-4162-9CF6-86003A3A06F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Demo Tim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2B1C03-2296-4FDE-8E3F-2E808273F167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"/>
          <p:cNvSpPr/>
          <p:nvPr/>
        </p:nvSpPr>
        <p:spPr>
          <a:xfrm>
            <a:off x="6324480" y="1219320"/>
            <a:ext cx="2286000" cy="2895480"/>
          </a:xfrm>
          <a:prstGeom prst="rect">
            <a:avLst/>
          </a:prstGeom>
          <a:solidFill>
            <a:srgbClr val="ccccff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architectures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services,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s compon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and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duct li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eb services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obile, P2P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3733920" y="2133720"/>
            <a:ext cx="2286000" cy="2741400"/>
          </a:xfrm>
          <a:prstGeom prst="rect">
            <a:avLst/>
          </a:prstGeom>
          <a:solidFill>
            <a:srgbClr val="ffff66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d to des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e functionality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sist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eatur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igu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smooth adoption curv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"/>
          <p:cNvSpPr/>
          <p:nvPr/>
        </p:nvSpPr>
        <p:spPr>
          <a:xfrm>
            <a:off x="1143000" y="5562720"/>
            <a:ext cx="7696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V="1">
            <a:off x="1143000" y="1295280"/>
            <a:ext cx="0" cy="4267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383760" y="350532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21932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 Asp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C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219320" y="2743200"/>
            <a:ext cx="2286000" cy="2741760"/>
          </a:xfrm>
          <a:prstGeom prst="rect">
            <a:avLst/>
          </a:prstGeom>
          <a:solidFill>
            <a:srgbClr val="ff9900">
              <a:alpha val="50000"/>
            </a:srgbClr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 minutes to sta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 lines of AspectJ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uniquely improv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existing larg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code bas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&amp;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stand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ra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rror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3772080" y="5562720"/>
            <a:ext cx="22860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tructur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 Aspe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6324480" y="5562720"/>
            <a:ext cx="25909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pect-Orient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te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29C5E9-AF1A-4154-AB4B-A2352F73E624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609480" y="75960"/>
            <a:ext cx="822960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expected benefits of using AOP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769644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good modularity,</a:t>
            </a:r>
            <a:br>
              <a:rPr sz="3000"/>
            </a:b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  even for crosscutting concern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ss tangled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natural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rter co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asier maintenance and ev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sier to reason about, debug, chan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re reusa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y asp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75000"/>
              </a:lnSpc>
              <a:spcBef>
                <a:spcPts val="90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ug and play aspects when appropri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B6718B-4944-4E80-863C-8B0D5E0D9946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681480" y="1447920"/>
            <a:ext cx="8386200" cy="5162760"/>
            <a:chOff x="681480" y="1447920"/>
            <a:chExt cx="8386200" cy="5162760"/>
          </a:xfrm>
        </p:grpSpPr>
        <p:grpSp>
          <p:nvGrpSpPr>
            <p:cNvPr id="112" name=""/>
            <p:cNvGrpSpPr/>
            <p:nvPr/>
          </p:nvGrpSpPr>
          <p:grpSpPr>
            <a:xfrm>
              <a:off x="681480" y="1447920"/>
              <a:ext cx="1440360" cy="3042720"/>
              <a:chOff x="681480" y="1447920"/>
              <a:chExt cx="1440360" cy="3042720"/>
            </a:xfrm>
          </p:grpSpPr>
          <p:grpSp>
            <p:nvGrpSpPr>
              <p:cNvPr id="113" name=""/>
              <p:cNvGrpSpPr/>
              <p:nvPr/>
            </p:nvGrpSpPr>
            <p:grpSpPr>
              <a:xfrm>
                <a:off x="681480" y="1676520"/>
                <a:ext cx="1440360" cy="2814120"/>
                <a:chOff x="681480" y="1676520"/>
                <a:chExt cx="1440360" cy="2814120"/>
              </a:xfrm>
            </p:grpSpPr>
            <p:sp>
              <p:nvSpPr>
                <p:cNvPr id="114" name=""/>
                <p:cNvSpPr/>
                <p:nvPr/>
              </p:nvSpPr>
              <p:spPr>
                <a:xfrm>
                  <a:off x="681480" y="1676520"/>
                  <a:ext cx="771840" cy="2814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Apache Software License, Version 1.1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pyright (c) 1999 The Apache Software Foundation.  All righ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serv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distribution and use in source and binary forms, with or with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odification, are permitted provided that the following condit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me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1. Redistributions of source code must retain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2. Redistributions in binary form must reproduce the above copyrigh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tice, this list of conditions and the following disclaimer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the documentation and/or other materials provid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distribu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3. The end-user documentation included with the redistribution,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ny, must include the following acknowlegemen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"This product includes software develop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Apache Software Foundation (http://www.apache.org/).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Alternately, this acknowlegement may appear in t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tself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if and wherever such third-party acknowlegements normally appea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4. The names "The Jakarta Project", "Tomcat", and "Apache Softw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oundation" must not be used to endorse or promote produ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riv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from this software without prior written permission. F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, please contact apache@apache.or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5. Products derived from this software may not be called "Apache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nor may "Apache" appear in their names without prior writt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permission of the Apache Group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IS PROVIDED ``AS IS'' AND ANY EXPRESSED OR IMPL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ARRANTIES, INCLUDING, BUT NOT LIMITED TO, THE IMPLIED WARRAN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MERCHANTABILITY AND FITNESS FOR A PARTICULAR PURPOSE A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ISCLAIMED.  IN NO EVENT SHALL THE APACHE SOFTWARE FOUNDATION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S CONTRIBUTORS BE LIABLE FOR ANY DIRECT, INDIRECT, INCIDENTAL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, EXEMPLARY, OR CONSEQUENTIAL DAMAGES (INCLUDING, BUT N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MITED TO, PROCUREMENT OF SUBSTITUTE GOODS OR SERVICES; LOS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, DATA, OR PROFITS; OR BUSINESS INTERRUPTION) HOWEVER CAUSED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N ANY THEORY OF LIABILITY, WHETHER IN CONTRACT, STRICT LIABILITY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R TORT (INCLUDING NEGLIGENCE OR OTHERWISE) ARISING IN ANY WAY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USE OF THIS SOFTWARE, EVEN IF ADVISED OF THE POSSIBILITY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UCH DAM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0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===================================================================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software consists of voluntary contributions made by man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viduals on behalf of the Apache Software Foundation.  For m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formation on the Apache Software Foundation, please se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http://www.apache.org/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[Additional notices, if required by prior licensing conditions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n application level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ApplicationSession implements Http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Context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vali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(String id, ServerSession server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serverSession =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ontext = 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= context.getSessionTimeOu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.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nactiveInterval *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getServer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rver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HTTP SESSION IMPLEMENTATION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ew SessionContextImp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1365480" y="1676520"/>
                  <a:ext cx="756360" cy="276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.removeApplicationSession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everything in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isAccessTime == creation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els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!= null &amp;&amp; value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 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value).value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get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name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addElement(e.nextElement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valueNames = new String[name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.copyInto(value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Names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ashtable valuesClone = (Hashtable)values.clon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Enumeration)valuesClone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 =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HttpSessionBindingEvent e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ew HttpSessionBindingEvent(this,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o).valueUnbound(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 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applicationSession.session.is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-----------------------------------------------------------------------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16" name=""/>
              <p:cNvSpPr/>
              <p:nvPr/>
            </p:nvSpPr>
            <p:spPr>
              <a:xfrm>
                <a:off x="716040" y="1447920"/>
                <a:ext cx="13716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Application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7" name=""/>
            <p:cNvGrpSpPr/>
            <p:nvPr/>
          </p:nvGrpSpPr>
          <p:grpSpPr>
            <a:xfrm>
              <a:off x="2209680" y="1447920"/>
              <a:ext cx="1981440" cy="4888800"/>
              <a:chOff x="2209680" y="1447920"/>
              <a:chExt cx="1981440" cy="4888800"/>
            </a:xfrm>
          </p:grpSpPr>
          <p:grpSp>
            <p:nvGrpSpPr>
              <p:cNvPr id="118" name=""/>
              <p:cNvGrpSpPr/>
              <p:nvPr/>
            </p:nvGrpSpPr>
            <p:grpSpPr>
              <a:xfrm>
                <a:off x="2209680" y="1676520"/>
                <a:ext cx="1981440" cy="4660200"/>
                <a:chOff x="2209680" y="1676520"/>
                <a:chExt cx="1981440" cy="4660200"/>
              </a:xfrm>
            </p:grpSpPr>
            <p:sp>
              <p:nvSpPr>
                <p:cNvPr id="119" name=""/>
                <p:cNvSpPr/>
                <p:nvPr/>
              </p:nvSpPr>
              <p:spPr>
                <a:xfrm>
                  <a:off x="2209680" y="1676520"/>
                  <a:ext cx="609840" cy="466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In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ObjectOutputStrea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Serializ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Servlet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Even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BindingListen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Session&lt;/b&gt; interface.  This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rializable, so that it can be stored in persistent storage or transfer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o a different JVM for distributable session suppor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 instance of this class represents bo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nal (Session) and application level (HttpSession) view of the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owever, because the class itself is not declared public, Java logic outsi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&lt;code&gt;org.apache.tomcat.session&lt;/code&gt; package cannot cast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ttpSession view of this instance back to a Session view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2 $ $Date: 2000/05/15 17:54:1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HttpSession, 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 new Session associated with the specified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manager with which this Session is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u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llection of user data attributes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ttribut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time this session was created, in milliseconds since midnigh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identifier of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ive information describing this Session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Session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las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long last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time interval, in seconds, between client requests befo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rvlet container may invalidate this session.  A negative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new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lag indicating whether this session is valid or no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HTTP session context associated with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HttpSessionContext sessionContext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urrent accessed time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ed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reation time for this session.  This method is called by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when an existing Session instance is reu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time The new creation ti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reationTime(long ti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reation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thisAccessedTime = 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session identifier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The new session identifi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Id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this.id != null) &amp;&amp; (manager != null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add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Session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Return the last time the client sent a request associated with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as the number of milliseconds since midnight, January 1, 1970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GMT.  Actions that your application takes, such as getting or sett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a value associated with the session, do not affect the access ti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turn (this.lastAccessed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nage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nager within which this Session is 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nager The new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nager(Manager manag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nager =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time interval, in seconds, between client reques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fore the servlet container will invalidate the session.  A negativ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 indicates that the session should never time 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nterval The new maximum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2666880" y="1676520"/>
                  <a:ext cx="685800" cy="446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for which this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the facad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(HttpSession) 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Update the accessed time information for this session. 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hould be called by the context when a request comes in for a particula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session, even if the application does not reference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lastAccessedTime = this.thisAccessed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thisAccessed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.isNew=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erform the internal processing required to invalidate this session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out triggering an exception if the session has already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expir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move this session from our manager's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mov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Unbind any object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rk this session as in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Valid(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lease all object references, and initialize instance variables, 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ation for reuse of this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cycl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set the instance variables associated with this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clea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0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x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New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ell our Manager that this Session has been recycl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(manager instanceof ManagerBas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ManagerBase) manager).recycle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 Session Packag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Val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Val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New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New The new value for the &lt;code&gt;isNew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New(boolean isNew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New = isNew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&lt;code&gt;isValid&lt;/code&gt; flag for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sValid The new value for the &lt;code&gt;isValid&lt;/code&gt; fla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Valid(boolean isVal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sValid = isVal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 HttpSession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time when this session was created, in milliseconds sinc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idnight, January 1, 1970 GM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reationTi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context with which this session is associa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1, this method is deprecated and has n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replacement.  It will be removed in a future version of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Java Servlet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Context getSessionContex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Contex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Context = new StandardSession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ession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HttpSession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attribut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an &lt;code&gt;Enumeration&lt;/code&gt; of &lt;code&gt;String&lt;/code&gt; objec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aining the names of the objects bound to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Attribut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attributes.key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object bound with the specified name in this session,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null&lt;/code&gt; if no object is bound with that nam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value to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getAttribute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t of names of objects bound to this session.  If the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re no such objects, a zero-length array is return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getAttributeNames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[]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s[] = new String[results.size()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ames.length; i++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s[i] = (String) results.elementAt(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ame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validates this session and unbinds any objects bound to 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ause this session to expir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&lt;code&gt;true&lt;/code&gt; if the client does not yet know about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, or if the client chooses not to join the session. 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ample, if the server used only cookie-based sessions, and the cli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disabled the use of cookies, then a session would be new on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boolean isNew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sNew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3200400" y="1676520"/>
                  <a:ext cx="990720" cy="4373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set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Attribute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Attribut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object = attribut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     System.out.println( "Removing attribute " + nam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object instanceof HttpSessionBindingListener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object).valueUn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the object bound with the specified name from this session. 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 does not have an object bound with this name, this metho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oes noth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Un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of the object to remove from this sess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Version 2.2, this method is replaced b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&lt;code&gt;removeAttribute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ind an object to this session, using the specified name.  If an objec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f the same name is already bound to this session, the object 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plac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fter this method executes, and if the object implement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HttpSessionBindingListener&lt;/code&gt;, the container call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valueBound()&lt;/code&gt; on the objec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name Name to which the object is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value Object to be bound, cannot be 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ArgumentException if an attempt is made to add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non-serializable object in an environment marked distributabl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method is called on 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validate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Attribut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nager != null) &amp;&amp; manager.getDistributable(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!(value instanceof Serializable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Session.setAttribute.ia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(attrib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Attribut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HttpSessionBindingListen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HttpSessionBindingListener) value).valueB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new HttpSessionBindingEvent((HttpSession) this, 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 HttpSession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ad a serialized version of this session object from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in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reference to the own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not restored by this method, and must be set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input stream to read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ClassNotFoundException if an unknown class is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readObject(ObjectInputStream stream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ClassNotFoundException,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eation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d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Time = ((Long) stream.readObject()).long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maxInactiveInterval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sNew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sValid = ((Boolean) stream.readObject()).boolean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Deserialize the attribute count and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n = ((Integer) stream.readObject()).in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n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(Object) stream.readObjec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ttribut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rite a serialized version of this session object to the specifi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object output stream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The owning Manager will not be stor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serialized representation of this Session.  After call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readObject()&lt;/code&gt;, you must set the associated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explicit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Any attribute that is not Serializab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be silently ignored.  If you do not want any such attributes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be sure the &lt;code&gt;distributable&lt;/code&gt; property of our associ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anager is set to &lt;code&gt;true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stream The output stream to write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OException if an input/output error occu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writeObject(ObjectOutputStream stream) throws IO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rite the scalar instance variables (except Manage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Long(creation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ream.writeObject(new Long(lastAccessedTi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maxInactiveInterval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New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Boolean(isValid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ccumulate the names of serializable attribut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ector results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attrs = getAttributeNam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attr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attr = (String) attr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value = attributes.ge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value instanceof Serializable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ults.addElement(attr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rialize the attribute count and the  attribute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ew Integer(results.siz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names = results.element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names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name = (String) names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eam.writeObject(attributes.get(nam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rosscut invalidate(StandardSession s): s &amp; (int getMaxInactiveInterval(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long getCreationTim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getAttribute(String) |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getAttribut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[] getValueNames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invalidate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isNew(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ttribute(String) |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setAttribute(String, Objec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advice(StandardSession s): invalidate(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efor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.sm.getString("standardSession."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thisJoinPoint.methodNam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+ "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- Private Cla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class is a dummy implementation of the &lt;code&gt;HttpSessionContext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terface, to conform to the requirement that such an object be retur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n &lt;code&gt;HttpSession.getSessionContext()&lt;/code&gt;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 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terface will be removed in a future version of this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inal class StandardSessionContext implements HttpSessionContext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ector dummy = new Vecto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session identifiers of all sessions defin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thin this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an empty &lt;code&gt;Enumeration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and will be removed in a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Id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dummy.elements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&lt;code&gt;HttpSession&lt;/code&gt; associated with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fied session identifi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id Session identifier for which to look up a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deprecated As of Java Servlet API 2.1 with no replacem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is method must return null and will be removed in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future version of the API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get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" name=""/>
              <p:cNvSpPr/>
              <p:nvPr/>
            </p:nvSpPr>
            <p:spPr>
              <a:xfrm>
                <a:off x="2610000" y="1447920"/>
                <a:ext cx="1180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" name=""/>
            <p:cNvGrpSpPr/>
            <p:nvPr/>
          </p:nvGrpSpPr>
          <p:grpSpPr>
            <a:xfrm>
              <a:off x="5879160" y="2817720"/>
              <a:ext cx="1512360" cy="3792960"/>
              <a:chOff x="5879160" y="2817720"/>
              <a:chExt cx="1512360" cy="379296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5879160" y="3046320"/>
                <a:ext cx="1512360" cy="3564360"/>
                <a:chOff x="5879160" y="3046320"/>
                <a:chExt cx="1512360" cy="3564360"/>
              </a:xfrm>
            </p:grpSpPr>
            <p:sp>
              <p:nvSpPr>
                <p:cNvPr id="125" name=""/>
                <p:cNvSpPr/>
                <p:nvPr/>
              </p:nvSpPr>
              <p:spPr>
                <a:xfrm>
                  <a:off x="5879160" y="3046320"/>
                  <a:ext cx="787320" cy="2995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Enumera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Hashtabl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Vecto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amedNodeMa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w3c.dom.Nod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ndard implementation of the &lt;b&gt;Manager&lt;/b&gt; interface that provid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session persistence or distributable capabilities, but does suppor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 optional, configurable, maximum number of active sessions allow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Lifecycle configuration of this component assumes an XML nod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following format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&amp;lt;Manager className="org.apache.tomcat.session.StandardManager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checkInterval="60" maxActiveSessions="-1"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         maxInactiveInterval="-1" /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here you can adjust the following parameters, with default valu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square brackets: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checkInterval&lt;/b&gt; - The interval (in seconds) between backgrou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read checks for expired sessions.  [60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ActiveSessions&lt;/b&gt; - The maximum number of sessions allowed 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be active at once, or -1 for no limit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li&gt;&lt;b&gt;maxInactiveInterval&lt;/b&gt; - The default maximum number of seconds o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inactivity before which the servlet container is allowed to time ou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a session, or -1 for no limit.  This value should be overridden from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the default session timeout specified in the web application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   descriptor, if any.  [-1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/ul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version $Revision: 1.1.1.1 $ $Date: 2000/05/02 21:28:30 $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xtends Manager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Lifecycle, Runnable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interval (in seconds) between checks for expired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checkInterval = 6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configur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configur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descriptive information about this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final String info = "StandardManager/1.0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ximum number of active Sessions allowed, or -1 for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maxActiveSessions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tring manager for this packag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Has this component been started yet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Thread 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completion semaphor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boolean 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ame to register for the background threa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threadName = "StandardManager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-- Properti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Check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check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check interval (in seconds) for this Manag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heckInterval The new check interv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heckInterval(int check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heckInterval = check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descriptive information about this Manager implementation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responding version number, in the forma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code&gt;&amp;lt;description&amp;gt;/&amp;lt;version&amp;gt;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nfo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info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turn the maximum number of active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ActiveSession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this.maxActiveSession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 the maximum number of actives Sessions allowed, or -1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no limi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ax The new maximum number of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ActiveSessions(int ma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maxActiveSessions = max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struct and return a new session object, based on the defaul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ttings specified by this Manager's properties.  The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d will be assigned by this method, and available via the getId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method of the returned session.  If a new session cannot be crea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for any reason, return &lt;code&gt;null&lt;/code&gt;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a new session cannot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stantiated for any reas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 createSessio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maxActiveSessions &gt;= 0) &amp;&amp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essions.size() &gt;= maxActiveSessions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createSession.ise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super.createSession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6553080" y="3046320"/>
                  <a:ext cx="838440" cy="3564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Lifecycl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figure this component, based on the specified configura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meters.  This method should be called immediately after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 instance is created, and before &lt;code&gt;start()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s call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parameters Configuration parameters for this compon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(&lt;B&gt;FIXME: What object type should this really be?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and/or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n the configuration parameters it was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figure(Node parameters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figur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parameters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Parse and process our configuration paramete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("Manager".equals(parameters.getNodeName())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amedNodeMap attributes = parameters.getAttribut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node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check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Check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ActiveSessions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ActiveSessions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node = attributes.getNamedItem("maxInactiveInterval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ode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tMaxInactiveInterval(Integer.parseInt(node.getNodeValue()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Throwable 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       // XXX - Throw exception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epare for the beginning of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called after &lt;code&gt;configure()&lt;/code&gt;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before any of the public methods of the component are utiliz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yet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configured (if required for this component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 be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prevents this component from being us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art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configur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Configur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already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art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Gracefully terminate the active use of the public methods of thi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mponent.  This method should be the last one called on a giv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stance of this componen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not been sta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IllegalStateException if this component has alread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been stopp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exception LifecycleException if this component detects a fatal err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that needs to be report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top() throws LifecycleExcept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Validate and update our current component st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tarted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Lifecycle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sm.getString("standardManager.notStarted"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rted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top the background reaper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Expire all active session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 Private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Invalidate all sessions that have expir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rivate void processExpir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ong timeNow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 sessions[] = findSession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for (int i = 0; i &lt; sessions.length; i++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tandardSession session = (StandardSession) session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!session.isValid()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maxInactiveInterval = session.getMaxInactiveInterval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maxInactiveInterval &lt; 0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contin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imeIdle = // Truncate, do not round up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 ((timeNow - session.getLastAccessedTime()) /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imeIdle &gt;= maxInactiveInterva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ssion.expir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leep for the duration specified by the &lt;code&gt;checkInterval&lt;/code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pert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lee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leep(checkInterval * 1000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art the background thread that will periodically check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art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!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fal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ew Thread(this, thread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etDaemon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top the background thread that is periodically checking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timeout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void threadSto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thread == 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Done = tru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interrup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.joi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nterrupted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 Background Threa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background thread that checks for session timeouts and shut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un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Loop until the termination semaphore is s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!threadDon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eadSlee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cessExpire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7" name=""/>
              <p:cNvSpPr/>
              <p:nvPr/>
            </p:nvSpPr>
            <p:spPr>
              <a:xfrm>
                <a:off x="6019920" y="2817720"/>
                <a:ext cx="1222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" name=""/>
            <p:cNvGrpSpPr/>
            <p:nvPr/>
          </p:nvGrpSpPr>
          <p:grpSpPr>
            <a:xfrm>
              <a:off x="7467480" y="2817720"/>
              <a:ext cx="1600200" cy="2026800"/>
              <a:chOff x="7467480" y="2817720"/>
              <a:chExt cx="1600200" cy="2026800"/>
            </a:xfrm>
          </p:grpSpPr>
          <p:sp>
            <p:nvSpPr>
              <p:cNvPr id="129" name=""/>
              <p:cNvSpPr/>
              <p:nvPr/>
            </p:nvSpPr>
            <p:spPr>
              <a:xfrm>
                <a:off x="7467480" y="2817720"/>
                <a:ext cx="16002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tandard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" name=""/>
              <p:cNvGrpSpPr/>
              <p:nvPr/>
            </p:nvGrpSpPr>
            <p:grpSpPr>
              <a:xfrm>
                <a:off x="7619760" y="3046320"/>
                <a:ext cx="1295280" cy="1798200"/>
                <a:chOff x="7619760" y="3046320"/>
                <a:chExt cx="1295280" cy="1798200"/>
              </a:xfrm>
            </p:grpSpPr>
            <p:sp>
              <p:nvSpPr>
                <p:cNvPr id="131" name=""/>
                <p:cNvSpPr/>
                <p:nvPr/>
              </p:nvSpPr>
              <p:spPr>
                <a:xfrm>
                  <a:off x="7619760" y="3046320"/>
                  <a:ext cx="762120" cy="172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IOExcept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Cooki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Htt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atalina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Contex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Respons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Session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essionUti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pecialized implementation of org.apache.tomcat.core.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at adapts to the new component-based Manager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use of &lt;code&gt;StandardManager&lt;/code&gt; is hard coded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nd lifecycle configuration is not support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b&gt;IMPLEMENTATION NOTE&lt;/b&gt;:  Once we commit to the new Manager/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aradigm, I would suggest moving the logic implemented here back into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core level.  The Tomcat.Next "Manager" interface acts more like a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llection class, and has minimal knowledge of the detailed reques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processing semantics of handling session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&lt;p&g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XXX - At present, there is no way (via the SessionManager interface) f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 Context to tell the Manager that we create what the default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imeout for this web application (specified in the deployment descriptor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hould b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Craig R. McClanaha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final class StandardSession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-- Constructor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reate a new SessionManager that adapts to the corresponding Manag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mplementatio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ndard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tandard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configure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 Instance Variable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Manager implementation we are actually using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Manager manager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8153280" y="3046320"/>
                  <a:ext cx="761760" cy="179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--------------------------------------------------------- Public Method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Mark the specified session's last accessed time.  This should b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called for each request by a RequestIntercepto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 @param session The session to be marke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Context ctx, Request req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HttpSession session=findSession(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session == 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session instanceof Session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(Session) session).acces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the HttpSession - avoid another fi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session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should we throw exception or just return null ?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 Context ctx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 session = manager.findSession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!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IO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(nul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 manager.createSession().get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Remove all sessions because our associated Context is being shut down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ctx The context that is being shut 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XXX a manager may be shared by multipl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s, we just want to remove the sessions of ctx!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ill still run after that ( i.e. keep databas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nection ope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manager instanceof Lifecycl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ry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(Lifecycle) manager).sto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catch (LifecycleException 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StateException("" + 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.setMaxInactiveInterval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spcBef>
                      <a:spcPts val="62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3" name=""/>
            <p:cNvGrpSpPr/>
            <p:nvPr/>
          </p:nvGrpSpPr>
          <p:grpSpPr>
            <a:xfrm>
              <a:off x="4287240" y="4951440"/>
              <a:ext cx="1477440" cy="1424880"/>
              <a:chOff x="4287240" y="4951440"/>
              <a:chExt cx="1477440" cy="1424880"/>
            </a:xfrm>
          </p:grpSpPr>
          <p:sp>
            <p:nvSpPr>
              <p:cNvPr id="134" name=""/>
              <p:cNvSpPr/>
              <p:nvPr/>
            </p:nvSpPr>
            <p:spPr>
              <a:xfrm>
                <a:off x="4297320" y="4951440"/>
                <a:ext cx="145548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rverSessionManage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4287240" y="5180040"/>
                <a:ext cx="1477440" cy="1196280"/>
                <a:chOff x="4287240" y="5180040"/>
                <a:chExt cx="1477440" cy="1196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287240" y="5180040"/>
                  <a:ext cx="802440" cy="1196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son Hunter [jch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Manager implements SessionManage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atic ServerSessionManager manager; //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otected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manager = new ServerSession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atic ServerSessionManager get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Reaper reap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erverSessionManage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 = Reaper.getReap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etServerSessionManager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aper.star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public void accessed( Context ctx, Request req, String id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plicationSession apS=(ApplicationSession)findSession( ctx, 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( apS==null) retur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 servS=apS.getServerSession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apS.accesse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cache it - no need to compute it agai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req.setSession( apS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createSession(Context ctx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SessionIdGenerator.generate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new ServerSession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put(sessionId, 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setMaxInactiveInterval(inactiveInterval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.getApplicationSession( ctx, true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HttpSession findSession(Context ctx, 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Session=(ServerSession)sessions.get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Session==null) 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Session.getApplicationSession(ctx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992840" y="5180040"/>
                  <a:ext cx="771840" cy="984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000000"/>
                      </a:solidFill>
                      <a:uFillTx/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reap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moveSession(ServerSession session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id = session.get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s.remove(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Sessions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 session = (ServerSession)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.getApplicationSession(context, fals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!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Used by context to configure the session manager's inactivity timeou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e SessionManager may have some default session time out,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ntext on the other hand has it's timeout set by the deploymen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descriptor (web.xml). This method lets the Context conforgure th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session manager according to this value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param minutes The session inactivity timeout in minute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SessionTimeOut(int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-1 != minutes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The manager works with seconds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(minutes * 6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8" name=""/>
            <p:cNvGrpSpPr/>
            <p:nvPr/>
          </p:nvGrpSpPr>
          <p:grpSpPr>
            <a:xfrm>
              <a:off x="4280400" y="2817720"/>
              <a:ext cx="1492560" cy="1892880"/>
              <a:chOff x="4280400" y="2817720"/>
              <a:chExt cx="1492560" cy="1892880"/>
            </a:xfrm>
          </p:grpSpPr>
          <p:sp>
            <p:nvSpPr>
              <p:cNvPr id="139" name=""/>
              <p:cNvSpPr/>
              <p:nvPr/>
            </p:nvSpPr>
            <p:spPr>
              <a:xfrm>
                <a:off x="4395960" y="2817720"/>
                <a:ext cx="1261800" cy="231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6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SessionInterceptor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4280400" y="2970000"/>
                <a:ext cx="1492560" cy="1740600"/>
                <a:chOff x="4280400" y="2970000"/>
                <a:chExt cx="1492560" cy="174060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4280400" y="2970000"/>
                  <a:ext cx="855720" cy="1740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request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Will process the request and determine the session Id, and set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 the Reques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t also marks the session as accesse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This implementation only handles Cookies sessions, please extend o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add new interceptors for other method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ssionInterceptor extends  BaseInterceptor implements RequestInterceptor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parates the session id from the jvm rou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atic final char SESSIONID_ROUTE_SEP = '.'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debug=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Manager 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essionInterceptor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Debug( int i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stem.out.println("Set debug to " + i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debug=i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ContextManager( ContextManager cm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cm=cm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requestMap(Request request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Id =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s[]=request.getCookies(); // assert !=nul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for( int i=0; i&lt;cookies.length; i++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cookies[i]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cookie.getName().equals("JSESSIONID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cookie.getValu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Cookie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ig=";jsessionid=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foundAt=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XXX RURI=" + request.getRequestURI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(foundAt=request.getRequestURI().indexOf(sig))!=-1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request.getRequestURI().substring(foundAt+sig.length(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rewrite URL, do I need to do anything more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URI(request.getRequestURI().substring(0, foundAt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=validateSessionId(request, 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!=null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FromURL(tr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 what is the correct behavior if the session is invalid 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We may still set it and just return session inval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Validate and fix the session id. If the session is not valid return null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 It will also clean up the session from load-balancing strings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return sessionId, or null if not vali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validateSessionId(Request request, String sessionId)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piggyback the JVM id on top of the session cooki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eparate them ..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Orig sessionId 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ull != session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t idex = sessionId.lastIndexOf(SESSIONID_ROUTE_SEP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idex &gt;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Id = sessionId.substring(0, ide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sessionId != null &amp;&amp; sessionId.length()!=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We are in a problem here, we may actually ge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(one for the roo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 and one for the real context... or old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okie. We must check for validity in the current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ntext ctx=request.getContex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Manager sM = ctx.getSessionManager();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sM.findSession(ctx, sessionId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M.accessed(ctx, request,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uest.setRequestedSessionId(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 Final session id " + 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session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nul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001120" y="2970000"/>
                  <a:ext cx="771840" cy="893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beforeBody( Request rrequest, Response response 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reqSessionId = response.getSessionId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debug&gt;0 ) cm.log("Before Body " + reqSessionId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reqSessionId==null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set the path attribute to the cookie. This way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ultiple session cookies can be used, one for each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context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sessionPath = rrequest.getContext().getPath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sessionPath.length() == 0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ssionPath = "/"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GS, piggyback the jvm route on the session id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!sessionPath.equals("/"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jvmRoute = rrequest.getJvmRou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null != jvmRou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 = reqSessionId + SESSIONID_ROUTE_SEP + jvmRout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 cookie = new Cookie("JSESSIONID"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qSessionId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MaxAge(-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Path(sessionPath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1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.setVersion(0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sponse.addHeader( CookieTools.getCookieHeaderName(cookie)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ookieTools.getCookieHeaderValue(cookie)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 Notification of context shutdow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contextShutdown( Context ctx 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s TomcatExcept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( ctx.getDebug() &gt; 0 ) ctx.log("Removing sessions from " + ctx 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ctx.getSessionManager().removeSessions(ctx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685440" y="4800600"/>
              <a:ext cx="1340280" cy="1636560"/>
              <a:chOff x="685440" y="4800600"/>
              <a:chExt cx="1340280" cy="1636560"/>
            </a:xfrm>
          </p:grpSpPr>
          <p:sp>
            <p:nvSpPr>
              <p:cNvPr id="144" name=""/>
              <p:cNvSpPr/>
              <p:nvPr/>
            </p:nvSpPr>
            <p:spPr>
              <a:xfrm>
                <a:off x="898560" y="4800600"/>
                <a:ext cx="9144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800" spc="-1" strike="noStrike">
                    <a:solidFill>
                      <a:srgbClr val="000000"/>
                    </a:solidFill>
                    <a:latin typeface="Arial"/>
                  </a:rPr>
                  <a:t>ServerSession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685440" y="5029200"/>
                <a:ext cx="1340280" cy="1407960"/>
                <a:chOff x="685440" y="5029200"/>
                <a:chExt cx="1340280" cy="140796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685440" y="5029200"/>
                  <a:ext cx="718200" cy="1392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ackage org.apache.tomcat.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core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org.apache.tomcat.util.StringManager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io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n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.util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mport javax.servlet.http.*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ore implementation of a server 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Duncan Davidson [duncan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@author James Todd [gonzo@eng.sun.com]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class ServerSession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Manager 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Manager.getManager("org.apache.tomcat.session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value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Hashtable appSessions = new Hashtabl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String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creationTime = System.currentTimeMillis();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long thisAccessTime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rivate long lastAccessed =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rivate int inactiveInterval = -1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erverSession(String id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is.id =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String getI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long getCreation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creation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public long getLastAccessedTim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return lastAccessed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cc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ApplicationSession getApplicationSession(Context context,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boolean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appSession == null &amp;&amp; creat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 to ensure valid?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 = new ApplicationSession(id, this, 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put(context, appSession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make sure that we haven't gone over the end of ou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inactive interval -- if so, invalidate and create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a new appSession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appSession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removeApplicationSession(Context context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s.remove(context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**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Called by context when request comes in so that accesses and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 inactivities can be dealt with accordingly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*/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accessed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set last accessed to thisAccessTime as it will be left over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from the previous access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lastAccessed = thisAccessTime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thisAccessTime = System.currentTimeMilli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oid validate()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1292040" y="5029200"/>
                  <a:ext cx="733680" cy="140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void 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if we have an inactive interval, check to see if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// we've exceeded it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inactiveInterval != -1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t thisInterval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(int)(System.currentTimeMillis() - lastAccessed) / 1000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f (thisInterval &gt; inactive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 ssm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erverSessionManager.getManager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ssm.removeSession(this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    </a:t>
                  </a:r>
                  <a:r>
                    <a:rPr b="1" lang="en-US" sz="100" spc="-1" strike="noStrike" u="sng">
                      <a:solidFill>
                        <a:srgbClr val="cc0000"/>
                      </a:solidFill>
                      <a:uFillTx/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invalidate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in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putValue(String name, Object valu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moveValue(name);  // remove any existing bind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put(name, valu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Object get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f (name == nul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tring msg = sm.getString("serverSession.value.iae"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throw new IllegalArgumentException(msg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get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Enumeration getValueNames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value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removeValue(String name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values.remove(name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void setMaxInactiveInterval(int interval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inactiveInterval = 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public int getMaxInactiveInterval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return inactiveInterval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XXX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ync'd for safty -- no other thread should be getting something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from this while we are reaping. This isn't the most optimal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// solution for this, but we'll determine something else later.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synchronized void reap(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Enumeration enum = appSessions.keys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while (enum.hasMoreElements()) {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Object key = enum.nextElement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licationSession appSession =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(ApplicationSession)appSessions.get(key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appSession.validate();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    </a:t>
                  </a: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" spc="-1" strike="noStrike">
                      <a:solidFill>
                        <a:srgbClr val="000000"/>
                      </a:solidFill>
                      <a:latin typeface="Courier New"/>
                    </a:rPr>
                    <a:t>}</a:t>
                  </a: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"/>
          <p:cNvSpPr/>
          <p:nvPr/>
        </p:nvSpPr>
        <p:spPr>
          <a:xfrm>
            <a:off x="3048120" y="72864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expiration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802560" y="6226200"/>
            <a:ext cx="2286000" cy="592200"/>
            <a:chOff x="6802560" y="6226200"/>
            <a:chExt cx="2286000" cy="592200"/>
          </a:xfrm>
        </p:grpSpPr>
        <p:sp>
          <p:nvSpPr>
            <p:cNvPr id="150" name=""/>
            <p:cNvSpPr/>
            <p:nvPr/>
          </p:nvSpPr>
          <p:spPr>
            <a:xfrm>
              <a:off x="6802560" y="6270480"/>
              <a:ext cx="2286000" cy="533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1" name="New%20Logo%20copy" descr=""/>
            <p:cNvPicPr/>
            <p:nvPr/>
          </p:nvPicPr>
          <p:blipFill>
            <a:blip r:embed="rId1"/>
            <a:stretch/>
          </p:blipFill>
          <p:spPr>
            <a:xfrm>
              <a:off x="6878520" y="6226200"/>
              <a:ext cx="2210040" cy="592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C74D2A-49CA-421B-8569-024F66284ED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98" name=""/>
          <p:cNvGraphicFramePr/>
          <p:nvPr/>
        </p:nvGraphicFramePr>
        <p:xfrm>
          <a:off x="4114800" y="1371600"/>
          <a:ext cx="480060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14800" y="1371600"/>
                    <a:ext cx="48006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 adoption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rapid growth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mailing list: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700 active member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IT Tech Review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BM, Java World,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ACM, SD, … 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oduction use</a:t>
            </a:r>
            <a:br>
              <a:rPr sz="2600"/>
            </a:br>
            <a:br>
              <a:rPr sz="2600"/>
            </a:br>
            <a:br>
              <a:rPr sz="2600"/>
            </a:b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457200" y="5181480"/>
            <a:ext cx="77724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esentation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avaOne, OOPSLA, Software Development, SIGS Java, ICSE, TOOLS, JAOO, SIGS, ECOOP, FSE, 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3" name=""/>
          <p:cNvGrpSpPr/>
          <p:nvPr/>
        </p:nvGrpSpPr>
        <p:grpSpPr>
          <a:xfrm>
            <a:off x="609480" y="4038480"/>
            <a:ext cx="2362320" cy="609840"/>
            <a:chOff x="609480" y="4038480"/>
            <a:chExt cx="2362320" cy="609840"/>
          </a:xfrm>
        </p:grpSpPr>
        <p:pic>
          <p:nvPicPr>
            <p:cNvPr id="904" name="" descr=""/>
            <p:cNvPicPr/>
            <p:nvPr/>
          </p:nvPicPr>
          <p:blipFill>
            <a:blip r:embed="rId3"/>
            <a:stretch/>
          </p:blipFill>
          <p:spPr>
            <a:xfrm>
              <a:off x="1572840" y="4038480"/>
              <a:ext cx="1398960" cy="609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5" name="" descr=""/>
            <p:cNvPicPr/>
            <p:nvPr/>
          </p:nvPicPr>
          <p:blipFill>
            <a:blip r:embed="rId4"/>
            <a:stretch/>
          </p:blipFill>
          <p:spPr>
            <a:xfrm>
              <a:off x="609480" y="4038480"/>
              <a:ext cx="963360" cy="6098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06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3048120" y="4038480"/>
            <a:ext cx="914400" cy="662040"/>
          </a:xfrm>
          <a:prstGeom prst="rect">
            <a:avLst/>
          </a:prstGeom>
          <a:ln w="0">
            <a:noFill/>
          </a:ln>
        </p:spPr>
      </p:pic>
      <p:pic>
        <p:nvPicPr>
          <p:cNvPr id="907" name="" descr=""/>
          <p:cNvPicPr/>
          <p:nvPr/>
        </p:nvPicPr>
        <p:blipFill>
          <a:blip r:embed="rId7"/>
          <a:stretch/>
        </p:blipFill>
        <p:spPr>
          <a:xfrm>
            <a:off x="990720" y="4724280"/>
            <a:ext cx="1724040" cy="466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CD1B0-FD71-4BA6-925A-1D5453C01346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AspectJ™ is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general-purpose AO languag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ust as Java is a general-purpose OO languag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 small and well-integrated extension to Java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puts .class files compatible with any JV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l Java programs are AspectJ program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cludes IDE suppor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macs, JBuilder, Forte 4J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reely available open source implementation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er feedback is driving development prioriti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rs@aspectj.org, support@aspectj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1.0.3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315F15-F2DC-42A8-B7D6-8BE5BE2D1928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credits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685800" y="1523880"/>
            <a:ext cx="8305920" cy="48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spectJ.org is a PARC proje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n Bodkin, Bill Griswold, Erik Hilsdale, Jim Hugunin, Wes Isberg, Mik Kersten, Gregor Kicz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lides, compiler, tools &amp; documentation are available at </a:t>
            </a:r>
            <a:r>
              <a:rPr b="1" lang="en-US" sz="2000" spc="-1" strike="noStrike" u="sng">
                <a:solidFill>
                  <a:srgbClr val="0033cc"/>
                </a:solidFill>
                <a:uFillTx/>
                <a:latin typeface="Arial"/>
              </a:rPr>
              <a:t>aspectj.or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tially funded by DARPA under contract F30602-97-C024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0A9D9-3860-48ED-9E61-1FED3D23049D}" type="slidenum">
              <a:t>52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1123920" y="2743200"/>
            <a:ext cx="1847880" cy="2895120"/>
            <a:chOff x="1123920" y="2743200"/>
            <a:chExt cx="1847880" cy="2895120"/>
          </a:xfrm>
        </p:grpSpPr>
        <p:sp>
          <p:nvSpPr>
            <p:cNvPr id="153" name=""/>
            <p:cNvSpPr/>
            <p:nvPr/>
          </p:nvSpPr>
          <p:spPr>
            <a:xfrm>
              <a:off x="1501920" y="3030120"/>
              <a:ext cx="1469880" cy="93600"/>
            </a:xfrm>
            <a:custGeom>
              <a:avLst/>
              <a:gdLst/>
              <a:ahLst/>
              <a:rect l="l" t="t" r="r" b="b"/>
              <a:pathLst>
                <a:path w="389" h="46">
                  <a:moveTo>
                    <a:pt x="86" y="30"/>
                  </a:moveTo>
                  <a:cubicBezTo>
                    <a:pt x="315" y="8"/>
                    <a:pt x="0" y="19"/>
                    <a:pt x="228" y="0"/>
                  </a:cubicBezTo>
                  <a:cubicBezTo>
                    <a:pt x="294" y="7"/>
                    <a:pt x="305" y="18"/>
                    <a:pt x="363" y="37"/>
                  </a:cubicBezTo>
                  <a:cubicBezTo>
                    <a:pt x="389" y="46"/>
                    <a:pt x="308" y="32"/>
                    <a:pt x="281" y="30"/>
                  </a:cubicBezTo>
                  <a:cubicBezTo>
                    <a:pt x="244" y="27"/>
                    <a:pt x="169" y="22"/>
                    <a:pt x="169" y="22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30200" y="5511600"/>
              <a:ext cx="1641600" cy="126720"/>
            </a:xfrm>
            <a:custGeom>
              <a:avLst/>
              <a:gdLst/>
              <a:ahLst/>
              <a:rect l="l" t="t" r="r" b="b"/>
              <a:pathLst>
                <a:path w="595" h="87">
                  <a:moveTo>
                    <a:pt x="97" y="60"/>
                  </a:moveTo>
                  <a:cubicBezTo>
                    <a:pt x="388" y="43"/>
                    <a:pt x="419" y="87"/>
                    <a:pt x="292" y="0"/>
                  </a:cubicBezTo>
                  <a:cubicBezTo>
                    <a:pt x="223" y="8"/>
                    <a:pt x="147" y="0"/>
                    <a:pt x="82" y="23"/>
                  </a:cubicBezTo>
                  <a:cubicBezTo>
                    <a:pt x="131" y="55"/>
                    <a:pt x="91" y="34"/>
                    <a:pt x="194" y="45"/>
                  </a:cubicBezTo>
                  <a:cubicBezTo>
                    <a:pt x="259" y="52"/>
                    <a:pt x="325" y="60"/>
                    <a:pt x="389" y="75"/>
                  </a:cubicBezTo>
                  <a:cubicBezTo>
                    <a:pt x="595" y="57"/>
                    <a:pt x="358" y="73"/>
                    <a:pt x="299" y="82"/>
                  </a:cubicBezTo>
                  <a:cubicBezTo>
                    <a:pt x="201" y="77"/>
                    <a:pt x="98" y="68"/>
                    <a:pt x="0" y="68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123920" y="2743200"/>
              <a:ext cx="1162080" cy="98280"/>
            </a:xfrm>
            <a:custGeom>
              <a:avLst/>
              <a:gdLst/>
              <a:ahLst/>
              <a:rect l="l" t="t" r="r" b="b"/>
              <a:pathLst>
                <a:path w="365" h="38">
                  <a:moveTo>
                    <a:pt x="3" y="15"/>
                  </a:moveTo>
                  <a:cubicBezTo>
                    <a:pt x="80" y="17"/>
                    <a:pt x="158" y="17"/>
                    <a:pt x="235" y="22"/>
                  </a:cubicBezTo>
                  <a:cubicBezTo>
                    <a:pt x="268" y="24"/>
                    <a:pt x="365" y="38"/>
                    <a:pt x="332" y="37"/>
                  </a:cubicBezTo>
                  <a:cubicBezTo>
                    <a:pt x="260" y="35"/>
                    <a:pt x="187" y="32"/>
                    <a:pt x="115" y="30"/>
                  </a:cubicBezTo>
                  <a:cubicBezTo>
                    <a:pt x="102" y="27"/>
                    <a:pt x="90" y="24"/>
                    <a:pt x="77" y="22"/>
                  </a:cubicBezTo>
                  <a:cubicBezTo>
                    <a:pt x="12" y="12"/>
                    <a:pt x="0" y="27"/>
                    <a:pt x="40" y="0"/>
                  </a:cubicBezTo>
                  <a:cubicBezTo>
                    <a:pt x="154" y="4"/>
                    <a:pt x="218" y="0"/>
                    <a:pt x="317" y="0"/>
                  </a:cubicBezTo>
                </a:path>
              </a:pathLst>
            </a:cu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problems like…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611360"/>
            <a:ext cx="2825640" cy="447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que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81280" y="3124080"/>
            <a:ext cx="1524240" cy="30481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4173480"/>
            <a:ext cx="3200400" cy="376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Respon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648320" y="6172200"/>
            <a:ext cx="1747800" cy="3938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2120" y="2054160"/>
            <a:ext cx="2825640" cy="1503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Cookies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URI()(do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Session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edSessionId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62120" y="4548240"/>
            <a:ext cx="3200400" cy="15238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Request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ContentType(content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OutptutStream()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SessionId(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5410080" y="1828800"/>
            <a:ext cx="2514600" cy="1447920"/>
            <a:chOff x="5410080" y="1828800"/>
            <a:chExt cx="2514600" cy="1447920"/>
          </a:xfrm>
        </p:grpSpPr>
        <p:sp>
          <p:nvSpPr>
            <p:cNvPr id="164" name=""/>
            <p:cNvSpPr/>
            <p:nvPr/>
          </p:nvSpPr>
          <p:spPr>
            <a:xfrm>
              <a:off x="5410080" y="1828800"/>
              <a:ext cx="2514600" cy="37800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SessionIntercepto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5410080" y="2208240"/>
              <a:ext cx="2514600" cy="1068480"/>
            </a:xfrm>
            <a:prstGeom prst="rect">
              <a:avLst/>
            </a:prstGeom>
            <a:noFill/>
            <a:ln w="255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questMap(reques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beforeBody(req, resp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..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638320" y="3886200"/>
            <a:ext cx="3277080" cy="2286000"/>
            <a:chOff x="5638320" y="3886200"/>
            <a:chExt cx="3277080" cy="2286000"/>
          </a:xfrm>
        </p:grpSpPr>
        <p:grpSp>
          <p:nvGrpSpPr>
            <p:cNvPr id="167" name=""/>
            <p:cNvGrpSpPr/>
            <p:nvPr/>
          </p:nvGrpSpPr>
          <p:grpSpPr>
            <a:xfrm>
              <a:off x="6400800" y="3886200"/>
              <a:ext cx="2514600" cy="1674720"/>
              <a:chOff x="6400800" y="3886200"/>
              <a:chExt cx="2514600" cy="1674720"/>
            </a:xfrm>
          </p:grpSpPr>
          <p:sp>
            <p:nvSpPr>
              <p:cNvPr id="168" name=""/>
              <p:cNvSpPr/>
              <p:nvPr/>
            </p:nvSpPr>
            <p:spPr>
              <a:xfrm>
                <a:off x="6400800" y="3886200"/>
                <a:ext cx="2514600" cy="3780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Session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6400800" y="4265640"/>
                <a:ext cx="2514600" cy="129528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getAttribute(name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setAttribute(name, val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invalidate(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...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 flipH="1">
              <a:off x="5638320" y="4441680"/>
              <a:ext cx="762120" cy="1730520"/>
            </a:xfrm>
            <a:prstGeom prst="line">
              <a:avLst/>
            </a:prstGeom>
            <a:ln w="255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3962520" y="5867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05320" y="728640"/>
            <a:ext cx="554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ssion tracking is not modula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57320-BF41-4A0F-AF7F-27FD810585F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cost of tangled code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edundant cod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ame fragment of code in many pla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reason abou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n-explicit struc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big picture of the tangling isn’t cle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spcBef>
                <a:spcPts val="112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difficult to chang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to find all the code involv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to change it consist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be sure not to break it by acc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391800-7E82-4827-979B-1C26D021909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e AOP idea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is inherent in complex system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rosscutting concern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clear purpo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ave a natural struct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fined set of methods, module boundary crossings, points of resource utilization, lines of dataflow…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, let’s capture the structure of crosscutting concerns explicitly...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a modular w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ith linguistic and too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ll-modularized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016520" y="72864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pect-oriented program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C89F00-58E6-466F-9E63-516835EAFC5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0948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J i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 aspect-oriented extension to Java™ that supports general-purpose aspect programm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using AspectJ to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rove the modularity crosscutting concer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rce code modular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751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75000"/>
              </a:lnSpc>
              <a:spcBef>
                <a:spcPts val="975"/>
              </a:spcBef>
              <a:buClr>
                <a:srgbClr val="66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spects are two things: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erns that crosscu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desig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programming construc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[implementation level]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75000"/>
              </a:lnSpc>
              <a:spcBef>
                <a:spcPts val="825"/>
              </a:spcBef>
              <a:buClr>
                <a:srgbClr val="666699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ables crosscutting concerns to be captured in modular uni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75000"/>
              </a:lnSpc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title"/>
          </p:nvPr>
        </p:nvSpPr>
        <p:spPr>
          <a:xfrm>
            <a:off x="609120" y="75960"/>
            <a:ext cx="7620120" cy="95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0000"/>
                </a:solidFill>
                <a:latin typeface="Arial"/>
              </a:rPr>
              <a:t>this talk is about...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(c) Copyright 1998-2002 Palo Alto Research Center Incroporated.  All rights reserved.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10AAE-7513-483D-B447-2EE122418C8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4T20:40:49Z</dcterms:created>
  <dc:creator>the AspectJ.org Team</dc:creator>
  <dc:description/>
  <dc:language>en-US</dc:language>
  <cp:lastModifiedBy>Ron Bodkin</cp:lastModifiedBy>
  <cp:lastPrinted>1999-10-25T19:43:12Z</cp:lastPrinted>
  <dcterms:modified xsi:type="dcterms:W3CDTF">2002-04-03T22:30:05Z</dcterms:modified>
  <cp:revision>4</cp:revision>
  <dc:subject/>
  <dc:title>Aspect-Oriented Programming with AspectJ</dc:title>
</cp:coreProperties>
</file>