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25565"/>
        <c:axId val="95494670"/>
      </c:barChart>
      <c:catAx>
        <c:axId val="35625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94670"/>
        <c:crosses val="autoZero"/>
        <c:auto val="1"/>
        <c:lblAlgn val="ctr"/>
        <c:lblOffset val="100"/>
        <c:noMultiLvlLbl val="0"/>
      </c:catAx>
      <c:valAx>
        <c:axId val="95494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5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FC7-AEEE-4B5C-A225-32A8AF55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CF2-0849-47BE-B1ED-3A7D4ED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F48-EB2C-44F4-B238-F7CB04E3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296-71DC-4A13-9243-38857608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440-66C6-4A37-9AC7-9D0B28F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D34-F827-415D-9DA5-69738EA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CE8-FB54-4B04-B9A5-99227D5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6D7-F452-4ABE-9081-01EE9A7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BBD-EE16-4A14-B737-12129A3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F4D-AA0B-4CF7-A9C0-942F703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104-8035-475D-B041-1895905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DC4-194F-40D2-AF94-0AB6045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E9A3-44E2-4E33-A7A4-8ED8E375CD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