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40943"/>
        <c:axId val="55741424"/>
      </c:barChart>
      <c:catAx>
        <c:axId val="61240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41424"/>
        <c:crosses val="autoZero"/>
        <c:auto val="1"/>
        <c:lblAlgn val="ctr"/>
        <c:lblOffset val="100"/>
        <c:noMultiLvlLbl val="0"/>
      </c:catAx>
      <c:valAx>
        <c:axId val="55741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0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A60-F476-45B2-8A83-E308B589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EF1-14AF-4F1D-85F7-E25E2725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801-C39E-4AF9-A8A9-AAA524CA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4CF-EEF0-43CB-BF65-3FAA6ADB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650-DBD1-49A9-BA93-CCF162CB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8F3-D47A-4182-B964-70B59847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9CC-1AE7-496A-9437-7FEA345D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5EC-A5B5-4B60-B2EE-17067D28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B32-1DED-45BE-BC75-A8B49993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412-46CA-47B3-AC99-B2CA5E0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CD0-048D-4CAC-8193-167E044E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ED7-D1D2-4B16-9027-9990612B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8D3F4-24EE-4115-ABD3-EDAC995F77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