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04038"/>
        <c:axId val="74828499"/>
      </c:barChart>
      <c:catAx>
        <c:axId val="77204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28499"/>
        <c:crosses val="autoZero"/>
        <c:auto val="1"/>
        <c:lblAlgn val="ctr"/>
        <c:lblOffset val="100"/>
        <c:noMultiLvlLbl val="0"/>
      </c:catAx>
      <c:valAx>
        <c:axId val="74828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04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47F-88D3-40C8-8247-3AAF6663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494-C9AA-40F3-AC8F-0B5943F6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BC0-9382-4244-8AAB-A7AF282C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F32-69E3-45D6-A9C1-AE6B14D6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BE0-5206-471D-9783-304157DA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026-C61C-4CC6-80BE-2F060A7B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80A-D9C2-43D8-AB84-45A6691A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982-441C-45B5-8FB4-B22A550D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64C-0DDF-4442-9A8C-FBBBE924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7DF-3D06-4F37-AB42-87C54302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E38-DF41-4C40-A6E9-A1303EA9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C5A-B9A3-4075-A578-215BD2FD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8D28E-2D36-45FC-9E83-6A03FD0075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