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07089"/>
        <c:axId val="31843881"/>
      </c:barChart>
      <c:catAx>
        <c:axId val="384070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43881"/>
        <c:crosses val="autoZero"/>
        <c:auto val="1"/>
        <c:lblAlgn val="ctr"/>
        <c:lblOffset val="100"/>
        <c:noMultiLvlLbl val="0"/>
      </c:catAx>
      <c:valAx>
        <c:axId val="31843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070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1C1-80A5-40AB-B56D-E2984E8A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44DF-1AB8-4950-8F47-23A1AA8C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1A4-2498-440C-9B26-F3B74D30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A3C-96AD-431D-BF77-C2BBF89E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7E6-30AB-476B-9C6D-4F137578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C0C-F342-425A-A178-41D34887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F2A-E47C-4591-A840-8DAAAEBA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75F-2F2F-40A1-899C-F2C25CE5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BB2-5CBD-4995-8FE3-70761473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3696-E3EC-4BD4-9D72-AE9A53A6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D2B-E9A0-44D9-9244-79276A92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609-2355-4654-971D-A87F56D1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E2FB3-5814-454D-8E14-43A1601B70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