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04FCD-DB42-4A27-B2A8-0BDD2C350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92353-D830-4FA7-8C8A-ECBBFA2CB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9FCFB-F807-4979-9707-B9320FC2E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C5AED-E7B1-45E8-A5E3-9CD48FE4A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2CCDB-3E2B-405F-99AB-E14845A4A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CDD9A-3202-4957-B806-FA2A948C1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69235-DB7C-4302-9DD6-2C1575466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2D2E6-D39F-45F5-B8BB-DE7537015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EC800-2DBD-4C05-B5A3-E7FCB6CA0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25C73-0C23-4B34-85F1-9C68B2C53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46294-0053-46E6-AF74-E2ADA4AD4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DF4D4-D1DE-45DA-8F57-84EF86BF0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83B21-EB45-484A-88C7-E379795035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Symbol"/>
                <a:ea typeface="Symbol"/>
              </a:rPr>
              <a:t>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Symbol, Club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  <a:ea typeface="Arial"/>
              </a:rPr>
              <a:t>►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‘Normal’, Play arrow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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MT Sorts, 5 point star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Wingdings, Smiley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8T10:46:03Z</dcterms:created>
  <dc:creator>Michael</dc:creator>
  <dc:description/>
  <dc:language>en-US</dc:language>
  <cp:lastModifiedBy>Michael</cp:lastModifiedBy>
  <dcterms:modified xsi:type="dcterms:W3CDTF">2004-08-18T10:49:19Z</dcterms:modified>
  <cp:revision>2</cp:revision>
  <dc:subject/>
  <dc:title>Slide 1</dc:title>
</cp:coreProperties>
</file>